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3E8D-1D57-4C6E-904D-2C9DCDB1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5825-4F0B-4ABE-9C20-2639DF37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09DB-718F-4966-9C7F-6150530C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420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420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553E-C5F6-4B2B-9DBC-4D8CF507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3C62-934B-4854-82B1-E2EA5CE5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C3C5-159A-4115-A2A0-9CA747D0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751B-2FD9-40DF-858F-2E2ACAAB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E22A-7E4A-4962-A748-FFFD5E8A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58AB-1946-43E8-B78D-8467A7CD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66280" y="294840"/>
            <a:ext cx="800892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F8B3-5CC6-4E29-8CE3-B10F1B9E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8276-A718-4C7D-9330-A538BF9D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8DF-F7E1-4624-AE6E-F1957D56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B45C-2B52-402F-A4A1-48D6F33B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ABE4-AABD-40F4-A531-FD70747D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66A8-0A76-42BF-82C1-AD216ECB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5A1D-AFF7-4D87-868F-959FF5D2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420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212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420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212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D652-CF55-4FF5-B3AA-EC5A8FF6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16E73-A606-43F1-B097-FE806211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E7120-7391-4A5A-9BE0-5B90BA76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A20CE-31B7-4A60-89E3-13FDCEF5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17078-9252-4F58-9995-A9493073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48E3F-4B60-420C-824E-76977086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6D5-70E5-4D52-ABEF-EB1EF767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66280" y="294840"/>
            <a:ext cx="800892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E5FAD-9A1E-4096-B0DE-DC34911F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DE7EC-90C5-4873-AB4B-CA6D6CBF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CB151-5991-41F5-B0D4-8EC25985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D9454-BF32-4AE8-B40A-A2A8D316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C5972-8A5E-41A8-9461-D5465CD7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FD327-0D5F-43EF-ABF6-45D0FA3E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7420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212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6628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7420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212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33476-016A-40BC-960C-0BEFC2BF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7B2-F44E-4E66-A200-E9E58137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9D9-9967-454A-A29F-4584F88F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6280" y="294840"/>
            <a:ext cx="800892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726F-EFD8-45DB-AF9F-6486C57E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9232-FE27-449A-9F25-71D82073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2C70-19D9-4EF1-AFC7-F324DBF1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933-C20D-4CFB-B2F6-61CF9A12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0B3C-92F5-42B3-A331-8655535D43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59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2"/>
          <a:srcRect l="0" t="6649" r="0" b="12513"/>
          <a:stretch/>
        </p:blipFill>
        <p:spPr>
          <a:xfrm>
            <a:off x="0" y="-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d2689d"/>
              </a:buClr>
              <a:buSzPct val="60000"/>
              <a:buFont typeface="Wingdings 2" charset="2"/>
              <a:buChar char="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266760" indent="-26676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2a2c2e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2a2c2e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2a2c2e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373a3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E120-E674-4D64-86C0-F6D2992CD63B}" type="slidenum">
              <a:rPr b="0" lang="zh-CN" sz="900" spc="-1" strike="noStrike">
                <a:solidFill>
                  <a:srgbClr val="373a3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askerville Old Face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59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8" descr=""/>
          <p:cNvPicPr/>
          <p:nvPr/>
        </p:nvPicPr>
        <p:blipFill>
          <a:blip r:embed="rId2"/>
          <a:srcRect l="0" t="6649" r="0" b="125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组合 9"/>
          <p:cNvGrpSpPr/>
          <p:nvPr/>
        </p:nvGrpSpPr>
        <p:grpSpPr>
          <a:xfrm>
            <a:off x="1425600" y="4317840"/>
            <a:ext cx="6329160" cy="59040"/>
            <a:chOff x="1425600" y="4317840"/>
            <a:chExt cx="6329160" cy="59040"/>
          </a:xfrm>
        </p:grpSpPr>
        <p:sp>
          <p:nvSpPr>
            <p:cNvPr id="85" name="直接连接符 10"/>
            <p:cNvSpPr/>
            <p:nvPr/>
          </p:nvSpPr>
          <p:spPr>
            <a:xfrm>
              <a:off x="1425600" y="4317840"/>
              <a:ext cx="6329160" cy="0"/>
            </a:xfrm>
            <a:prstGeom prst="line">
              <a:avLst/>
            </a:prstGeom>
            <a:ln w="6480">
              <a:solidFill>
                <a:srgbClr val="ffffff">
                  <a:alpha val="5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 11"/>
            <p:cNvSpPr/>
            <p:nvPr/>
          </p:nvSpPr>
          <p:spPr>
            <a:xfrm>
              <a:off x="1425600" y="4376880"/>
              <a:ext cx="6329160" cy="0"/>
            </a:xfrm>
            <a:prstGeom prst="line">
              <a:avLst/>
            </a:prstGeom>
            <a:ln w="6480">
              <a:solidFill>
                <a:srgbClr val="ffffff">
                  <a:alpha val="5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直接连接符 12"/>
          <p:cNvSpPr/>
          <p:nvPr/>
        </p:nvSpPr>
        <p:spPr>
          <a:xfrm>
            <a:off x="1425600" y="4218120"/>
            <a:ext cx="0" cy="25236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13"/>
          <p:cNvSpPr/>
          <p:nvPr/>
        </p:nvSpPr>
        <p:spPr>
          <a:xfrm>
            <a:off x="7754760" y="4218120"/>
            <a:ext cx="0" cy="25236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椭圆 14"/>
          <p:cNvGrpSpPr/>
          <p:nvPr/>
        </p:nvGrpSpPr>
        <p:grpSpPr>
          <a:xfrm>
            <a:off x="4103640" y="1924200"/>
            <a:ext cx="1122480" cy="1126800"/>
            <a:chOff x="4103640" y="1924200"/>
            <a:chExt cx="1122480" cy="1126800"/>
          </a:xfrm>
        </p:grpSpPr>
        <p:pic>
          <p:nvPicPr>
            <p:cNvPr id="90" name="椭圆 14" descr=""/>
            <p:cNvPicPr/>
            <p:nvPr/>
          </p:nvPicPr>
          <p:blipFill>
            <a:blip r:embed="rId3"/>
            <a:stretch/>
          </p:blipFill>
          <p:spPr>
            <a:xfrm>
              <a:off x="4103640" y="1924200"/>
              <a:ext cx="112248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0"/>
            <p:cNvSpPr/>
            <p:nvPr/>
          </p:nvSpPr>
          <p:spPr>
            <a:xfrm>
              <a:off x="4271760" y="2090520"/>
              <a:ext cx="787680" cy="7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图片 15" descr=""/>
          <p:cNvPicPr/>
          <p:nvPr/>
        </p:nvPicPr>
        <p:blipFill>
          <a:blip r:embed="rId4"/>
          <a:srcRect l="0" t="-673" r="0" b="0"/>
          <a:stretch/>
        </p:blipFill>
        <p:spPr>
          <a:xfrm>
            <a:off x="3686040" y="1692360"/>
            <a:ext cx="1959120" cy="1855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d2689d"/>
              </a:buClr>
              <a:buSzPct val="60000"/>
              <a:buFont typeface="Wingdings 2" charset="2"/>
              <a:buChar char="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266760" indent="-26676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2a2c2e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2a2c2e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2a2c2e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66280" y="294840"/>
            <a:ext cx="80089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askerville Old Face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373a3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CE59-F953-47F1-8F87-166E6525BCFD}" type="slidenum">
              <a:rPr b="0" lang="zh-CN" sz="900" spc="-1" strike="noStrike">
                <a:solidFill>
                  <a:srgbClr val="373a3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3352680"/>
            <a:ext cx="7924680" cy="293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Unit 12 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Christmas is coming</a:t>
            </a:r>
            <a:br>
              <a:rPr sz="5400"/>
            </a:b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课件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food"/>
          <p:cNvPicPr/>
          <p:nvPr/>
        </p:nvPicPr>
        <p:blipFill>
          <a:blip r:embed="rId1"/>
          <a:stretch/>
        </p:blipFill>
        <p:spPr>
          <a:xfrm>
            <a:off x="1219320" y="914400"/>
            <a:ext cx="6781680" cy="4363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3429000" y="55627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reat  f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lots of great food"/>
          <p:cNvPicPr/>
          <p:nvPr/>
        </p:nvPicPr>
        <p:blipFill>
          <a:blip r:embed="rId1"/>
          <a:srcRect l="0" t="0" r="0" b="8869"/>
          <a:stretch/>
        </p:blipFill>
        <p:spPr>
          <a:xfrm>
            <a:off x="914400" y="685800"/>
            <a:ext cx="7086600" cy="43275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1219320" y="5715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 big din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343400" y="57150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lots of great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3429000" y="5715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335268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689d"/>
                </a:solidFill>
                <a:latin typeface="Arial"/>
              </a:rPr>
              <a:t>有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Father Christmas"/>
          <p:cNvPicPr/>
          <p:nvPr/>
        </p:nvPicPr>
        <p:blipFill>
          <a:blip r:embed="rId1"/>
          <a:srcRect l="0" t="0" r="0" b="2710"/>
          <a:stretch/>
        </p:blipFill>
        <p:spPr>
          <a:xfrm>
            <a:off x="2286000" y="1119240"/>
            <a:ext cx="5181480" cy="4610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2514600" y="59436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ather Christ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33520" y="2286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o is the old m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Father Christmas"/>
          <p:cNvPicPr/>
          <p:nvPr/>
        </p:nvPicPr>
        <p:blipFill>
          <a:blip r:embed="rId1"/>
          <a:srcRect l="0" t="0" r="0" b="4210"/>
          <a:stretch/>
        </p:blipFill>
        <p:spPr>
          <a:xfrm>
            <a:off x="5334120" y="685800"/>
            <a:ext cx="3295440" cy="2887560"/>
          </a:xfrm>
          <a:prstGeom prst="rect">
            <a:avLst/>
          </a:prstGeom>
          <a:ln w="0">
            <a:noFill/>
          </a:ln>
        </p:spPr>
      </p:pic>
      <p:sp>
        <p:nvSpPr>
          <p:cNvPr id="189" name="Line 3"/>
          <p:cNvSpPr/>
          <p:nvPr/>
        </p:nvSpPr>
        <p:spPr>
          <a:xfrm>
            <a:off x="3581280" y="2209680"/>
            <a:ext cx="1600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09480" y="47242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y dad likes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dressing up a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Father Christ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office6\wpsassist\cache\A000220150322I43PPIC"/>
          <p:cNvPicPr/>
          <p:nvPr/>
        </p:nvPicPr>
        <p:blipFill>
          <a:blip r:embed="rId2"/>
          <a:stretch/>
        </p:blipFill>
        <p:spPr>
          <a:xfrm>
            <a:off x="533520" y="609480"/>
            <a:ext cx="266688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Teachers' Day"/>
          <p:cNvPicPr/>
          <p:nvPr/>
        </p:nvPicPr>
        <p:blipFill>
          <a:blip r:embed="rId1"/>
          <a:srcRect l="0" t="0" r="5622" b="0"/>
          <a:stretch/>
        </p:blipFill>
        <p:spPr>
          <a:xfrm>
            <a:off x="380880" y="228600"/>
            <a:ext cx="3934080" cy="39625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609480" y="47242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t’s __________ already. _______________ is coming s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09480" y="5562720"/>
            <a:ext cx="72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What do you like doing ______ Teachers’ 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5562720" y="3200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2689d"/>
                </a:solidFill>
                <a:latin typeface="Arial"/>
              </a:rPr>
              <a:t>give a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685800" y="6019920"/>
            <a:ext cx="68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2689d"/>
                </a:solidFill>
                <a:latin typeface="Arial"/>
              </a:rPr>
              <a:t>I like _______________ to my teac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638680" y="3886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2689d"/>
                </a:solidFill>
                <a:latin typeface="Arial"/>
              </a:rPr>
              <a:t>giving a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219320" y="4648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4267080" y="4648320"/>
            <a:ext cx="36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Teachers’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4267080" y="5562720"/>
            <a:ext cx="14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1523880" y="6019920"/>
            <a:ext cx="30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giving a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2" descr="office6\wpsassist\cache\A000220150322C88PPIC"/>
          <p:cNvPicPr/>
          <p:nvPr/>
        </p:nvPicPr>
        <p:blipFill>
          <a:blip r:embed="rId2"/>
          <a:stretch/>
        </p:blipFill>
        <p:spPr>
          <a:xfrm>
            <a:off x="5486400" y="6858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609480" y="47242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t’s __________ already. _______________ is coming s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609480" y="5562720"/>
            <a:ext cx="72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What do you like doing _______________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5715000" y="3733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2689d"/>
                </a:solidFill>
                <a:latin typeface="Arial"/>
              </a:rPr>
              <a:t>have a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685800" y="6019920"/>
            <a:ext cx="68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2689d"/>
                </a:solidFill>
                <a:latin typeface="Arial"/>
              </a:rPr>
              <a:t>I like 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371600" y="4648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4495680" y="4724280"/>
            <a:ext cx="36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Hallo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523880" y="6019920"/>
            <a:ext cx="30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having a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609480" y="4343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cto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819520" y="4343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allo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party"/>
          <p:cNvPicPr/>
          <p:nvPr/>
        </p:nvPicPr>
        <p:blipFill>
          <a:blip r:embed="rId1"/>
          <a:srcRect l="6595" t="0" r="5438" b="28424"/>
          <a:stretch/>
        </p:blipFill>
        <p:spPr>
          <a:xfrm>
            <a:off x="5489640" y="990720"/>
            <a:ext cx="3083040" cy="24476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2"/>
          <p:cNvSpPr/>
          <p:nvPr/>
        </p:nvSpPr>
        <p:spPr>
          <a:xfrm>
            <a:off x="5165640" y="6194520"/>
            <a:ext cx="306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4191120" y="5562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for Hallo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4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4260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Spring Festival"/>
          <p:cNvPicPr/>
          <p:nvPr/>
        </p:nvPicPr>
        <p:blipFill>
          <a:blip r:embed="rId1"/>
          <a:srcRect l="0" t="0" r="0" b="4170"/>
          <a:stretch/>
        </p:blipFill>
        <p:spPr>
          <a:xfrm>
            <a:off x="1905120" y="1143000"/>
            <a:ext cx="5146560" cy="31240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2590920" y="47242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pring Fest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go shoppingh"/>
          <p:cNvPicPr/>
          <p:nvPr/>
        </p:nvPicPr>
        <p:blipFill>
          <a:blip r:embed="rId1"/>
          <a:srcRect l="0" t="0" r="0" b="3577"/>
          <a:stretch/>
        </p:blipFill>
        <p:spPr>
          <a:xfrm>
            <a:off x="1523880" y="838080"/>
            <a:ext cx="5983560" cy="38102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3048120" y="49528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go s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family dinner"/>
          <p:cNvPicPr/>
          <p:nvPr/>
        </p:nvPicPr>
        <p:blipFill>
          <a:blip r:embed="rId1"/>
          <a:stretch/>
        </p:blipFill>
        <p:spPr>
          <a:xfrm>
            <a:off x="1523880" y="1219320"/>
            <a:ext cx="6324840" cy="36576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2438280" y="53341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ave a big di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buy new cltothes"/>
          <p:cNvPicPr/>
          <p:nvPr/>
        </p:nvPicPr>
        <p:blipFill>
          <a:blip r:embed="rId1"/>
          <a:stretch/>
        </p:blipFill>
        <p:spPr>
          <a:xfrm>
            <a:off x="2209680" y="685800"/>
            <a:ext cx="5334120" cy="41464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3274560" y="5105520"/>
            <a:ext cx="334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uy new 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3123720"/>
            <a:ext cx="6629400" cy="278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Module 6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Celerbrations</a:t>
            </a:r>
            <a:endParaRPr b="1" lang="en-US" sz="60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560" y="3580920"/>
            <a:ext cx="6476760" cy="194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zh-CN" sz="7400" spc="-1" strike="noStrike">
                <a:solidFill>
                  <a:srgbClr val="00ccff"/>
                </a:solidFill>
                <a:latin typeface="Comic Sans MS"/>
              </a:rPr>
              <a:t>Goodbye!</a:t>
            </a:r>
            <a:endParaRPr b="1" lang="en-US" sz="74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0200" y="1752480"/>
            <a:ext cx="6781680" cy="160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Baskerville Old Face"/>
              </a:rPr>
              <a:t>New words and phrases</a:t>
            </a:r>
            <a:endParaRPr b="1" lang="en-US" sz="54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762120" y="10666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ept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447920" y="25146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962520" y="4191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267080" y="2514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ov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219320" y="54100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781680" y="1143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cto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648320" y="1295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5410080" y="35053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371600" y="3962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ebr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6629400" y="49528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6553080" y="2590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ug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4495680" y="55627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ec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295280" y="1143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219320" y="36576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hrist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867280" y="54864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ress up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48640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 big di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343400" y="34290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l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838080" y="54100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3276720" y="4648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ol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762120" y="2514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ummer holi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5867280" y="4267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pring Fest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6248520" y="2819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allo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3962520" y="914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a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2971800" y="60199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o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914400" y="137160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295280" y="15238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month is it 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371600" y="2514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t’s May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alread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971800" y="10666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2689d"/>
                </a:solidFill>
                <a:latin typeface="Arial"/>
              </a:rPr>
              <a:t>月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447920" y="3733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o ______ is coming so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209680" y="37339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J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ildren's Day"/>
          <p:cNvPicPr/>
          <p:nvPr/>
        </p:nvPicPr>
        <p:blipFill>
          <a:blip r:embed="rId1"/>
          <a:srcRect l="0" t="0" r="0" b="3578"/>
          <a:stretch/>
        </p:blipFill>
        <p:spPr>
          <a:xfrm>
            <a:off x="1752480" y="1219320"/>
            <a:ext cx="6013440" cy="38671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447920" y="5486400"/>
            <a:ext cx="739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Children’s   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90720" y="13716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838080" y="6858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hat do you like doing for Children’s 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990720" y="13716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 like …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T-shirt"/>
          <p:cNvPicPr/>
          <p:nvPr/>
        </p:nvPicPr>
        <p:blipFill>
          <a:blip r:embed="rId1"/>
          <a:stretch/>
        </p:blipFill>
        <p:spPr>
          <a:xfrm>
            <a:off x="4267080" y="2133720"/>
            <a:ext cx="3800520" cy="3700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2362320" y="6095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ear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i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new clot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office6\wpsassist\cache\A000220150322G50PPIC"/>
          <p:cNvPicPr/>
          <p:nvPr/>
        </p:nvPicPr>
        <p:blipFill>
          <a:blip r:embed="rId2"/>
          <a:stretch/>
        </p:blipFill>
        <p:spPr>
          <a:xfrm>
            <a:off x="914400" y="2133720"/>
            <a:ext cx="1566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609480" y="380988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i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games at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office6\wpsassist\cache\A000320150525B04PPIC"/>
          <p:cNvPicPr/>
          <p:nvPr/>
        </p:nvPicPr>
        <p:blipFill>
          <a:blip r:embed="rId1"/>
          <a:stretch/>
        </p:blipFill>
        <p:spPr>
          <a:xfrm>
            <a:off x="609480" y="685800"/>
            <a:ext cx="5254920" cy="2209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office6\wpsassist\cache\A000320150525A87PPIC"/>
          <p:cNvPicPr/>
          <p:nvPr/>
        </p:nvPicPr>
        <p:blipFill>
          <a:blip r:embed="rId2"/>
          <a:stretch/>
        </p:blipFill>
        <p:spPr>
          <a:xfrm>
            <a:off x="6095880" y="2971800"/>
            <a:ext cx="2602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4:06:02Z</dcterms:created>
  <dc:creator/>
  <dc:description/>
  <cp:keywords/>
  <dc:language>en-US</dc:language>
  <cp:lastModifiedBy>陶沙</cp:lastModifiedBy>
  <dcterms:modified xsi:type="dcterms:W3CDTF">2015-06-04T08:47:47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  <property fmtid="{D5CDD505-2E9C-101B-9397-08002B2CF9AE}" pid="3" name="Version">
    <vt:r8>1</vt:r8>
  </property>
</Properties>
</file>