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5.png" ContentType="image/png"/>
  <Override PartName="/ppt/media/image22.gif" ContentType="image/gif"/>
  <Override PartName="/ppt/media/image14.jpeg" ContentType="image/jpeg"/>
  <Override PartName="/ppt/media/image13.jpeg" ContentType="image/jpeg"/>
  <Override PartName="/ppt/media/image11.jpeg" ContentType="image/jpeg"/>
  <Override PartName="/ppt/media/image9.png" ContentType="image/png"/>
  <Override PartName="/ppt/media/breeze.wav" ContentType="audio/x-wav"/>
  <Override PartName="/ppt/media/camera.wav" ContentType="audio/x-wav"/>
  <Override PartName="/ppt/media/image8.jpeg" ContentType="image/jpeg"/>
  <Override PartName="/ppt/media/voltage.wav" ContentType="audio/x-wav"/>
  <Override PartName="/ppt/media/image28.jpeg" ContentType="image/jpeg"/>
  <Override PartName="/ppt/media/image17.png" ContentType="image/png"/>
  <Override PartName="/ppt/media/image24.gif" ContentType="image/gif"/>
  <Override PartName="/ppt/media/image27.png" ContentType="image/png"/>
  <Override PartName="/ppt/media/laser.wav" ContentType="audio/x-wav"/>
  <Override PartName="/ppt/media/image6.png" ContentType="image/png"/>
  <Override PartName="/ppt/media/image31.png" ContentType="image/png"/>
  <Override PartName="/ppt/media/image23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18.png" ContentType="image/png"/>
  <Override PartName="/ppt/media/type.wav" ContentType="audio/x-wav"/>
  <Override PartName="/ppt/media/image25.gif" ContentType="image/gif"/>
  <Override PartName="/ppt/media/image30.jpeg" ContentType="image/jpeg"/>
  <Override PartName="/ppt/media/image32.png" ContentType="image/png"/>
  <Override PartName="/ppt/media/image7.png" ContentType="image/png"/>
  <Override PartName="/ppt/media/image1.jpeg" ContentType="image/jpeg"/>
  <Override PartName="/ppt/media/image10.gif" ContentType="image/gif"/>
  <Override PartName="/ppt/media/image12.jpeg" ContentType="image/jpeg"/>
  <Override PartName="/ppt/media/image2.jpeg" ContentType="image/jpeg"/>
  <Override PartName="/ppt/media/image20.png" ContentType="image/png"/>
  <Override PartName="/ppt/media/hammer.wav" ContentType="audio/x-wav"/>
  <Override PartName="/ppt/media/image4.jpeg" ContentType="image/jpeg"/>
  <Override PartName="/ppt/media/suction.wav" ContentType="audio/x-wav"/>
  <Override PartName="/ppt/media/chimes.wav" ContentType="audio/x-wav"/>
  <Override PartName="/ppt/media/image16.png" ContentType="image/png"/>
  <Override PartName="/ppt/media/image33.png" ContentType="image/pn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  <p:sldId id="27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slide" Target="slides/slide1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dt" idx="10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 type="ftr" idx="10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 type="sldNum" idx="10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1647-F072-4BD3-AB79-74B7649C0CA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Picture talking: </a:t>
            </a: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引出现在进行时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Look! I am …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3766-97D3-471B-AB2F-6D6DBFA91F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Step 1</a:t>
            </a: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：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Picture talking: </a:t>
            </a: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学习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in th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Step 2</a:t>
            </a: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：学习用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What are you doing?</a:t>
            </a: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进行提问，总体运用词组和句型，并归纳现在进行时的意义和用法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2DEC-DCE8-41AD-8432-76F22DEADE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归纳现在分词的构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3CF0-D7DD-4BB8-A553-4D975F50959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归纳现在分词的构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39E3-9553-4399-A539-2E8F1AE43B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归纳现在分词的构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586C-766A-4BAC-9F1F-781DEA8B9FE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归纳现在分词的构成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D278-BBC1-4457-B74A-625A66BA65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复习本模块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 alon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歌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0C4C-1A10-4E8A-B0F9-0ABC2F255C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创设情境：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Do you know this cute girl? </a:t>
            </a: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引出小丸子对自己忙碌、高兴的一天的介绍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BA1D-336A-4347-B9C7-B95231CE373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Picture talking: </a:t>
            </a:r>
            <a:r>
              <a:rPr b="0" lang="zh-CN" sz="1200" spc="-1" strike="noStrike">
                <a:solidFill>
                  <a:srgbClr val="ffff00"/>
                </a:solidFill>
                <a:latin typeface="Calibri"/>
              </a:rPr>
              <a:t>引出现在进行时</a:t>
            </a:r>
            <a:r>
              <a:rPr b="0" lang="en-US" sz="1200" spc="-1" strike="noStrike">
                <a:solidFill>
                  <a:srgbClr val="ffff00"/>
                </a:solidFill>
                <a:latin typeface="Calibri"/>
              </a:rPr>
              <a:t>Look! I am …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CF30-CD30-410D-BEC7-0F16BF2D44A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D2BC-8619-4D69-A425-4CC719D88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6136-5CBF-4179-9F2B-5DA9B7DC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89AC2-555B-44BE-A808-4F8AC255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A37EB-96FC-41F0-9BC1-00C775FB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A1BE8-8110-45A1-AAE4-AEF94900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4B0FA-8E0E-47A5-8C15-8EA129BC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45FB9-FB1D-478A-8566-2C6FCED1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5A4C4-219B-4B5F-9EEC-388B76BF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C5FB7-641B-43FD-BF77-D43FCFFC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414C5-16D8-4DB9-B27B-3F4A9266B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ED0C6-5BFD-4FEF-A150-2453CB8CF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5DFD8-2DA7-4722-9096-1A2001342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25A5-CB3A-4085-AC04-531E265C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8D8AC-A1B2-4618-91E7-72D2FFE4F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B089D-263F-4251-9F6B-CF2EEF31A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A7D97-048B-47D0-AEC4-B3C58011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EE477-2A08-4458-96A0-9A8D974B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58BD8-35BA-4F7D-A6E7-DE4D91E1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C04F2-7562-4DFC-A2A7-2178F7E3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D9D70-4802-4086-82D4-9FA5645D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40FE4-D100-4480-9BFA-9CFA28BD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C4A55-B235-49FE-BA8D-01A6A662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D2A95-9C83-44C8-BE5A-4B7209AB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8C4-F055-4908-BC9E-98D47D25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167C0-C3F8-4532-96B2-996B8E26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27B19-BDD0-44A6-BAC7-5C73FA9C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9ECD7-2CFB-4C0F-969C-FCA92C5F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5D453-CFC8-44D2-909B-A93CBD25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9DFC0-887F-48E3-AB5E-D358EBFD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F1E5A-867E-4960-B2AC-1C92D97F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ACCD2-24FC-47DA-9242-AF185E08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871EE1-607B-4848-AE15-D60234A6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63208-38F4-43BF-AAAA-C3B9AB5D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A2F888-206A-4806-B471-FA1122C6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70BA7-0328-4373-AAC3-951304CD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D5D60-467A-441A-A9E4-B12E4595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2DDA5C-17C4-42E6-9423-98C84B103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18710-8141-480B-AD83-F1BAC1C9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C61BE-96F6-4AA0-974C-D77C2A62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01A21D-F826-45F2-967C-90E282F6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2073B-87A7-47F3-8811-CAEEDA0C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4ACF6-BC82-412D-844C-9395C899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31A1C-C01F-4166-A51A-A4BD8C26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DEE47-D7AB-40DA-A1C5-ADC4ED31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175A43-A5AF-4999-8765-683DA729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94C3-7D5F-45E3-B482-CAE33C75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D6B06-011C-4AB4-809C-047C2FF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DB7407-AD86-443F-B741-913712CC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0395D-29D2-4A11-8996-8E288843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30E94-1F73-420B-AC2C-9A2DC2B45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5595E-7BC4-42BC-80AD-E2AACB798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1448D5-BF96-4FA4-B6F2-97F39D9B8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02EADB-CD65-4898-B297-ADF51AAA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344028-496E-4796-9E64-F6F457F5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72CF0B-BAB2-4047-B0E5-E88A18E3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C2514-C628-4D9D-8F68-A351C511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A48D-A413-456E-87D7-13E5EED4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1849E6-C9EA-4CC7-A1EB-F2FF4854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93600-D062-4906-8778-09DEE4EB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834985-E124-4717-8BA7-F256F9BB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75D03A-4A42-4F89-A23D-451B1A1E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E00A05-9251-4EA4-B3C8-2EE30A29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0B0D68-D699-438C-AB6B-7E73667A5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D10F34-CD29-4E82-B604-F7EEEB7C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A0DFE-250A-428D-A603-EE9491B1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98B038-B52E-497E-BE09-F97DC6E5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B4328-6151-45D6-8909-3BC9B211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FE88-CCAE-4C3F-8AF0-4F523452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8CD04-2F4F-4332-AB3E-31250578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AD4640-BF92-4A8F-85A0-B6DDE986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B8A8E-FB20-4731-85FA-853725EC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07BB4-1472-44E6-AE9C-198647A8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61AA59-33A8-4AB1-B6ED-948087C2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2F526-D392-457C-8319-B49D5F29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8D3DC-C7C3-4C44-A9D8-73B034AF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5EB02-CEE6-4ABB-B522-85641CA0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73F5A2-5E48-4B18-AA75-F02F34A4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A30F9D-65C2-4C55-BE15-D9064E437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2A76-4004-41C4-B3A5-4BE6705E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D1AC2D-8C1D-4186-9B77-CC731B5F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C9CCE-168E-4601-964E-F7E367D3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762B3-7ACA-4E36-B4D6-EC76C507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DCDBBB-6BF4-4311-AB8A-8A2B63B6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99F7D9-13F5-4F85-91EB-012226E8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922345-289D-457B-97DD-5E36EA89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306F2-341F-4A42-A82D-86173EE4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C1899-8CC4-4AD6-BE7D-82652151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4AFEB-C0A6-42C1-80F9-BD7186A4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E7E2E-4A3A-40D1-903E-5A5470CA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859C-E237-4940-B7D5-F5897838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35DFC4-CA79-4411-8B3A-38F08CE6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329B44-D01B-4AD8-BED9-9BB04085D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5E98C5-3082-4107-877F-19F0856D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90E72-8340-4CFA-8029-7C5EF6B3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B7CDB0-818E-4FB7-8BDE-194A9DA0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EBBFE6-4BAC-4A61-BE62-6BBAA868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1CEBF4-9839-40EB-AC3B-081E288AC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C9284-03C8-4A4B-A46F-9AC549B7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2FAA3B-CB47-4AED-AB4E-E2494390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6B2B41-3CE6-4BFA-B6F8-A9C7C4C5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DCAD-CCB2-40F5-A445-39E8F1D3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3FE7CE-B8AF-41C4-A336-E05A2F54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E154F-6FCD-42EE-ADEA-452EE90BA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73795A-FD07-4431-8B2C-D26D06CE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A0D3A7-B97E-4710-914B-26409EBA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CD5C44-D0BD-4605-84B0-33876D92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3DBC37-F11E-47C7-9D01-0518E1AB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29F14-B6E3-404C-98AC-AC6EBE6D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0C93BB-3E38-4396-9694-1AE44A5E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C06B2E-638E-40B7-BF3A-4C8A583D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F74784-9ECC-4CE5-90A3-D7DE6F34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A756-F4BC-44E6-BCC4-D48C74DF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5787-E011-44D5-BA6C-055F015C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087546-7DDD-4A0A-AA43-3DAE69F7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00651D-9B98-463A-9227-EEDDE4C0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A62C2-8A10-4989-ACC4-1EEECBB8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CC6FA-03F9-4FE8-8DC9-6D83AA3E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B3E76-5A28-4DF6-ACC8-60665866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FAE797-3BDB-4AB4-8420-0D1C0FBE6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11A921-5E53-4900-9C07-EAFAFF93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8C41BF-0385-4631-8957-9D544E71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51AD29-5B12-4066-8FD0-D85989F7B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4C21F2-A53C-4BEC-8BCB-32071CA7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509C-12F7-402D-B425-626CC944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DAEAB1-E7D4-4362-B567-D34859B5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A9F22D-1175-4C76-A50E-5C633A8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1C544B-CE3B-4E54-B3A7-5275B817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4743DF-CCEB-425D-92A7-E61B5848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1325FF-B6C6-4542-B14A-FB9F4040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0A509-75E7-476F-8F26-12AD83852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D4B49-5CD2-4E57-AEA1-2EB426D0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2F66F-BFB8-4AAC-A8CC-4F69EF35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A745F8-A3CE-4052-A647-CA74769E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BBACA8-CB1D-44A2-9674-CB65D5D9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84E4B-5527-4238-A6E3-4EAE4327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9F0F52-4570-42F8-8CCF-ED8A2566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683D87-DDB7-41C6-B08E-8C4332E9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BFFFD-8044-4B64-8F13-1F5E3055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4474B-C99B-42FC-9590-1ADFB872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A3B121-F523-4A5E-9C0E-4628E19B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B6EF1D-0179-468A-9019-16E946E3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D9C11A-DC47-4681-8A47-E817D931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341665-D800-4B31-9EB6-5ACF8F28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871653-A6EC-4CD5-9433-D5E74E650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5703F1-B83D-466A-A273-20F4CD29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4006-6163-44E1-9C79-AE43DCDE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F13CFE-741B-4F7C-A5EC-B5711DDD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531793-F134-483D-B067-832CB0C7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6E3418-A3DB-4892-ADD1-626E32A0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7EDE4C-F894-4E3F-979A-C825EF87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F0C036-7C7F-4FA5-B390-EFD183F9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A99C9E-30B0-45CD-8F60-F2CE5882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CEAE8D-5491-4DD9-8719-4AE0D20E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3E1BA-E466-481C-B5D0-FBDB5AB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65F39-6FAB-4DC7-A005-D722067D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9272F8-DAFC-4D82-BC3F-B0F4163E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0BC2-D5B6-462A-85AE-466F80BB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B41D07-3439-469F-8B9D-BAF44413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A9291C-C9E5-4D0E-9B7D-6114E2F2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E2BA0B-8439-4965-B64D-41ABE21B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5296CB-C150-47E6-9EDF-D0472F06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D327515-84BB-4955-962E-FEF60CF9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9CADD4-4D34-44FA-AC96-8A678FF1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D005AE-FC43-4EA1-898E-932656D3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0CF2E-8E20-4323-B81F-2819CCD7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3ED457-CBCA-4904-889A-8307BD4C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4E3F99-120C-4398-A565-16CAC860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79277-FED3-4074-B457-C77AA073D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09D00B-8847-421C-A078-8944F5ED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9956E1-4F08-4EEE-89D4-5B8A3F36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78CCCE-1491-491E-A583-5A7F15DC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2F216D-9BD0-41CD-BE3D-94DC7860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D31F4E-1A5F-46E3-961D-D77E8C07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AC516B-3A8C-46CA-A1BF-D3C1FF54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E3E9CF-40F7-4D4B-A115-EE2DFAF4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C879D7-32DF-4884-B478-0262D5EC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4E9AE2-E1D9-425D-A1C9-379A96C4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88C6CD-F66B-4E69-AB11-E5DBED55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D56D0-C196-4267-B2D7-AF3ABF85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47AD12-5F0D-4171-8535-580388EE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9D540E-C1F5-452F-8B70-61147972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33C99F-7FE2-4568-8BA7-C6C94103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7B7AB6-7FDC-41B7-B499-FD41F082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2C3184-0C85-4531-885D-A28301C01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10B000-9A87-4F24-8DB3-BAE0DA56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11E1A5-F9E3-4CB0-9C2C-8ED635C4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B71B70-D1FA-47BE-B715-E8A0CD51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D29D1F-24EA-4020-8C1D-4ED3987C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7DEB75-2FFD-4E38-A7EC-862A94B9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CC915-7D92-4EC6-814D-0F266880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9F509C-1A69-40C7-8F7A-D79B2ADD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26DBFC-D383-4463-A061-457E5759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17557D-4E79-427A-A387-07F9C382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1E24D9-FD73-44E3-82A2-6E6FC06E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2DA8B8-5E85-481F-8096-2DC9906E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F9D3058-EBB3-4D06-9DF9-8DEBF795F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A694AA-DE48-4FA5-A20E-93A18CD5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36F083-1AA3-4997-AFE8-441C4618B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85C85C-6793-4FFA-BF11-AD512B343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260D54-DD60-44BE-A8BC-CFC1EF0F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C03AC-C99E-42C8-806C-7B0CA7B8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7CB59A-153F-43F2-8638-14CE5487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FEDA26-1721-434F-822C-F38BF537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3C5473-C0F5-4781-85A9-948F6B13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C86474-D43D-4EDA-954B-74BD8343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417401-E592-4081-9450-FE0528A3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415E21-EB49-47FC-9A13-0ED5FCE0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6F40C3-08BD-4373-A0C5-08BE8E0B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98C15E-A8F8-4119-8704-E4436489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41AC6C-6F4C-479D-802B-19DFF086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1C7719-7411-431A-A3A0-2780CBD1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19B6B-583C-4C80-AB6C-812934E4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FF12C5-D5DD-4DD8-A124-A202C38C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3BB3FA-2BD3-4DD7-B756-2C50952DD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63ADE7-AAB6-498E-BEA9-F91EF54B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24E15B-43AF-45C5-B776-133BC112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22D93E-9B8A-4003-A3AF-EB4E84F6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81858C-680F-44E4-8879-2952AC9C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1B8AFB-557D-4713-A627-9A03FC89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5BE662B-929A-4B84-AF5C-CA4E9CD5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2FB81A-88B6-4CD7-9442-36CC3D03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C52329-49E9-48AA-88A4-23A5BC95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566-F929-47A4-ABD6-902F03DD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C919F-C4D0-4C68-A20B-179DE751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A6FA1F-28B0-4364-90B9-7CF3AA18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A91276-6286-4D43-8076-364B41D8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94FAF2-7EE6-4EB6-9C39-75014615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20D3F9-02BE-47EC-B7D3-1963C7B1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F79D61-B89C-4D9A-9F9C-383DB4BC9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CFD88E-77E4-4552-A59A-0F93919F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B01890-D1A2-43F5-AC4B-11AA079A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60D78B-90FC-4E1E-87B1-192FF8A7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F93A79-53C7-4829-B1B1-E020C2DF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3C235A5-386D-45B0-9FA8-C10EBD0B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CF5BB-A604-4D99-8840-5C434734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CF39EC6-5F24-439F-9632-41882484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D05962-00B4-4678-A8E4-996CBEC02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B482AD-3D5A-48BA-9823-F1AFF644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92CBDB0-36BA-4F85-9592-0726E833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BED2FB-BBE8-4891-BD52-744012EA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292D2B0-8796-4965-9EA4-32465FDF5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3D9CF2-B1A8-4877-9868-2624A700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8F6335-5BE9-41D7-8F44-181FD0BE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974614-6E0A-4605-8B93-BF9112C9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7FE6DD-E85F-4B6E-9850-2C849264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02DD-1E16-40C8-982D-1C6B9800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0C2F61-5F2E-400C-9E3B-71FC4354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0BB2AD-6A2C-4792-8896-56D3E8BD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4FCF3D-4330-4546-A4B1-EF8DAA01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00D0516-C390-40C0-AC70-A70F247D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857439-C3D4-43E9-9263-6D60D8A0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973FC6-E53F-420B-9D09-32524B183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0E64A0-DF79-4307-9FF8-3837242EC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1D0D41-EF57-449E-9800-0996C5CF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1CED0F-7807-47C1-96DE-A8822C8D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137062B-C101-4590-B485-E44BA8EE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11EC2-62B7-4E76-81C6-DB99805E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C23D8BE-EFB3-4E49-88A3-8B87EB9E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15CFAA-1F7D-4952-B3C5-A8B681C4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9E57F6-B24B-4703-97A7-0DFF1CD7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3DEA536-8D38-42EB-9874-7EAC19AB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13EFDD-937A-415E-A1B7-EDFBDD44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12DB03B-B713-40F4-AC39-07225506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FBE66D-E18B-42C8-BC6C-776A86B2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9D7D66-82A2-4A53-9388-C44876A65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1E4CC9-1387-478F-9362-C213AC28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0C6C2F-5065-4BE5-9FA1-53FF20E9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261F7-A018-45D0-B0D2-A80C5063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3F5517-2424-4F4A-B662-D7A8665C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0B290F-947F-44F5-8A89-3E453710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1389C2-6671-4D73-8F43-3FB0F5C5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C5D20B-E691-436B-B3BE-BA963265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862061-8139-4F09-80C4-225B266E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CF2090-F71D-4790-BB0D-828C1213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4EC76E-0F80-4481-8DC6-3FF4CE0C9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3E92A3-901C-474B-87A7-85FBBAE6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32196E-4520-4C25-82A7-CFE77EBC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4B028B-F9FD-43F1-B772-0E6F5552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403EE-059A-416F-B468-6A025627A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F1CCF6-85A3-4411-861D-D58DC3C5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1B6B2A-D015-4A9B-BE84-5D3D011D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D4B5E8-DCA1-469F-8FE8-89F700A6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08C9B4-6797-41A2-8D93-D9D87104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038D3D7-92E5-48FC-A75B-3AFA0C4F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156E5A-7FC0-49AC-9CC5-250EA219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C11106-D8D1-4D8D-8EE1-96D5073E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26AC9D-EC7B-41B8-899A-622E8B27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7F2265-6764-4DED-B18B-EA1F1343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60FB9F-952C-4D3A-8A6F-3FA32950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D6AE4-120A-4E9E-8F0B-1072A003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34B642-D90D-4524-A83E-A418F968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5F499C-1320-4248-8C1C-A9DF07A5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45C4841-D65F-4A05-8225-C432E314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6080DF-93BA-4A80-B3B1-9E66BCE6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ABF297-717D-4B68-A7FA-F3DCD317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FFA8D3-CE43-4E63-9D07-F5C62543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155E99-3E6F-4289-B906-C654E9B0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A80975-8E8D-4EFC-A9B0-493ABE7E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825EC8-0ECB-4B1B-B6CC-51BD6C8A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3D6208-3BA9-49F8-B5ED-0EA2CE1D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8CA1-D59E-4748-9AFC-1A2FE206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F3E91D-E8CA-4957-8F32-6184E5AF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FF9796-91E7-4678-9A2F-4BE8933B6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99F7AE-9666-432D-A8A2-7A52AF42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640A66-5192-4C6B-BE7A-29A75365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D674FE-69F5-44E3-9DAA-BB3002A2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E551F0-82FE-4839-A6B4-E177BCD5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C34804-37D1-41AD-8101-27836A9F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7ADE02-1D7B-4D79-A040-37221324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DC3DE06-74A1-473B-9185-A1514BAA9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C4D767-FBC0-4B69-ACF7-564D4E4B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7B2BF-DBFB-4699-A772-483E98F2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774166-AC4F-40CE-819B-98FFBB9C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FFA0F44-89F8-4FCE-B5B4-CB2F66F6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3F4D630-828F-410B-81AB-C629C299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66E637E-1B7E-46A5-ADD7-995F009E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619D79-D934-421D-A356-E658C4ED2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E8D122-2E34-45F0-852C-E16843A5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3048D17-60CD-44CF-B549-E5C07319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47E266-0DC1-47AC-9001-E6879DFC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F77327-606E-4E3D-9C6C-A3971C5D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0CB51A-BD6A-496E-9FCB-7E5B623D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C1D7E-B08F-468F-A824-8504499E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7EE3716-1293-4127-9088-AAADD405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9E9065-193E-40E6-8BF7-74A6A059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A54301-C600-42D8-8516-6BAAF99E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0FDBB5-FF5B-4E5E-B29B-84726EC9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CE90015-757D-4DB1-86F7-598D430A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FACD96F-261F-4508-8437-82B4A997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234E5A-87CF-4A2E-9316-56718AE1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B3FA2F-4D9B-47D0-8DC6-9B34FD1FF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7035A7-F12D-4AFE-935B-34D484D7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F987FDD-341E-4D75-87EE-E35653CF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36A9-F403-4CDD-B430-25FD4AD0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D250-1F1F-4F59-8C46-BBDC8DE6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FAAD974-5384-4293-97C8-0902D2F6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08DFBD-A7AC-4529-8EE1-0EAEFCB2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DE9ED2-D5F6-4227-BBF5-F2D0B61B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04FC56E-B341-4878-894B-80E7631C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41E25BB-CFC8-41E0-9891-9C0F8299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CAF7DCE-4590-49E4-BB3A-814AA0EA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81DAC1E-5B81-4F3A-B54E-9CB8B8ECF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A46A1C-062A-4DA5-A8D0-7A8E58A1F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282C9F-9010-4440-8A70-873C7CAD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92BAB-52D1-46C8-AA8F-59F671CB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49231-A164-4874-9AF7-3FE97F13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0BE5E-4B8A-4308-9D5D-4C521E2F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D167C-5855-488E-A1EC-3C6BCBF7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64E94-423C-4A95-B2F6-BCC8764B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A3854-315B-4AE9-9648-0D340EC9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45DA2-1B65-469B-A72F-B7FC2783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4842B-A863-4606-BFFB-D6E0FCB43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2D551-545E-4ECB-968D-F816402A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7BC-DB36-4F62-81A8-1930AC05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8B416-66F0-475B-9DF6-73A1547AB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FB7FB-6F49-45E0-A220-F08F52C9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DA87B-D27B-452A-8FB6-2877BF5A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B1052-8B53-4C53-9979-97A785C2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4FF2A-C732-4EBD-A225-EB400C04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C2247-2F73-49D3-BBEE-9DC17A81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B4622-E558-4E45-A711-83C85A5B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719B4-D9D5-46A1-B0AC-6364FD5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E752D-73B1-489D-9E38-4320E8D6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1A76D-8BB4-428E-8A6F-D8C5FCD9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F0E-670D-4490-9784-33419EAB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5C1A7-AC0C-420B-B819-0C8EBF33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EDC0F-6FC1-49A2-B7C7-A1353DC7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10BFF-4FBB-4C65-99B7-31FE79ED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40DB4-CAC0-4C24-9739-2215ADE9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79C88-93DE-4EE7-A6E6-329643B1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78935-1924-4BE2-9C62-B708405F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73B8D-7AD0-4107-A0D7-6DFE8664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CAB63-AB25-4750-8F69-A1E1BB51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02C2D-83B6-4D0C-BD5E-0489EB64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83D21-1ADF-4E5E-80CC-9285C269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1C7-CA0A-4CC1-86E6-82B6F66C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E225F-CA52-4B21-A8A3-712A36DE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F52D5-66AD-46FA-B7DD-02AFD753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18564-EE16-4B18-927A-DA26B039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3EAD0-461E-47D7-96E6-638555B2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C5607-6A1C-4EA1-A679-0286E545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3A881-5142-4771-99EA-C1FEFC5E7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59079-0F04-4683-A6BE-CC77B8A2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1E5AA-59FD-4C33-92F7-C2E9E55B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A62F-1B68-4A7F-8C10-B93518F7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0EF6E-F2CA-4A01-936E-C507E258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147-46C6-4B3F-A2BD-4B5033DE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59A2B-9B51-4A66-AC77-8CBD3029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8EA59-D5C4-4700-A6CB-39A14F4C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79AA3-EA76-4E09-9B00-90AC6BB6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CBE68-A9F5-4B43-B752-76651BBDA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9FBEA-8AF3-4A5B-86F5-D5595CF9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53E7BB-BD1F-46DA-B09C-AA12BB94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B4D90-D539-4E43-BB17-A521407B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FBDC3-821C-4EE2-A1BA-C2E0A659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1ED5E-2FF8-4648-8F36-190BF14E8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754F1B-42A1-45A5-9DAC-342565C6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D90F-86A6-48D0-B996-E0233BA7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5B263-341D-470D-B2C5-8B4A7E07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53373-89FE-47FB-AD2A-28D25D1D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F1778-1089-4EF9-A66F-041CD943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93693-00D3-4FC1-94A5-8A989D7A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76DC8-EE3F-4493-8ABC-841BC4AF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5A3DE-F3D8-4DA5-8825-4D8D3F64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9DF3B-E14A-40E8-B0B9-80324A76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D28EC-B855-4BE3-B580-0F6EC6CF7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00B7D-EBE4-4947-ADA1-9967A348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A488A-FFEE-421E-B76C-A93D3C08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B323-E5F9-4D35-A225-5209EC59EF6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45EB-6053-4A69-BB56-02CFA675E2B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A7F7-0591-48E4-B60A-26FC71F2575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88DA-4EB2-4893-B827-D2CECAF68FB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51FD-D02E-4BF4-9BD1-61A306F21BC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9936-373F-4086-A201-59156A6265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04B5-0B28-4D52-A19E-2829B34DEA4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45D9-6796-4761-B800-4A268C1EF0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C9D31-F38D-4294-9D9C-0E8FDEF933E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537D-0E9D-476D-85F4-2D8DADD7B3A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0ACE-3E84-46F8-913D-E09FB09B5FE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ED07-1C4F-4425-B326-D46224CEE53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F589-AF2B-4C75-99C1-FA4610EDAB3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07ED-B4EF-421D-A145-2C35DB5710F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0D4B-245D-4B42-982C-F692DFDB71F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C8F8-3C42-4AEB-B7AD-DD45A5A6D41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2D94-1DE1-482D-AEE9-D0D5E499E66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76E9-F6E5-41CF-8D6E-F399AE7A0A3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7FB6-6942-41D8-9DFA-183D5E33B23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82F3-E204-4E60-9955-1342D166B3E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06DC-9373-409C-A905-A9FCAC8E34F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D55B-E402-4847-9E25-771B3C93A18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F27EC-51FE-4186-B59C-16FEAEC4EB0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B36B-CD9D-471F-A681-E1F1BFC0E16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45D3-92E4-4AB7-81E9-9F7728ED0D5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7FF7-32BB-4A9D-BCA0-6971BF893DC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CAE0-7053-4B7E-8DF0-E90A3824024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9F29-691D-47DA-9023-3DCDF9C6C1A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0B31-C042-4472-AC63-E100C7E1D2A6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EBEF-BF19-4213-92EA-E5B41D46F45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8145-72B2-4669-949D-F53F94FE058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24BC-5D75-4766-B7E3-B1B53A52014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2CE2-891B-422A-99B0-62B549B9794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945A-F151-4445-B25C-CACA85EB20E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332B-718D-4381-B41E-3801DAC7D9B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5AE4-7601-4F35-98C0-753A1B3AD15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991C-3155-45F6-AEE5-D6765A271912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5769-C409-4404-9001-11F3CBE60FD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119C-0952-4F81-BC01-1EA18152A8C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9717-93C8-41BB-8C44-2CB35A78AF4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3C7A-E782-4650-9162-AA75FE84A6B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B325-914D-4906-A717-49B1AEDCFB9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A2D6-8A51-4CF8-8F3D-9C252C29B4C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D364-8A3B-4942-BAEA-841432A6A65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D4D3-D984-4B9C-84EF-55CB0B9F22A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022BE-97CC-480E-BD6E-1C58B9ED0D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3612-CD75-4EC0-BF9A-3F4F989FCE5A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2BF4-061E-4475-8A29-9C0341D9579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AEF7-CA2C-4014-99B9-F47B1039E05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E96E-6830-4BA6-9D57-F5F4AA7CFFC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9ECA-8ED9-4D3B-9200-B55CF6634F8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78CA-F2E3-49E0-8D50-6E9DEB3203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DE35-F8DF-4762-8CF4-0FF6086E1D7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4C26-BFB4-41EF-8F99-3BD06BEDB17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0B26-FB24-4F47-B03F-9CA27E8BCBD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4ED8-AE15-4FE4-B725-1EB4EC13D72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57EA-2A6B-4572-9E92-899AB372064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8BF1-69AC-4B50-B569-05CBB519910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43F6-ECFA-4C36-AFD1-1DEC4D7CD1FF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97E2-0620-4609-9E76-38F84E4F397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7318-F419-4033-9B15-BA8DDBA6F83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45F2-A25C-4758-BAD1-C51E4ED903E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F243-AFE7-41C2-B944-A0328921E068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1F2F-D12B-4D7A-9EB1-C3D39B1AF59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D426-A7AF-487F-9068-389884FB45A3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348F-82DE-4147-9355-DA32F045BC4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21FB-66BA-4288-A282-E4119807F927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06C9-3F0B-4517-87AF-3493BED0862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gif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229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2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229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voltage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audio" Target="../media/suction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hammer.wav"/><Relationship Id="rId7" Type="http://schemas.openxmlformats.org/officeDocument/2006/relationships/audio" Target="../media/chimes.wav"/><Relationship Id="rId8" Type="http://schemas.openxmlformats.org/officeDocument/2006/relationships/audio" Target="../media/voltage.wav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22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229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audio" Target="../media/voltage.wav"/><Relationship Id="rId5" Type="http://schemas.openxmlformats.org/officeDocument/2006/relationships/audio" Target="../media/chimes.wav"/><Relationship Id="rId6" Type="http://schemas.openxmlformats.org/officeDocument/2006/relationships/audio" Target="../media/breeze.wav"/><Relationship Id="rId7" Type="http://schemas.openxmlformats.org/officeDocument/2006/relationships/slideLayout" Target="../slideLayouts/slideLayout229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29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29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gif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229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1" name="Picture 5" descr="7"/>
          <p:cNvPicPr/>
          <p:nvPr/>
        </p:nvPicPr>
        <p:blipFill>
          <a:blip r:embed="rId1"/>
          <a:stretch/>
        </p:blipFill>
        <p:spPr>
          <a:xfrm>
            <a:off x="-457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2" name="WordArt 6"/>
          <p:cNvSpPr txBox="1"/>
          <p:nvPr/>
        </p:nvSpPr>
        <p:spPr>
          <a:xfrm>
            <a:off x="1143000" y="609480"/>
            <a:ext cx="2209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宋体"/>
              </a:rPr>
              <a:t>Cha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03" name="Text Box 8"/>
          <p:cNvSpPr/>
          <p:nvPr/>
        </p:nvSpPr>
        <p:spPr>
          <a:xfrm>
            <a:off x="1332000" y="1628640"/>
            <a:ext cx="691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 doing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sh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 doing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ad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 doing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am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ing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are you doing?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 a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unn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534E7-47E0-4B22-BB20-A585AE587D09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5"/>
          <p:cNvSpPr/>
          <p:nvPr/>
        </p:nvSpPr>
        <p:spPr>
          <a:xfrm>
            <a:off x="9144000" y="19288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icture talking: 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引出现在进行时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! I am …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8" name="Group 4"/>
          <p:cNvGrpSpPr/>
          <p:nvPr/>
        </p:nvGrpSpPr>
        <p:grpSpPr>
          <a:xfrm>
            <a:off x="534960" y="1787400"/>
            <a:ext cx="8964720" cy="4751280"/>
            <a:chOff x="534960" y="1787400"/>
            <a:chExt cx="8964720" cy="4751280"/>
          </a:xfrm>
        </p:grpSpPr>
        <p:pic>
          <p:nvPicPr>
            <p:cNvPr id="1499" name="Picture 4" descr="相框"/>
            <p:cNvPicPr/>
            <p:nvPr/>
          </p:nvPicPr>
          <p:blipFill>
            <a:blip r:embed="rId1"/>
            <a:srcRect l="666" t="4683" r="12069" b="15997"/>
            <a:stretch/>
          </p:blipFill>
          <p:spPr>
            <a:xfrm>
              <a:off x="534960" y="1787400"/>
              <a:ext cx="8964720" cy="47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0" name="Picture 5" descr="8BCD6B~1"/>
            <p:cNvPicPr/>
            <p:nvPr/>
          </p:nvPicPr>
          <p:blipFill>
            <a:blip r:embed="rId2"/>
            <a:srcRect l="23645" t="45661" r="0" b="0"/>
            <a:stretch/>
          </p:blipFill>
          <p:spPr>
            <a:xfrm>
              <a:off x="1001520" y="3951720"/>
              <a:ext cx="1989360" cy="220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1" name="Group 7"/>
          <p:cNvGrpSpPr/>
          <p:nvPr/>
        </p:nvGrpSpPr>
        <p:grpSpPr>
          <a:xfrm>
            <a:off x="611280" y="1841400"/>
            <a:ext cx="2015640" cy="2016000"/>
            <a:chOff x="611280" y="1841400"/>
            <a:chExt cx="2015640" cy="2016000"/>
          </a:xfrm>
        </p:grpSpPr>
        <p:grpSp>
          <p:nvGrpSpPr>
            <p:cNvPr id="1502" name="Group 8"/>
            <p:cNvGrpSpPr/>
            <p:nvPr/>
          </p:nvGrpSpPr>
          <p:grpSpPr>
            <a:xfrm>
              <a:off x="611280" y="1841400"/>
              <a:ext cx="869760" cy="717840"/>
              <a:chOff x="611280" y="1841400"/>
              <a:chExt cx="869760" cy="717840"/>
            </a:xfrm>
          </p:grpSpPr>
          <p:pic>
            <p:nvPicPr>
              <p:cNvPr id="1503" name="WordAr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280" y="1841400"/>
                <a:ext cx="869760" cy="7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4" name="Text Box 12"/>
              <p:cNvSpPr/>
              <p:nvPr/>
            </p:nvSpPr>
            <p:spPr>
              <a:xfrm>
                <a:off x="680760" y="1877040"/>
                <a:ext cx="747000" cy="60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cc"/>
                    </a:solidFill>
                    <a:latin typeface="Comic Sans MS"/>
                  </a:rPr>
                  <a:t>In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5" name="Group 11"/>
            <p:cNvGrpSpPr/>
            <p:nvPr/>
          </p:nvGrpSpPr>
          <p:grpSpPr>
            <a:xfrm>
              <a:off x="866880" y="2405520"/>
              <a:ext cx="1260000" cy="815040"/>
              <a:chOff x="866880" y="2405520"/>
              <a:chExt cx="1260000" cy="815040"/>
            </a:xfrm>
          </p:grpSpPr>
          <p:pic>
            <p:nvPicPr>
              <p:cNvPr id="1506" name="WordArt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866880" y="2405520"/>
                <a:ext cx="1260000" cy="81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7" name="Text Box 15"/>
              <p:cNvSpPr/>
              <p:nvPr/>
            </p:nvSpPr>
            <p:spPr>
              <a:xfrm rot="21280800">
                <a:off x="949320" y="2487600"/>
                <a:ext cx="1073880" cy="60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cc"/>
                    </a:solidFill>
                    <a:latin typeface="Comic Sans MS"/>
                  </a:rPr>
                  <a:t>The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8" name="Group 14"/>
            <p:cNvGrpSpPr/>
            <p:nvPr/>
          </p:nvGrpSpPr>
          <p:grpSpPr>
            <a:xfrm>
              <a:off x="1621440" y="3139920"/>
              <a:ext cx="1005480" cy="717480"/>
              <a:chOff x="1621440" y="3139920"/>
              <a:chExt cx="1005480" cy="717480"/>
            </a:xfrm>
          </p:grpSpPr>
          <p:pic>
            <p:nvPicPr>
              <p:cNvPr id="1509" name="WordAr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1440" y="3139920"/>
                <a:ext cx="100548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0" name="Text Box 18"/>
              <p:cNvSpPr/>
              <p:nvPr/>
            </p:nvSpPr>
            <p:spPr>
              <a:xfrm>
                <a:off x="1687680" y="3175560"/>
                <a:ext cx="871200" cy="60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cc"/>
                    </a:solidFill>
                    <a:latin typeface="Comic Sans MS"/>
                  </a:rPr>
                  <a:t>Zoo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1" name="Group 17"/>
          <p:cNvGrpSpPr/>
          <p:nvPr/>
        </p:nvGrpSpPr>
        <p:grpSpPr>
          <a:xfrm>
            <a:off x="0" y="189000"/>
            <a:ext cx="2016000" cy="990360"/>
            <a:chOff x="0" y="189000"/>
            <a:chExt cx="2016000" cy="990360"/>
          </a:xfrm>
        </p:grpSpPr>
        <p:pic>
          <p:nvPicPr>
            <p:cNvPr id="1512" name="Picture 17" descr="143144~1"/>
            <p:cNvPicPr/>
            <p:nvPr/>
          </p:nvPicPr>
          <p:blipFill>
            <a:blip r:embed="rId6"/>
            <a:stretch/>
          </p:blipFill>
          <p:spPr>
            <a:xfrm>
              <a:off x="0" y="189000"/>
              <a:ext cx="190656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3" name="矩形 25"/>
            <p:cNvSpPr/>
            <p:nvPr/>
          </p:nvSpPr>
          <p:spPr>
            <a:xfrm>
              <a:off x="360360" y="53676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093"/>
                  </a:solidFill>
                  <a:latin typeface="Comic Sans MS"/>
                </a:rPr>
                <a:t>Look!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4" name="Text Box 21"/>
          <p:cNvSpPr/>
          <p:nvPr/>
        </p:nvSpPr>
        <p:spPr>
          <a:xfrm>
            <a:off x="2050920" y="18900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are my photos in the zoo. Let’s see what are the animals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 Box 22"/>
          <p:cNvSpPr/>
          <p:nvPr/>
        </p:nvSpPr>
        <p:spPr>
          <a:xfrm>
            <a:off x="3564000" y="43657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, the rabbit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Text Box 23"/>
          <p:cNvSpPr/>
          <p:nvPr/>
        </p:nvSpPr>
        <p:spPr>
          <a:xfrm>
            <a:off x="3618000" y="4829040"/>
            <a:ext cx="493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long j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u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24"/>
          <p:cNvSpPr/>
          <p:nvPr/>
        </p:nvSpPr>
        <p:spPr>
          <a:xfrm>
            <a:off x="5219640" y="53737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跳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8" name="Picture 25" descr="跳远3"/>
          <p:cNvPicPr/>
          <p:nvPr/>
        </p:nvPicPr>
        <p:blipFill>
          <a:blip r:embed="rId7"/>
          <a:stretch/>
        </p:blipFill>
        <p:spPr>
          <a:xfrm>
            <a:off x="4140360" y="1557360"/>
            <a:ext cx="3456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92E7-4902-4741-AAF1-3DC400D52E3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0" name="Group 3"/>
          <p:cNvGrpSpPr/>
          <p:nvPr/>
        </p:nvGrpSpPr>
        <p:grpSpPr>
          <a:xfrm>
            <a:off x="108000" y="1609560"/>
            <a:ext cx="8964720" cy="4751280"/>
            <a:chOff x="108000" y="1609560"/>
            <a:chExt cx="8964720" cy="4751280"/>
          </a:xfrm>
        </p:grpSpPr>
        <p:pic>
          <p:nvPicPr>
            <p:cNvPr id="1521" name="Picture 4" descr="相框"/>
            <p:cNvPicPr/>
            <p:nvPr/>
          </p:nvPicPr>
          <p:blipFill>
            <a:blip r:embed="rId1"/>
            <a:srcRect l="666" t="4683" r="12069" b="15997"/>
            <a:stretch/>
          </p:blipFill>
          <p:spPr>
            <a:xfrm>
              <a:off x="108000" y="1609560"/>
              <a:ext cx="8964720" cy="47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Picture 5" descr="8BCD6B~1"/>
            <p:cNvPicPr/>
            <p:nvPr/>
          </p:nvPicPr>
          <p:blipFill>
            <a:blip r:embed="rId2"/>
            <a:srcRect l="23645" t="45661" r="0" b="0"/>
            <a:stretch/>
          </p:blipFill>
          <p:spPr>
            <a:xfrm>
              <a:off x="574560" y="3773880"/>
              <a:ext cx="1989360" cy="220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3" name="矩形 25"/>
          <p:cNvSpPr/>
          <p:nvPr/>
        </p:nvSpPr>
        <p:spPr>
          <a:xfrm>
            <a:off x="1979640" y="7650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am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_____________________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Group 7"/>
          <p:cNvGrpSpPr/>
          <p:nvPr/>
        </p:nvGrpSpPr>
        <p:grpSpPr>
          <a:xfrm>
            <a:off x="0" y="549360"/>
            <a:ext cx="2016000" cy="966600"/>
            <a:chOff x="0" y="549360"/>
            <a:chExt cx="2016000" cy="966600"/>
          </a:xfrm>
        </p:grpSpPr>
        <p:pic>
          <p:nvPicPr>
            <p:cNvPr id="1525" name="Picture 11" descr="143144~1"/>
            <p:cNvPicPr/>
            <p:nvPr/>
          </p:nvPicPr>
          <p:blipFill>
            <a:blip r:embed="rId3"/>
            <a:stretch/>
          </p:blipFill>
          <p:spPr>
            <a:xfrm>
              <a:off x="0" y="549360"/>
              <a:ext cx="19065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6" name="矩形 25"/>
            <p:cNvSpPr/>
            <p:nvPr/>
          </p:nvSpPr>
          <p:spPr>
            <a:xfrm>
              <a:off x="360360" y="73008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093"/>
                  </a:solidFill>
                  <a:latin typeface="Comic Sans MS"/>
                </a:rPr>
                <a:t>Look!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7" name="矩形 25"/>
          <p:cNvSpPr/>
          <p:nvPr/>
        </p:nvSpPr>
        <p:spPr>
          <a:xfrm>
            <a:off x="3382920" y="692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play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ing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ble te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5"/>
          <p:cNvSpPr/>
          <p:nvPr/>
        </p:nvSpPr>
        <p:spPr>
          <a:xfrm>
            <a:off x="8388360" y="2133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1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：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icture talking: 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学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… 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Text Box 13"/>
          <p:cNvSpPr/>
          <p:nvPr/>
        </p:nvSpPr>
        <p:spPr>
          <a:xfrm>
            <a:off x="187920" y="142920"/>
            <a:ext cx="77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 is 5:00 now.Do you know what am I doing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Group 13"/>
          <p:cNvGrpSpPr/>
          <p:nvPr/>
        </p:nvGrpSpPr>
        <p:grpSpPr>
          <a:xfrm>
            <a:off x="611280" y="2112840"/>
            <a:ext cx="1829160" cy="1553760"/>
            <a:chOff x="611280" y="2112840"/>
            <a:chExt cx="1829160" cy="1553760"/>
          </a:xfrm>
        </p:grpSpPr>
        <p:sp>
          <p:nvSpPr>
            <p:cNvPr id="1531" name="WordArt 8"/>
            <p:cNvSpPr txBox="1"/>
            <p:nvPr/>
          </p:nvSpPr>
          <p:spPr>
            <a:xfrm>
              <a:off x="611280" y="2112840"/>
              <a:ext cx="122400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After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532" name="WordArt 9"/>
            <p:cNvSpPr txBox="1"/>
            <p:nvPr/>
          </p:nvSpPr>
          <p:spPr>
            <a:xfrm rot="21280800">
              <a:off x="1260720" y="2976120"/>
              <a:ext cx="1152360" cy="638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Comic Sans MS"/>
                </a:rPr>
                <a:t>School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  <a:ea typeface="Comic Sans MS"/>
              </a:endParaRPr>
            </a:p>
          </p:txBody>
        </p:sp>
      </p:grpSp>
      <p:sp>
        <p:nvSpPr>
          <p:cNvPr id="1533" name="矩形 5"/>
          <p:cNvSpPr/>
          <p:nvPr/>
        </p:nvSpPr>
        <p:spPr>
          <a:xfrm>
            <a:off x="7667640" y="5013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ep 2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：学习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are you doing?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进行提问，总体运用词组和句型，并归纳现在进行时的意义和用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4" name="Group 19"/>
          <p:cNvGrpSpPr/>
          <p:nvPr/>
        </p:nvGrpSpPr>
        <p:grpSpPr>
          <a:xfrm>
            <a:off x="3836880" y="1971000"/>
            <a:ext cx="4101120" cy="4208400"/>
            <a:chOff x="3836880" y="1971000"/>
            <a:chExt cx="4101120" cy="4208400"/>
          </a:xfrm>
        </p:grpSpPr>
        <p:pic>
          <p:nvPicPr>
            <p:cNvPr id="1535" name="Picture 20" descr="tabletennis5"/>
            <p:cNvPicPr/>
            <p:nvPr/>
          </p:nvPicPr>
          <p:blipFill>
            <a:blip r:embed="rId4"/>
            <a:stretch/>
          </p:blipFill>
          <p:spPr>
            <a:xfrm rot="20515800">
              <a:off x="4585680" y="3084840"/>
              <a:ext cx="3008520" cy="26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6" name="Rectangle 21"/>
            <p:cNvSpPr/>
            <p:nvPr/>
          </p:nvSpPr>
          <p:spPr>
            <a:xfrm rot="20515800">
              <a:off x="3867120" y="2553840"/>
              <a:ext cx="3887640" cy="8139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play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ing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a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le t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e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nn</a:t>
              </a:r>
              <a:r>
                <a:rPr b="1" lang="en-US" sz="3200" spc="-1" strike="noStrike">
                  <a:solidFill>
                    <a:srgbClr val="ff0066"/>
                  </a:solidFill>
                  <a:latin typeface="Arial"/>
                </a:rPr>
                <a:t>i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AutoShape 7"/>
          <p:cNvSpPr/>
          <p:nvPr/>
        </p:nvSpPr>
        <p:spPr>
          <a:xfrm>
            <a:off x="428760" y="4714920"/>
            <a:ext cx="3520800" cy="115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8800" spc="-1" strike="noStrike">
                <a:solidFill>
                  <a:srgbClr val="ff0066"/>
                </a:solidFill>
                <a:latin typeface="Arial"/>
              </a:rPr>
              <a:t>in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AutoShape 7"/>
          <p:cNvSpPr/>
          <p:nvPr/>
        </p:nvSpPr>
        <p:spPr>
          <a:xfrm>
            <a:off x="4357800" y="4643280"/>
            <a:ext cx="3520800" cy="115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2" descr="I:\7777777777777777777777777\新建文件夹 (5)\think.jpg"/>
          <p:cNvPicPr/>
          <p:nvPr/>
        </p:nvPicPr>
        <p:blipFill>
          <a:blip r:embed="rId1"/>
          <a:stretch/>
        </p:blipFill>
        <p:spPr>
          <a:xfrm>
            <a:off x="1643040" y="1602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AutoShape 7" descr=""/>
          <p:cNvPicPr/>
          <p:nvPr/>
        </p:nvPicPr>
        <p:blipFill>
          <a:blip r:embed="rId1"/>
          <a:stretch/>
        </p:blipFill>
        <p:spPr>
          <a:xfrm>
            <a:off x="-96840" y="4273560"/>
            <a:ext cx="4071960" cy="1749240"/>
          </a:xfrm>
          <a:prstGeom prst="rect">
            <a:avLst/>
          </a:prstGeom>
          <a:ln w="0">
            <a:noFill/>
          </a:ln>
        </p:spPr>
      </p:pic>
      <p:pic>
        <p:nvPicPr>
          <p:cNvPr id="1541" name="Picture 2" descr="I:\7777777777777777777777777\新建文件夹 (5)\try.jpg"/>
          <p:cNvPicPr/>
          <p:nvPr/>
        </p:nvPicPr>
        <p:blipFill>
          <a:blip r:embed="rId2"/>
          <a:stretch/>
        </p:blipFill>
        <p:spPr>
          <a:xfrm>
            <a:off x="2000160" y="357120"/>
            <a:ext cx="5024520" cy="3768840"/>
          </a:xfrm>
          <a:prstGeom prst="rect">
            <a:avLst/>
          </a:prstGeom>
          <a:ln w="0">
            <a:noFill/>
          </a:ln>
        </p:spPr>
      </p:pic>
      <p:sp>
        <p:nvSpPr>
          <p:cNvPr id="1542" name="AutoShape 7"/>
          <p:cNvSpPr/>
          <p:nvPr/>
        </p:nvSpPr>
        <p:spPr>
          <a:xfrm>
            <a:off x="4429080" y="4714920"/>
            <a:ext cx="3521160" cy="115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尝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3" name="Picture 3" descr="I:\7777777777777777777777777\新建文件夹 (5)\chess.jpg"/>
          <p:cNvPicPr/>
          <p:nvPr/>
        </p:nvPicPr>
        <p:blipFill>
          <a:blip r:embed="rId1"/>
          <a:stretch/>
        </p:blipFill>
        <p:spPr>
          <a:xfrm>
            <a:off x="1214280" y="214200"/>
            <a:ext cx="5286600" cy="3965760"/>
          </a:xfrm>
          <a:prstGeom prst="rect">
            <a:avLst/>
          </a:prstGeom>
          <a:ln w="0">
            <a:noFill/>
          </a:ln>
        </p:spPr>
      </p:pic>
      <p:sp>
        <p:nvSpPr>
          <p:cNvPr id="1544" name="AutoShape 7"/>
          <p:cNvSpPr/>
          <p:nvPr/>
        </p:nvSpPr>
        <p:spPr>
          <a:xfrm>
            <a:off x="357120" y="4286160"/>
            <a:ext cx="3521160" cy="115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s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AutoShape 7"/>
          <p:cNvSpPr/>
          <p:nvPr/>
        </p:nvSpPr>
        <p:spPr>
          <a:xfrm>
            <a:off x="4000680" y="4286160"/>
            <a:ext cx="3929040" cy="115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国际）象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AutoShape 13"/>
          <p:cNvSpPr/>
          <p:nvPr/>
        </p:nvSpPr>
        <p:spPr>
          <a:xfrm>
            <a:off x="1214280" y="5572080"/>
            <a:ext cx="671544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8440">
            <a:solidFill>
              <a:srgbClr val="ff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 am play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ing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es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7" name="Picture 2" descr="I:\7777777777777777777777777\新建文件夹 (5)\tennis.jpg"/>
          <p:cNvPicPr/>
          <p:nvPr/>
        </p:nvPicPr>
        <p:blipFill>
          <a:blip r:embed="rId1"/>
          <a:stretch/>
        </p:blipFill>
        <p:spPr>
          <a:xfrm>
            <a:off x="1500120" y="21420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1548" name="AutoShape 7"/>
          <p:cNvSpPr/>
          <p:nvPr/>
        </p:nvSpPr>
        <p:spPr>
          <a:xfrm>
            <a:off x="571680" y="3857760"/>
            <a:ext cx="3520800" cy="115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nn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AutoShape 7"/>
          <p:cNvSpPr/>
          <p:nvPr/>
        </p:nvSpPr>
        <p:spPr>
          <a:xfrm>
            <a:off x="4357800" y="3857760"/>
            <a:ext cx="3520800" cy="1152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f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网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AutoShape 13"/>
          <p:cNvSpPr/>
          <p:nvPr/>
        </p:nvSpPr>
        <p:spPr>
          <a:xfrm>
            <a:off x="642960" y="5214960"/>
            <a:ext cx="7786800" cy="1000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8440">
            <a:solidFill>
              <a:srgbClr val="ff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I  am play</a:t>
            </a: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ing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enni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1" name="Group 3"/>
          <p:cNvGrpSpPr/>
          <p:nvPr/>
        </p:nvGrpSpPr>
        <p:grpSpPr>
          <a:xfrm>
            <a:off x="7429680" y="4572000"/>
            <a:ext cx="1571400" cy="4357800"/>
            <a:chOff x="7429680" y="4572000"/>
            <a:chExt cx="1571400" cy="4357800"/>
          </a:xfrm>
        </p:grpSpPr>
        <p:grpSp>
          <p:nvGrpSpPr>
            <p:cNvPr id="1552" name="Group 4"/>
            <p:cNvGrpSpPr/>
            <p:nvPr/>
          </p:nvGrpSpPr>
          <p:grpSpPr>
            <a:xfrm>
              <a:off x="7530840" y="4572000"/>
              <a:ext cx="1470240" cy="4357800"/>
              <a:chOff x="7530840" y="4572000"/>
              <a:chExt cx="1470240" cy="4357800"/>
            </a:xfrm>
          </p:grpSpPr>
          <p:pic>
            <p:nvPicPr>
              <p:cNvPr id="1553" name="图片 23" descr="人物.png"/>
              <p:cNvPicPr/>
              <p:nvPr/>
            </p:nvPicPr>
            <p:blipFill>
              <a:blip r:embed="rId1"/>
              <a:stretch/>
            </p:blipFill>
            <p:spPr>
              <a:xfrm flipH="1">
                <a:off x="7530840" y="4572000"/>
                <a:ext cx="1450080" cy="223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4" name="矩形 24"/>
              <p:cNvSpPr/>
              <p:nvPr/>
            </p:nvSpPr>
            <p:spPr>
              <a:xfrm flipH="1">
                <a:off x="7558200" y="6733080"/>
                <a:ext cx="1442880" cy="21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Group 7"/>
            <p:cNvGrpSpPr/>
            <p:nvPr/>
          </p:nvGrpSpPr>
          <p:grpSpPr>
            <a:xfrm>
              <a:off x="7464600" y="4913280"/>
              <a:ext cx="1080360" cy="1607760"/>
              <a:chOff x="7464600" y="4913280"/>
              <a:chExt cx="1080360" cy="1607760"/>
            </a:xfrm>
          </p:grpSpPr>
          <p:pic>
            <p:nvPicPr>
              <p:cNvPr id="1556" name="图片 23" descr="人物.png"/>
              <p:cNvPicPr/>
              <p:nvPr/>
            </p:nvPicPr>
            <p:blipFill>
              <a:blip r:embed="rId2"/>
              <a:srcRect l="33571" t="0" r="0" b="52598"/>
              <a:stretch/>
            </p:blipFill>
            <p:spPr>
              <a:xfrm flipH="1">
                <a:off x="7581600" y="5463000"/>
                <a:ext cx="963360" cy="1058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7" name="图片 23" descr="人物.png"/>
              <p:cNvPicPr/>
              <p:nvPr/>
            </p:nvPicPr>
            <p:blipFill>
              <a:blip r:embed="rId3"/>
              <a:srcRect l="41960" t="0" r="0" b="52598"/>
              <a:stretch/>
            </p:blipFill>
            <p:spPr>
              <a:xfrm flipH="1" rot="20992800">
                <a:off x="7551000" y="4978800"/>
                <a:ext cx="841680" cy="1058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8" name="Group 10"/>
            <p:cNvGrpSpPr/>
            <p:nvPr/>
          </p:nvGrpSpPr>
          <p:grpSpPr>
            <a:xfrm>
              <a:off x="7429680" y="5518800"/>
              <a:ext cx="1013760" cy="1211760"/>
              <a:chOff x="7429680" y="5518800"/>
              <a:chExt cx="1013760" cy="1211760"/>
            </a:xfrm>
          </p:grpSpPr>
          <p:pic>
            <p:nvPicPr>
              <p:cNvPr id="1559" name="图片 4" descr="波浪前1.png"/>
              <p:cNvPicPr/>
              <p:nvPr/>
            </p:nvPicPr>
            <p:blipFill>
              <a:blip r:embed="rId4"/>
              <a:srcRect l="28759" t="54857" r="57817" b="29896"/>
              <a:stretch/>
            </p:blipFill>
            <p:spPr>
              <a:xfrm>
                <a:off x="7632360" y="6465960"/>
                <a:ext cx="608400" cy="167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60" name="Group 12"/>
              <p:cNvGrpSpPr/>
              <p:nvPr/>
            </p:nvGrpSpPr>
            <p:grpSpPr>
              <a:xfrm>
                <a:off x="7429680" y="5518800"/>
                <a:ext cx="1013760" cy="1211760"/>
                <a:chOff x="7429680" y="5518800"/>
                <a:chExt cx="1013760" cy="1211760"/>
              </a:xfrm>
            </p:grpSpPr>
            <p:sp>
              <p:nvSpPr>
                <p:cNvPr id="1561" name="椭圆 11"/>
                <p:cNvSpPr/>
                <p:nvPr/>
              </p:nvSpPr>
              <p:spPr>
                <a:xfrm>
                  <a:off x="7714800" y="6001560"/>
                  <a:ext cx="443520" cy="4518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椭圆 12"/>
                <p:cNvSpPr/>
                <p:nvPr/>
              </p:nvSpPr>
              <p:spPr>
                <a:xfrm>
                  <a:off x="7524720" y="6494400"/>
                  <a:ext cx="217440" cy="1231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椭圆 13"/>
                <p:cNvSpPr/>
                <p:nvPr/>
              </p:nvSpPr>
              <p:spPr>
                <a:xfrm>
                  <a:off x="8126640" y="6535440"/>
                  <a:ext cx="158400" cy="1695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564" name="Picture 2" descr="C:\Users\SAMSUNG\Desktop\中心组课件\演示文稿1\幻灯片1副本.jpg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429680" y="5518800"/>
                  <a:ext cx="1013760" cy="1211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565" name="Group 18"/>
          <p:cNvGrpSpPr/>
          <p:nvPr/>
        </p:nvGrpSpPr>
        <p:grpSpPr>
          <a:xfrm>
            <a:off x="214200" y="928800"/>
            <a:ext cx="1428840" cy="1214280"/>
            <a:chOff x="214200" y="928800"/>
            <a:chExt cx="1428840" cy="1214280"/>
          </a:xfrm>
        </p:grpSpPr>
        <p:sp>
          <p:nvSpPr>
            <p:cNvPr id="1566" name="椭圆 26"/>
            <p:cNvSpPr/>
            <p:nvPr/>
          </p:nvSpPr>
          <p:spPr>
            <a:xfrm>
              <a:off x="1208160" y="1386000"/>
              <a:ext cx="204840" cy="15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7" name="Group 20"/>
            <p:cNvGrpSpPr/>
            <p:nvPr/>
          </p:nvGrpSpPr>
          <p:grpSpPr>
            <a:xfrm>
              <a:off x="214200" y="928800"/>
              <a:ext cx="1428840" cy="1214280"/>
              <a:chOff x="214200" y="928800"/>
              <a:chExt cx="1428840" cy="1214280"/>
            </a:xfrm>
          </p:grpSpPr>
          <p:sp>
            <p:nvSpPr>
              <p:cNvPr id="1568" name="矩形 28"/>
              <p:cNvSpPr/>
              <p:nvPr/>
            </p:nvSpPr>
            <p:spPr>
              <a:xfrm>
                <a:off x="947520" y="1216080"/>
                <a:ext cx="204840" cy="11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69" name="图片 29" descr="幻灯片1_图层 1.jpg"/>
              <p:cNvPicPr/>
              <p:nvPr/>
            </p:nvPicPr>
            <p:blipFill>
              <a:blip r:embed="rId6"/>
              <a:stretch/>
            </p:blipFill>
            <p:spPr>
              <a:xfrm>
                <a:off x="214200" y="928800"/>
                <a:ext cx="1428840" cy="121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70" name="矩形 30"/>
          <p:cNvSpPr/>
          <p:nvPr/>
        </p:nvSpPr>
        <p:spPr>
          <a:xfrm>
            <a:off x="2337120" y="765000"/>
            <a:ext cx="41522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urlz MT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5"/>
          <p:cNvSpPr/>
          <p:nvPr/>
        </p:nvSpPr>
        <p:spPr>
          <a:xfrm>
            <a:off x="252360" y="2362320"/>
            <a:ext cx="87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抄写新单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背新单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43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44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8499">
                                      <p:cBhvr>
                                        <p:cTn id="34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7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8499">
                                      <p:cBhvr>
                                        <p:cTn id="348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9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WordArt 6"/>
          <p:cNvSpPr txBox="1"/>
          <p:nvPr/>
        </p:nvSpPr>
        <p:spPr>
          <a:xfrm>
            <a:off x="395280" y="2276640"/>
            <a:ext cx="8143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Unit 9 It looks fun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DC77-04FA-4FAD-BDA7-4D9675D475A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AutoShape 16"/>
          <p:cNvSpPr/>
          <p:nvPr/>
        </p:nvSpPr>
        <p:spPr>
          <a:xfrm>
            <a:off x="1042920" y="4437000"/>
            <a:ext cx="7561440" cy="747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og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i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lay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baske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7" name="Group 4"/>
          <p:cNvGrpSpPr/>
          <p:nvPr/>
        </p:nvGrpSpPr>
        <p:grpSpPr>
          <a:xfrm>
            <a:off x="1908000" y="0"/>
            <a:ext cx="5950080" cy="990720"/>
            <a:chOff x="1908000" y="0"/>
            <a:chExt cx="5950080" cy="990720"/>
          </a:xfrm>
        </p:grpSpPr>
        <p:pic>
          <p:nvPicPr>
            <p:cNvPr id="1408" name="矩形 25" descr=""/>
            <p:cNvPicPr/>
            <p:nvPr/>
          </p:nvPicPr>
          <p:blipFill>
            <a:blip r:embed="rId1"/>
            <a:stretch/>
          </p:blipFill>
          <p:spPr>
            <a:xfrm>
              <a:off x="1908000" y="0"/>
              <a:ext cx="59500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9" name="Text Box 11"/>
            <p:cNvSpPr/>
            <p:nvPr/>
          </p:nvSpPr>
          <p:spPr>
            <a:xfrm>
              <a:off x="1971360" y="151560"/>
              <a:ext cx="58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What </a:t>
              </a:r>
              <a:r>
                <a:rPr b="1" lang="en-US" sz="3200" spc="-1" strike="noStrike">
                  <a:solidFill>
                    <a:srgbClr val="00ff00"/>
                  </a:solidFill>
                  <a:latin typeface="Comic Sans MS"/>
                </a:rPr>
                <a:t>is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the dog do</a:t>
              </a:r>
              <a:r>
                <a:rPr b="1" lang="en-US" sz="3200" spc="-1" strike="noStrike">
                  <a:solidFill>
                    <a:srgbClr val="ffccff"/>
                  </a:solidFill>
                  <a:latin typeface="Comic Sans MS"/>
                </a:rPr>
                <a:t>ing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0" name="矩形 5"/>
          <p:cNvSpPr/>
          <p:nvPr/>
        </p:nvSpPr>
        <p:spPr>
          <a:xfrm>
            <a:off x="9180360" y="14842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归纳现在分词的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1" name="Picture 8" descr="basketball4"/>
          <p:cNvPicPr/>
          <p:nvPr/>
        </p:nvPicPr>
        <p:blipFill>
          <a:blip r:embed="rId2"/>
          <a:stretch/>
        </p:blipFill>
        <p:spPr>
          <a:xfrm>
            <a:off x="755640" y="1052640"/>
            <a:ext cx="3673440" cy="3162240"/>
          </a:xfrm>
          <a:prstGeom prst="rect">
            <a:avLst/>
          </a:prstGeom>
          <a:ln w="0">
            <a:noFill/>
          </a:ln>
        </p:spPr>
      </p:pic>
      <p:sp>
        <p:nvSpPr>
          <p:cNvPr id="1412" name="AutoShape 17"/>
          <p:cNvSpPr/>
          <p:nvPr/>
        </p:nvSpPr>
        <p:spPr>
          <a:xfrm>
            <a:off x="2214720" y="2643120"/>
            <a:ext cx="2214360" cy="15001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19080">
            <a:solidFill>
              <a:srgbClr val="d60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AutoShape 16"/>
          <p:cNvSpPr/>
          <p:nvPr/>
        </p:nvSpPr>
        <p:spPr>
          <a:xfrm>
            <a:off x="1116000" y="5661000"/>
            <a:ext cx="6408720" cy="936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ook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fun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Text Box 13"/>
          <p:cNvSpPr/>
          <p:nvPr/>
        </p:nvSpPr>
        <p:spPr>
          <a:xfrm>
            <a:off x="4284720" y="5877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趣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AutoShape 15"/>
          <p:cNvSpPr/>
          <p:nvPr/>
        </p:nvSpPr>
        <p:spPr>
          <a:xfrm>
            <a:off x="5364000" y="1773360"/>
            <a:ext cx="2448000" cy="93816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Text Box 17"/>
          <p:cNvSpPr/>
          <p:nvPr/>
        </p:nvSpPr>
        <p:spPr>
          <a:xfrm>
            <a:off x="5487840" y="3867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Text Box 19"/>
          <p:cNvSpPr/>
          <p:nvPr/>
        </p:nvSpPr>
        <p:spPr>
          <a:xfrm>
            <a:off x="6044760" y="292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篮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101D-E2CD-402D-8DA3-A6E952ACBC9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AutoShape 16"/>
          <p:cNvSpPr/>
          <p:nvPr/>
        </p:nvSpPr>
        <p:spPr>
          <a:xfrm>
            <a:off x="1187280" y="5445000"/>
            <a:ext cx="6409080" cy="81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play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foot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Group 4"/>
          <p:cNvGrpSpPr/>
          <p:nvPr/>
        </p:nvGrpSpPr>
        <p:grpSpPr>
          <a:xfrm>
            <a:off x="1908000" y="0"/>
            <a:ext cx="5950080" cy="990720"/>
            <a:chOff x="1908000" y="0"/>
            <a:chExt cx="5950080" cy="990720"/>
          </a:xfrm>
        </p:grpSpPr>
        <p:pic>
          <p:nvPicPr>
            <p:cNvPr id="1421" name="矩形 25" descr=""/>
            <p:cNvPicPr/>
            <p:nvPr/>
          </p:nvPicPr>
          <p:blipFill>
            <a:blip r:embed="rId1"/>
            <a:stretch/>
          </p:blipFill>
          <p:spPr>
            <a:xfrm>
              <a:off x="1908000" y="0"/>
              <a:ext cx="59500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Text Box 11"/>
            <p:cNvSpPr/>
            <p:nvPr/>
          </p:nvSpPr>
          <p:spPr>
            <a:xfrm>
              <a:off x="1971360" y="151560"/>
              <a:ext cx="58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What </a:t>
              </a:r>
              <a:r>
                <a:rPr b="1" lang="en-US" sz="3200" spc="-1" strike="noStrike">
                  <a:solidFill>
                    <a:srgbClr val="00ff00"/>
                  </a:solidFill>
                  <a:latin typeface="Comic Sans MS"/>
                </a:rPr>
                <a:t>are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they do</a:t>
              </a:r>
              <a:r>
                <a:rPr b="1" lang="en-US" sz="3200" spc="-1" strike="noStrike">
                  <a:solidFill>
                    <a:srgbClr val="ffccff"/>
                  </a:solidFill>
                  <a:latin typeface="Comic Sans MS"/>
                </a:rPr>
                <a:t>ing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3" name="矩形 5"/>
          <p:cNvSpPr/>
          <p:nvPr/>
        </p:nvSpPr>
        <p:spPr>
          <a:xfrm>
            <a:off x="9180360" y="14842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归纳现在分词的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4" name="Picture 8" descr="football2"/>
          <p:cNvPicPr/>
          <p:nvPr/>
        </p:nvPicPr>
        <p:blipFill>
          <a:blip r:embed="rId2"/>
          <a:srcRect l="0" t="6977" r="0" b="4650"/>
          <a:stretch/>
        </p:blipFill>
        <p:spPr>
          <a:xfrm>
            <a:off x="2714760" y="1143000"/>
            <a:ext cx="3895560" cy="2714760"/>
          </a:xfrm>
          <a:prstGeom prst="rect">
            <a:avLst/>
          </a:prstGeom>
          <a:ln w="0">
            <a:noFill/>
          </a:ln>
        </p:spPr>
      </p:pic>
      <p:sp>
        <p:nvSpPr>
          <p:cNvPr id="1425" name="AutoShape 17"/>
          <p:cNvSpPr/>
          <p:nvPr/>
        </p:nvSpPr>
        <p:spPr>
          <a:xfrm>
            <a:off x="4572000" y="2928960"/>
            <a:ext cx="1584360" cy="11509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19080">
            <a:solidFill>
              <a:srgbClr val="d60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AutoShape 15"/>
          <p:cNvSpPr/>
          <p:nvPr/>
        </p:nvSpPr>
        <p:spPr>
          <a:xfrm>
            <a:off x="1187280" y="4149720"/>
            <a:ext cx="2448000" cy="93816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oo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16"/>
          <p:cNvSpPr/>
          <p:nvPr/>
        </p:nvSpPr>
        <p:spPr>
          <a:xfrm>
            <a:off x="4078080" y="4365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足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1" dur="1000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9BC8-10A7-4097-A88E-7029CD8B1B0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AutoShape 16"/>
          <p:cNvSpPr/>
          <p:nvPr/>
        </p:nvSpPr>
        <p:spPr>
          <a:xfrm>
            <a:off x="1332000" y="5157720"/>
            <a:ext cx="6408720" cy="81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tig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do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kung f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Group 4"/>
          <p:cNvGrpSpPr/>
          <p:nvPr/>
        </p:nvGrpSpPr>
        <p:grpSpPr>
          <a:xfrm>
            <a:off x="1908000" y="0"/>
            <a:ext cx="5950080" cy="990720"/>
            <a:chOff x="1908000" y="0"/>
            <a:chExt cx="5950080" cy="990720"/>
          </a:xfrm>
        </p:grpSpPr>
        <p:pic>
          <p:nvPicPr>
            <p:cNvPr id="1431" name="矩形 25" descr=""/>
            <p:cNvPicPr/>
            <p:nvPr/>
          </p:nvPicPr>
          <p:blipFill>
            <a:blip r:embed="rId1"/>
            <a:stretch/>
          </p:blipFill>
          <p:spPr>
            <a:xfrm>
              <a:off x="1908000" y="0"/>
              <a:ext cx="595008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2" name="Text Box 11"/>
            <p:cNvSpPr/>
            <p:nvPr/>
          </p:nvSpPr>
          <p:spPr>
            <a:xfrm>
              <a:off x="1971360" y="151560"/>
              <a:ext cx="58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What </a:t>
              </a:r>
              <a:r>
                <a:rPr b="1" lang="en-US" sz="3200" spc="-1" strike="noStrike">
                  <a:solidFill>
                    <a:srgbClr val="00ff00"/>
                  </a:solidFill>
                  <a:latin typeface="Comic Sans MS"/>
                </a:rPr>
                <a:t>is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the tiger do</a:t>
              </a:r>
              <a:r>
                <a:rPr b="1" lang="en-US" sz="3200" spc="-1" strike="noStrike">
                  <a:solidFill>
                    <a:srgbClr val="ffccff"/>
                  </a:solidFill>
                  <a:latin typeface="Comic Sans MS"/>
                </a:rPr>
                <a:t>ing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矩形 5"/>
          <p:cNvSpPr/>
          <p:nvPr/>
        </p:nvSpPr>
        <p:spPr>
          <a:xfrm>
            <a:off x="9180360" y="14842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归纳现在分词的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4" name="Picture 11" descr="功夫"/>
          <p:cNvPicPr/>
          <p:nvPr/>
        </p:nvPicPr>
        <p:blipFill>
          <a:blip r:embed="rId2"/>
          <a:stretch/>
        </p:blipFill>
        <p:spPr>
          <a:xfrm>
            <a:off x="826920" y="1341360"/>
            <a:ext cx="3181680" cy="2879640"/>
          </a:xfrm>
          <a:prstGeom prst="rect">
            <a:avLst/>
          </a:prstGeom>
          <a:ln w="0">
            <a:noFill/>
          </a:ln>
        </p:spPr>
      </p:pic>
      <p:sp>
        <p:nvSpPr>
          <p:cNvPr id="1435" name="AutoShape 17"/>
          <p:cNvSpPr/>
          <p:nvPr/>
        </p:nvSpPr>
        <p:spPr>
          <a:xfrm>
            <a:off x="642960" y="1857240"/>
            <a:ext cx="1584360" cy="1584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19080">
            <a:solidFill>
              <a:srgbClr val="d60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6" name="Picture 13" descr="功夫2"/>
          <p:cNvPicPr/>
          <p:nvPr/>
        </p:nvPicPr>
        <p:blipFill>
          <a:blip r:embed="rId3"/>
          <a:stretch/>
        </p:blipFill>
        <p:spPr>
          <a:xfrm>
            <a:off x="3419640" y="907920"/>
            <a:ext cx="5249520" cy="3149640"/>
          </a:xfrm>
          <a:prstGeom prst="rect">
            <a:avLst/>
          </a:prstGeom>
          <a:ln w="0">
            <a:noFill/>
          </a:ln>
        </p:spPr>
      </p:pic>
      <p:sp>
        <p:nvSpPr>
          <p:cNvPr id="1437" name="AutoShape 17"/>
          <p:cNvSpPr/>
          <p:nvPr/>
        </p:nvSpPr>
        <p:spPr>
          <a:xfrm>
            <a:off x="4932360" y="692280"/>
            <a:ext cx="3313080" cy="3168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19080">
            <a:solidFill>
              <a:srgbClr val="d60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AutoShape 15"/>
          <p:cNvSpPr/>
          <p:nvPr/>
        </p:nvSpPr>
        <p:spPr>
          <a:xfrm>
            <a:off x="1835280" y="4221000"/>
            <a:ext cx="2016000" cy="72072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 f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Text Box 17"/>
          <p:cNvSpPr/>
          <p:nvPr/>
        </p:nvSpPr>
        <p:spPr>
          <a:xfrm>
            <a:off x="4781520" y="4149720"/>
            <a:ext cx="200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功夫；武术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5" dur="1000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7" dur="1000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F7C4-E8C6-4D49-8476-F0542A06B785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AutoShape 16"/>
          <p:cNvSpPr/>
          <p:nvPr/>
        </p:nvSpPr>
        <p:spPr>
          <a:xfrm>
            <a:off x="1187280" y="5445000"/>
            <a:ext cx="6409080" cy="819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1908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skat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2" name="Group 4"/>
          <p:cNvGrpSpPr/>
          <p:nvPr/>
        </p:nvGrpSpPr>
        <p:grpSpPr>
          <a:xfrm>
            <a:off x="1763640" y="-171360"/>
            <a:ext cx="5950080" cy="990360"/>
            <a:chOff x="1763640" y="-171360"/>
            <a:chExt cx="5950080" cy="990360"/>
          </a:xfrm>
        </p:grpSpPr>
        <p:pic>
          <p:nvPicPr>
            <p:cNvPr id="1443" name="矩形 25" descr=""/>
            <p:cNvPicPr/>
            <p:nvPr/>
          </p:nvPicPr>
          <p:blipFill>
            <a:blip r:embed="rId1"/>
            <a:stretch/>
          </p:blipFill>
          <p:spPr>
            <a:xfrm>
              <a:off x="1763640" y="-171360"/>
              <a:ext cx="595008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Text Box 11"/>
            <p:cNvSpPr/>
            <p:nvPr/>
          </p:nvSpPr>
          <p:spPr>
            <a:xfrm>
              <a:off x="1827000" y="-19440"/>
              <a:ext cx="583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What </a:t>
              </a:r>
              <a:r>
                <a:rPr b="1" lang="en-US" sz="3200" spc="-1" strike="noStrike">
                  <a:solidFill>
                    <a:srgbClr val="00ff00"/>
                  </a:solidFill>
                  <a:latin typeface="Comic Sans MS"/>
                </a:rPr>
                <a:t>are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 the bears do</a:t>
              </a:r>
              <a:r>
                <a:rPr b="1" lang="en-US" sz="3200" spc="-1" strike="noStrike">
                  <a:solidFill>
                    <a:srgbClr val="ffccff"/>
                  </a:solidFill>
                  <a:latin typeface="Comic Sans MS"/>
                </a:rPr>
                <a:t>ing</a:t>
              </a: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5" name="矩形 5"/>
          <p:cNvSpPr/>
          <p:nvPr/>
        </p:nvSpPr>
        <p:spPr>
          <a:xfrm>
            <a:off x="9180360" y="148428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归纳现在分词的构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6" name="Picture 11" descr="skate"/>
          <p:cNvPicPr/>
          <p:nvPr/>
        </p:nvPicPr>
        <p:blipFill>
          <a:blip r:embed="rId2"/>
          <a:stretch/>
        </p:blipFill>
        <p:spPr>
          <a:xfrm>
            <a:off x="2268360" y="765000"/>
            <a:ext cx="3810240" cy="3095640"/>
          </a:xfrm>
          <a:prstGeom prst="rect">
            <a:avLst/>
          </a:prstGeom>
          <a:ln w="0">
            <a:noFill/>
          </a:ln>
        </p:spPr>
      </p:pic>
      <p:sp>
        <p:nvSpPr>
          <p:cNvPr id="1447" name="AutoShape 17"/>
          <p:cNvSpPr/>
          <p:nvPr/>
        </p:nvSpPr>
        <p:spPr>
          <a:xfrm>
            <a:off x="2340000" y="2205000"/>
            <a:ext cx="2736720" cy="1584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19080">
            <a:solidFill>
              <a:srgbClr val="d6009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AutoShape 15"/>
          <p:cNvSpPr/>
          <p:nvPr/>
        </p:nvSpPr>
        <p:spPr>
          <a:xfrm>
            <a:off x="2050920" y="4221000"/>
            <a:ext cx="2016360" cy="720720"/>
          </a:xfrm>
          <a:prstGeom prst="flowChartProcess">
            <a:avLst/>
          </a:prstGeom>
          <a:solidFill>
            <a:srgbClr val="ccffff"/>
          </a:solidFill>
          <a:ln w="381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Text Box 17"/>
          <p:cNvSpPr/>
          <p:nvPr/>
        </p:nvSpPr>
        <p:spPr>
          <a:xfrm>
            <a:off x="4678200" y="4221000"/>
            <a:ext cx="9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溜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4" dur="1000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0" name="Group 3"/>
          <p:cNvGrpSpPr/>
          <p:nvPr/>
        </p:nvGrpSpPr>
        <p:grpSpPr>
          <a:xfrm>
            <a:off x="395280" y="189000"/>
            <a:ext cx="1428840" cy="1214280"/>
            <a:chOff x="395280" y="189000"/>
            <a:chExt cx="1428840" cy="1214280"/>
          </a:xfrm>
        </p:grpSpPr>
        <p:sp>
          <p:nvSpPr>
            <p:cNvPr id="1451" name="椭圆 26"/>
            <p:cNvSpPr/>
            <p:nvPr/>
          </p:nvSpPr>
          <p:spPr>
            <a:xfrm>
              <a:off x="1389240" y="646200"/>
              <a:ext cx="204840" cy="15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2" name="Group 5"/>
            <p:cNvGrpSpPr/>
            <p:nvPr/>
          </p:nvGrpSpPr>
          <p:grpSpPr>
            <a:xfrm>
              <a:off x="395280" y="189000"/>
              <a:ext cx="1428840" cy="1214280"/>
              <a:chOff x="395280" y="189000"/>
              <a:chExt cx="1428840" cy="1214280"/>
            </a:xfrm>
          </p:grpSpPr>
          <p:sp>
            <p:nvSpPr>
              <p:cNvPr id="1453" name="矩形 28"/>
              <p:cNvSpPr/>
              <p:nvPr/>
            </p:nvSpPr>
            <p:spPr>
              <a:xfrm>
                <a:off x="1128600" y="476280"/>
                <a:ext cx="204840" cy="112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54" name="图片 29" descr="幻灯片1_图层 1.jpg"/>
              <p:cNvPicPr/>
              <p:nvPr/>
            </p:nvPicPr>
            <p:blipFill>
              <a:blip r:embed="rId1"/>
              <a:stretch/>
            </p:blipFill>
            <p:spPr>
              <a:xfrm>
                <a:off x="395280" y="189000"/>
                <a:ext cx="1428840" cy="1214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455" name="Picture 12" descr="basketball6"/>
          <p:cNvPicPr/>
          <p:nvPr/>
        </p:nvPicPr>
        <p:blipFill>
          <a:blip r:embed="rId2"/>
          <a:stretch/>
        </p:blipFill>
        <p:spPr>
          <a:xfrm>
            <a:off x="684360" y="3348000"/>
            <a:ext cx="2808000" cy="2419560"/>
          </a:xfrm>
          <a:prstGeom prst="rect">
            <a:avLst/>
          </a:prstGeom>
          <a:ln w="0">
            <a:noFill/>
          </a:ln>
        </p:spPr>
      </p:pic>
      <p:sp>
        <p:nvSpPr>
          <p:cNvPr id="1456" name="AutoShape 13"/>
          <p:cNvSpPr/>
          <p:nvPr/>
        </p:nvSpPr>
        <p:spPr>
          <a:xfrm>
            <a:off x="324000" y="2421000"/>
            <a:ext cx="4319280" cy="6476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8440">
            <a:solidFill>
              <a:srgbClr val="ff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 am play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o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AutoShape 14"/>
          <p:cNvSpPr/>
          <p:nvPr/>
        </p:nvSpPr>
        <p:spPr>
          <a:xfrm>
            <a:off x="4857840" y="5950080"/>
            <a:ext cx="4286160" cy="5032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8440">
            <a:solidFill>
              <a:srgbClr val="ff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  am do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kung f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AutoShape 15"/>
          <p:cNvSpPr/>
          <p:nvPr/>
        </p:nvSpPr>
        <p:spPr>
          <a:xfrm>
            <a:off x="5724360" y="2637000"/>
            <a:ext cx="2592720" cy="5029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8440">
            <a:solidFill>
              <a:srgbClr val="ff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 am skat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AutoShape 17"/>
          <p:cNvSpPr/>
          <p:nvPr/>
        </p:nvSpPr>
        <p:spPr>
          <a:xfrm>
            <a:off x="0" y="5929200"/>
            <a:ext cx="474804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8440">
            <a:solidFill>
              <a:srgbClr val="ff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 am play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0" name="Picture 7" descr="2"/>
          <p:cNvPicPr/>
          <p:nvPr/>
        </p:nvPicPr>
        <p:blipFill>
          <a:blip r:embed="rId3"/>
          <a:stretch/>
        </p:blipFill>
        <p:spPr>
          <a:xfrm>
            <a:off x="5508720" y="189000"/>
            <a:ext cx="2592360" cy="2394000"/>
          </a:xfrm>
          <a:prstGeom prst="rect">
            <a:avLst/>
          </a:prstGeom>
          <a:ln w="0">
            <a:noFill/>
          </a:ln>
        </p:spPr>
      </p:pic>
      <p:pic>
        <p:nvPicPr>
          <p:cNvPr id="1461" name="Picture 8" descr="u=1134238354,2363469123&amp;fm=21&amp;gp=0"/>
          <p:cNvPicPr/>
          <p:nvPr/>
        </p:nvPicPr>
        <p:blipFill>
          <a:blip r:embed="rId4"/>
          <a:srcRect l="0" t="0" r="0" b="7902"/>
          <a:stretch/>
        </p:blipFill>
        <p:spPr>
          <a:xfrm>
            <a:off x="5580000" y="3573360"/>
            <a:ext cx="2735280" cy="1998720"/>
          </a:xfrm>
          <a:prstGeom prst="rect">
            <a:avLst/>
          </a:prstGeom>
          <a:ln w="0">
            <a:noFill/>
          </a:ln>
        </p:spPr>
      </p:pic>
      <p:pic>
        <p:nvPicPr>
          <p:cNvPr id="1462" name="图片 75" descr="u=47762242,2195113595&amp;fm=21&amp;gp=0.jpg"/>
          <p:cNvPicPr/>
          <p:nvPr/>
        </p:nvPicPr>
        <p:blipFill>
          <a:blip r:embed="rId5"/>
          <a:stretch/>
        </p:blipFill>
        <p:spPr>
          <a:xfrm>
            <a:off x="611280" y="0"/>
            <a:ext cx="324000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6E07-F2F6-4D1C-B6F2-256934512820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5"/>
          <p:cNvSpPr/>
          <p:nvPr/>
        </p:nvSpPr>
        <p:spPr>
          <a:xfrm>
            <a:off x="9144000" y="1143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创设情境：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o you know this cute girl? 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引出小丸子对自己忙碌、高兴的一天的介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5" name="Picture 9" descr="129983~1"/>
          <p:cNvPicPr/>
          <p:nvPr/>
        </p:nvPicPr>
        <p:blipFill>
          <a:blip r:embed="rId1"/>
          <a:srcRect l="0" t="17603" r="0" b="5396"/>
          <a:stretch/>
        </p:blipFill>
        <p:spPr>
          <a:xfrm>
            <a:off x="1857240" y="1500120"/>
            <a:ext cx="4824720" cy="3714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0000"/>
              </a:srgbClr>
            </a:outerShdw>
          </a:effectLst>
        </p:spPr>
      </p:pic>
      <p:grpSp>
        <p:nvGrpSpPr>
          <p:cNvPr id="1466" name="Group 5"/>
          <p:cNvGrpSpPr/>
          <p:nvPr/>
        </p:nvGrpSpPr>
        <p:grpSpPr>
          <a:xfrm>
            <a:off x="2852640" y="55440"/>
            <a:ext cx="3505320" cy="998640"/>
            <a:chOff x="2852640" y="55440"/>
            <a:chExt cx="3505320" cy="998640"/>
          </a:xfrm>
        </p:grpSpPr>
        <p:pic>
          <p:nvPicPr>
            <p:cNvPr id="1467" name="矩形 25" descr=""/>
            <p:cNvPicPr/>
            <p:nvPr/>
          </p:nvPicPr>
          <p:blipFill>
            <a:blip r:embed="rId2"/>
            <a:stretch/>
          </p:blipFill>
          <p:spPr>
            <a:xfrm>
              <a:off x="2852640" y="55440"/>
              <a:ext cx="35053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Text Box 15"/>
            <p:cNvSpPr/>
            <p:nvPr/>
          </p:nvSpPr>
          <p:spPr>
            <a:xfrm>
              <a:off x="2907000" y="210960"/>
              <a:ext cx="340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omic Sans MS"/>
                </a:rPr>
                <a:t>Let’s try.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9" name="Group 8"/>
          <p:cNvGrpSpPr/>
          <p:nvPr/>
        </p:nvGrpSpPr>
        <p:grpSpPr>
          <a:xfrm>
            <a:off x="5132520" y="1238400"/>
            <a:ext cx="3992400" cy="1852560"/>
            <a:chOff x="5132520" y="1238400"/>
            <a:chExt cx="3992400" cy="1852560"/>
          </a:xfrm>
        </p:grpSpPr>
        <p:pic>
          <p:nvPicPr>
            <p:cNvPr id="1470" name="圆角矩形标注 18" descr=""/>
            <p:cNvPicPr/>
            <p:nvPr/>
          </p:nvPicPr>
          <p:blipFill>
            <a:blip r:embed="rId3"/>
            <a:stretch/>
          </p:blipFill>
          <p:spPr>
            <a:xfrm>
              <a:off x="5132520" y="1238400"/>
              <a:ext cx="39924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Text Box 10"/>
            <p:cNvSpPr/>
            <p:nvPr/>
          </p:nvSpPr>
          <p:spPr>
            <a:xfrm>
              <a:off x="5707080" y="1420920"/>
              <a:ext cx="3230640" cy="11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2" name="TextBox 17"/>
          <p:cNvSpPr/>
          <p:nvPr/>
        </p:nvSpPr>
        <p:spPr>
          <a:xfrm>
            <a:off x="5867280" y="1268280"/>
            <a:ext cx="3888000" cy="14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8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llo. I 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zo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6E16A-B9D7-41C5-B3C7-ADDC31B2C7AC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5"/>
          <p:cNvSpPr/>
          <p:nvPr/>
        </p:nvSpPr>
        <p:spPr>
          <a:xfrm>
            <a:off x="9144000" y="19288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icture talking: 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引出现在进行时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! I am …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5" name="Group 4"/>
          <p:cNvGrpSpPr/>
          <p:nvPr/>
        </p:nvGrpSpPr>
        <p:grpSpPr>
          <a:xfrm>
            <a:off x="108000" y="1535040"/>
            <a:ext cx="8964720" cy="4751280"/>
            <a:chOff x="108000" y="1535040"/>
            <a:chExt cx="8964720" cy="4751280"/>
          </a:xfrm>
        </p:grpSpPr>
        <p:pic>
          <p:nvPicPr>
            <p:cNvPr id="1476" name="Picture 4" descr="相框"/>
            <p:cNvPicPr/>
            <p:nvPr/>
          </p:nvPicPr>
          <p:blipFill>
            <a:blip r:embed="rId1"/>
            <a:srcRect l="666" t="4683" r="12069" b="15997"/>
            <a:stretch/>
          </p:blipFill>
          <p:spPr>
            <a:xfrm>
              <a:off x="108000" y="1535040"/>
              <a:ext cx="8964720" cy="47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7" name="Picture 5" descr="8BCD6B~1"/>
            <p:cNvPicPr/>
            <p:nvPr/>
          </p:nvPicPr>
          <p:blipFill>
            <a:blip r:embed="rId2"/>
            <a:srcRect l="23645" t="45661" r="0" b="0"/>
            <a:stretch/>
          </p:blipFill>
          <p:spPr>
            <a:xfrm>
              <a:off x="574560" y="3699360"/>
              <a:ext cx="1989360" cy="220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8" name="Group 7"/>
          <p:cNvGrpSpPr/>
          <p:nvPr/>
        </p:nvGrpSpPr>
        <p:grpSpPr>
          <a:xfrm>
            <a:off x="611280" y="1841400"/>
            <a:ext cx="2015640" cy="2016000"/>
            <a:chOff x="611280" y="1841400"/>
            <a:chExt cx="2015640" cy="2016000"/>
          </a:xfrm>
        </p:grpSpPr>
        <p:grpSp>
          <p:nvGrpSpPr>
            <p:cNvPr id="1479" name="Group 8"/>
            <p:cNvGrpSpPr/>
            <p:nvPr/>
          </p:nvGrpSpPr>
          <p:grpSpPr>
            <a:xfrm>
              <a:off x="611280" y="1841400"/>
              <a:ext cx="869760" cy="717840"/>
              <a:chOff x="611280" y="1841400"/>
              <a:chExt cx="869760" cy="717840"/>
            </a:xfrm>
          </p:grpSpPr>
          <p:pic>
            <p:nvPicPr>
              <p:cNvPr id="1480" name="WordAr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280" y="1841400"/>
                <a:ext cx="869760" cy="71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Text Box 12"/>
              <p:cNvSpPr/>
              <p:nvPr/>
            </p:nvSpPr>
            <p:spPr>
              <a:xfrm>
                <a:off x="680760" y="1877040"/>
                <a:ext cx="747000" cy="60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cc"/>
                    </a:solidFill>
                    <a:latin typeface="Comic Sans MS"/>
                  </a:rPr>
                  <a:t>In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2" name="Group 11"/>
            <p:cNvGrpSpPr/>
            <p:nvPr/>
          </p:nvGrpSpPr>
          <p:grpSpPr>
            <a:xfrm>
              <a:off x="866880" y="2405520"/>
              <a:ext cx="1260000" cy="815040"/>
              <a:chOff x="866880" y="2405520"/>
              <a:chExt cx="1260000" cy="815040"/>
            </a:xfrm>
          </p:grpSpPr>
          <p:pic>
            <p:nvPicPr>
              <p:cNvPr id="1483" name="WordArt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866880" y="2405520"/>
                <a:ext cx="1260000" cy="81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4" name="Text Box 15"/>
              <p:cNvSpPr/>
              <p:nvPr/>
            </p:nvSpPr>
            <p:spPr>
              <a:xfrm rot="21280800">
                <a:off x="949320" y="2487600"/>
                <a:ext cx="1073880" cy="60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cc"/>
                    </a:solidFill>
                    <a:latin typeface="Comic Sans MS"/>
                  </a:rPr>
                  <a:t>The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Group 14"/>
            <p:cNvGrpSpPr/>
            <p:nvPr/>
          </p:nvGrpSpPr>
          <p:grpSpPr>
            <a:xfrm>
              <a:off x="1621440" y="3139920"/>
              <a:ext cx="1005480" cy="717480"/>
              <a:chOff x="1621440" y="3139920"/>
              <a:chExt cx="1005480" cy="717480"/>
            </a:xfrm>
          </p:grpSpPr>
          <p:pic>
            <p:nvPicPr>
              <p:cNvPr id="1486" name="WordAr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21440" y="3139920"/>
                <a:ext cx="1005480" cy="717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7" name="Text Box 18"/>
              <p:cNvSpPr/>
              <p:nvPr/>
            </p:nvSpPr>
            <p:spPr>
              <a:xfrm>
                <a:off x="1687680" y="3175560"/>
                <a:ext cx="871200" cy="60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66cc"/>
                    </a:solidFill>
                    <a:latin typeface="Comic Sans MS"/>
                  </a:rPr>
                  <a:t>Zoo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8" name="Group 17"/>
          <p:cNvGrpSpPr/>
          <p:nvPr/>
        </p:nvGrpSpPr>
        <p:grpSpPr>
          <a:xfrm>
            <a:off x="0" y="189000"/>
            <a:ext cx="2016000" cy="990360"/>
            <a:chOff x="0" y="189000"/>
            <a:chExt cx="2016000" cy="990360"/>
          </a:xfrm>
        </p:grpSpPr>
        <p:pic>
          <p:nvPicPr>
            <p:cNvPr id="1489" name="Picture 17" descr="143144~1"/>
            <p:cNvPicPr/>
            <p:nvPr/>
          </p:nvPicPr>
          <p:blipFill>
            <a:blip r:embed="rId6"/>
            <a:stretch/>
          </p:blipFill>
          <p:spPr>
            <a:xfrm>
              <a:off x="0" y="189000"/>
              <a:ext cx="190656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0" name="矩形 25"/>
            <p:cNvSpPr/>
            <p:nvPr/>
          </p:nvSpPr>
          <p:spPr>
            <a:xfrm>
              <a:off x="360360" y="536760"/>
              <a:ext cx="16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d60093"/>
                  </a:solidFill>
                  <a:latin typeface="Comic Sans MS"/>
                </a:rPr>
                <a:t>Look!</a:t>
              </a:r>
              <a:r>
                <a:rPr b="0" lang="en-US" sz="32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1" name="Picture 21" descr="跳高"/>
          <p:cNvPicPr/>
          <p:nvPr/>
        </p:nvPicPr>
        <p:blipFill>
          <a:blip r:embed="rId7"/>
          <a:srcRect l="0" t="0" r="0" b="16916"/>
          <a:stretch/>
        </p:blipFill>
        <p:spPr>
          <a:xfrm>
            <a:off x="4859280" y="1773360"/>
            <a:ext cx="2597040" cy="1941480"/>
          </a:xfrm>
          <a:prstGeom prst="rect">
            <a:avLst/>
          </a:prstGeom>
          <a:ln w="0">
            <a:noFill/>
          </a:ln>
        </p:spPr>
      </p:pic>
      <p:sp>
        <p:nvSpPr>
          <p:cNvPr id="1492" name="Text Box 22"/>
          <p:cNvSpPr/>
          <p:nvPr/>
        </p:nvSpPr>
        <p:spPr>
          <a:xfrm>
            <a:off x="2050920" y="18900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e are my photos in the zoo. Let’s see what are the animals do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 Box 23"/>
          <p:cNvSpPr/>
          <p:nvPr/>
        </p:nvSpPr>
        <p:spPr>
          <a:xfrm>
            <a:off x="3564000" y="43657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, the rabbit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Text Box 24"/>
          <p:cNvSpPr/>
          <p:nvPr/>
        </p:nvSpPr>
        <p:spPr>
          <a:xfrm>
            <a:off x="3708360" y="4797360"/>
            <a:ext cx="45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e h</a:t>
            </a:r>
            <a:r>
              <a:rPr b="1" lang="en-US" sz="3200" spc="-1" strike="noStrike" u="sng">
                <a:solidFill>
                  <a:srgbClr val="c00000"/>
                </a:solidFill>
                <a:uFillTx/>
                <a:latin typeface="Arial"/>
              </a:rPr>
              <a:t>i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h j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u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Text Box 25"/>
          <p:cNvSpPr/>
          <p:nvPr/>
        </p:nvSpPr>
        <p:spPr>
          <a:xfrm>
            <a:off x="5286240" y="53578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跳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6T19:49:00Z</dcterms:created>
  <dc:creator>SAMSUNG</dc:creator>
  <dc:description/>
  <cp:keywords/>
  <dc:language>en-US</dc:language>
  <cp:lastModifiedBy>dreamsummit</cp:lastModifiedBy>
  <dcterms:modified xsi:type="dcterms:W3CDTF">2016-01-28T02:29:36Z</dcterms:modified>
  <cp:revision>26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