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2.gif" ContentType="image/gif"/>
  <Override PartName="/ppt/media/image25.jpeg" ContentType="image/jpeg"/>
  <Override PartName="/ppt/media/suction.wav" ContentType="audio/x-wav"/>
  <Override PartName="/ppt/media/image21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30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29.png" ContentType="image/png"/>
  <Override PartName="/ppt/media/image31.jpeg" ContentType="image/jpeg"/>
  <Override PartName="/ppt/media/image32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7.png" ContentType="image/png"/>
  <Override PartName="/ppt/media/camera.wav" ContentType="audio/x-wav"/>
  <Override PartName="/ppt/media/image13.png" ContentType="image/png"/>
  <Override PartName="/ppt/media/image12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whoosh.wav" ContentType="audio/x-wav"/>
  <Override PartName="/ppt/media/image27.gif" ContentType="image/gif"/>
  <Override PartName="/ppt/media/image40.gif" ContentType="image/gif"/>
  <Override PartName="/ppt/media/image3.png" ContentType="image/png"/>
  <Override PartName="/ppt/media/image17.jpeg" ContentType="image/jpeg"/>
  <Override PartName="/ppt/media/image28.png" ContentType="image/png"/>
  <Override PartName="/ppt/media/image7.jpeg" ContentType="image/jpeg"/>
  <Override PartName="/ppt/media/image5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8E5-7C06-42A8-B93C-C3F377BF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E63-696C-41A6-8D48-D00659B3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E6B-7FCF-4BC4-9443-0881812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C7D-1389-4845-B3E3-8C900A3A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3B1-8BB0-4DAC-B15B-515E4320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7B4-57C5-4BB5-A278-3CC440E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5D9-408A-4093-8284-CE8CC086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743-C210-462E-B63B-4A40FFE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76B-FC46-4BB3-985C-FC5CCD1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E4F-F447-490A-B6AF-1D33C673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D35-365D-492B-ABF9-CAD4782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286-DD6C-41C8-BD69-010985D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B7C-B2CE-4BDC-8DE9-299CD80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CA9B-E887-4AFA-B9A6-7A68D313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19320" y="685800"/>
            <a:ext cx="79246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ule 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My everyday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5 what day is it toda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340000" y="404640"/>
            <a:ext cx="29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ur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5" name="WordArt 3"/>
          <p:cNvSpPr txBox="1"/>
          <p:nvPr/>
        </p:nvSpPr>
        <p:spPr>
          <a:xfrm>
            <a:off x="2914560" y="69228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r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690560" y="2782800"/>
            <a:ext cx="1081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Th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3778200" y="3141720"/>
            <a:ext cx="43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4356000" y="2852640"/>
            <a:ext cx="165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49" name="Picture 7" descr="中国教育出版网"/>
          <p:cNvPicPr/>
          <p:nvPr/>
        </p:nvPicPr>
        <p:blipFill>
          <a:blip r:embed="rId1"/>
          <a:stretch/>
        </p:blipFill>
        <p:spPr>
          <a:xfrm>
            <a:off x="5003640" y="4581360"/>
            <a:ext cx="3384720" cy="212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中国教育出版网"/>
          <p:cNvPicPr/>
          <p:nvPr/>
        </p:nvPicPr>
        <p:blipFill>
          <a:blip r:embed="rId2"/>
          <a:stretch/>
        </p:blipFill>
        <p:spPr>
          <a:xfrm>
            <a:off x="6084720" y="476280"/>
            <a:ext cx="252432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Motion origin="layout" path="M -0.00799 0.07886 L -0.01164 0.37257 E">
                                      <p:cBhvr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3276000" y="1844640"/>
            <a:ext cx="21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i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2771640" y="198900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r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2124000" y="1628640"/>
            <a:ext cx="5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F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708360" y="1628640"/>
            <a:ext cx="165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55" name="Picture 6" descr="中国教育出版网"/>
          <p:cNvPicPr/>
          <p:nvPr/>
        </p:nvPicPr>
        <p:blipFill>
          <a:blip r:embed="rId1"/>
          <a:stretch/>
        </p:blipFill>
        <p:spPr>
          <a:xfrm>
            <a:off x="5364000" y="2806560"/>
            <a:ext cx="3227400" cy="4051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中国教育出版网"/>
          <p:cNvPicPr/>
          <p:nvPr/>
        </p:nvPicPr>
        <p:blipFill>
          <a:blip r:embed="rId2"/>
          <a:srcRect l="0" t="0" r="0" b="16309"/>
          <a:stretch/>
        </p:blipFill>
        <p:spPr>
          <a:xfrm>
            <a:off x="5148360" y="3500280"/>
            <a:ext cx="3600360" cy="22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2"/>
          <p:cNvSpPr/>
          <p:nvPr/>
        </p:nvSpPr>
        <p:spPr>
          <a:xfrm>
            <a:off x="5226120" y="457200"/>
            <a:ext cx="307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urple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中国教育出版网"/>
          <p:cNvPicPr/>
          <p:nvPr/>
        </p:nvPicPr>
        <p:blipFill>
          <a:blip r:embed="rId1"/>
          <a:stretch/>
        </p:blipFill>
        <p:spPr>
          <a:xfrm>
            <a:off x="2700360" y="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898560" y="47628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p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828720" y="69228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a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250920" y="242100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s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5791320" y="685800"/>
            <a:ext cx="7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r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1476360" y="2349360"/>
            <a:ext cx="35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t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700360" y="2421000"/>
            <a:ext cx="1222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65" name="Picture 11" descr="中国教育出版网"/>
          <p:cNvPicPr/>
          <p:nvPr/>
        </p:nvPicPr>
        <p:blipFill>
          <a:blip r:embed="rId2"/>
          <a:stretch/>
        </p:blipFill>
        <p:spPr>
          <a:xfrm>
            <a:off x="3995640" y="3225960"/>
            <a:ext cx="4327560" cy="3082680"/>
          </a:xfrm>
          <a:prstGeom prst="rect">
            <a:avLst/>
          </a:prstGeom>
          <a:ln w="0">
            <a:noFill/>
          </a:ln>
        </p:spPr>
      </p:pic>
      <p:sp>
        <p:nvSpPr>
          <p:cNvPr id="166" name="Oval 13"/>
          <p:cNvSpPr/>
          <p:nvPr/>
        </p:nvSpPr>
        <p:spPr>
          <a:xfrm>
            <a:off x="8001000" y="0"/>
            <a:ext cx="114300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Motion origin="layout" path="M -1.11111E-006 -1.75763E-006 L 0.00399 0.28839 E">
                                      <p:cBhvr>
                                        <p:cTn id="23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animMotion origin="layout" path="M 3.61111E-006 -1.9519E-006 L -0.43299 0.2833 E">
                                      <p:cBhvr>
                                        <p:cTn id="25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rcRect l="0" t="0" r="0" b="7611"/>
          <a:stretch/>
        </p:blipFill>
        <p:spPr>
          <a:xfrm>
            <a:off x="0" y="-152280"/>
            <a:ext cx="9334440" cy="6476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520" y="5486040"/>
            <a:ext cx="8458200" cy="1066680"/>
          </a:xfrm>
          <a:prstGeom prst="rect">
            <a:avLst/>
          </a:prstGeom>
          <a:solidFill>
            <a:srgbClr val="f8250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缩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.  Tue.   Wed.   Thur.    Fri.   Sat.  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04560" y="2209320"/>
            <a:ext cx="8458200" cy="304812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在西方国家一周的第一天是周几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圣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上帝是星期一到星期六创造了世界，星期日休息，所以犹太教和基督教星期日要做礼拜，这一天他们叫做“礼拜日”，而一周七天称“一个礼拜”。敬神自然要优先，所以放在每星期的第一天来做，</a:t>
            </a:r>
            <a:r>
              <a:rPr b="1" lang="zh-CN" sz="2400" spc="-1" strike="noStrike">
                <a:solidFill>
                  <a:srgbClr val="f82502"/>
                </a:solidFill>
                <a:latin typeface="Arial"/>
              </a:rPr>
              <a:t>于是星期日也就是每周的第一天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另外，从语义上来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da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太阳日的意思，太阳是所有天体中对人来说最伟大的，这一天当然是一周之中最重要的一天，自然应该用来敬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1066680" y="762120"/>
            <a:ext cx="3733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拓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8305920" y="6477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rcRect l="0" t="0" r="0" b="9115"/>
          <a:stretch/>
        </p:blipFill>
        <p:spPr>
          <a:xfrm>
            <a:off x="-19080" y="-19080"/>
            <a:ext cx="9182160" cy="6267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用英语提问今天是周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29528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 day is it today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3520" y="4495680"/>
            <a:ext cx="8076960" cy="1068840"/>
          </a:xfrm>
          <a:prstGeom prst="rect">
            <a:avLst/>
          </a:prstGeom>
          <a:solidFill>
            <a:srgbClr val="f82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What day is it tomorrow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’s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" y="3124080"/>
            <a:ext cx="8229600" cy="1143000"/>
          </a:xfrm>
          <a:prstGeom prst="rect">
            <a:avLst/>
          </a:prstGeom>
          <a:solidFill>
            <a:srgbClr val="f82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思考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怎样用英语提问明天是周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600200" y="2057400"/>
            <a:ext cx="1828800" cy="53352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676520" y="5029200"/>
            <a:ext cx="1904760" cy="4572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2502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3" descr="0008262"/>
          <p:cNvPicPr/>
          <p:nvPr/>
        </p:nvPicPr>
        <p:blipFill>
          <a:blip r:embed="rId2"/>
          <a:stretch/>
        </p:blipFill>
        <p:spPr>
          <a:xfrm>
            <a:off x="7391520" y="57340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746748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480" y="907920"/>
            <a:ext cx="90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Miss Zh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: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Good morning,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  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What day is it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82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2502"/>
                </a:solidFill>
                <a:latin typeface="Times New Roman"/>
                <a:ea typeface="方正姚体"/>
              </a:rPr>
              <a:t>Students: It’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Miss Zhou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Yes, it’s Mon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  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Write it in y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82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2502"/>
                </a:solidFill>
                <a:latin typeface="Times New Roman"/>
                <a:ea typeface="方正姚体"/>
              </a:rPr>
              <a:t>Students: M-O-N-D-A-Y,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Miss Zho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82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2502"/>
                </a:solidFill>
                <a:latin typeface="Times New Roman"/>
                <a:ea typeface="方正姚体"/>
              </a:rPr>
              <a:t>Students: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Miss Zhou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Yes, tomorrow is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中国教育出版网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9144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010280" cy="914400"/>
          </a:xfrm>
          <a:prstGeom prst="rect">
            <a:avLst/>
          </a:prstGeom>
          <a:solidFill>
            <a:srgbClr val="f825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Listen and re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p_large_wlfw_2dee000034a22d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10480" cy="380988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 is Wednesday. What day is it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morrow is 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 is Friday. What day is it 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morrow is__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 is Monday. What day is it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morrow is__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 is Saturday. What day is it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morrow is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666880" y="182880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819520" y="2743200"/>
            <a:ext cx="167616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743200" y="373392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es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2819520" y="4648320"/>
            <a:ext cx="167616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380880"/>
            <a:ext cx="6095880" cy="764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 and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7467480" y="6400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3. Read and match and then     listen and che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oday is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oday is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oday i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oday is Satu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248520" y="1905120"/>
            <a:ext cx="22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248160" y="2971800"/>
            <a:ext cx="23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324480" y="3962520"/>
            <a:ext cx="24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324480" y="5029200"/>
            <a:ext cx="24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d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257800" y="2514600"/>
            <a:ext cx="1219320" cy="1676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5334120" y="3581280"/>
            <a:ext cx="1066680" cy="17528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 flipV="1">
            <a:off x="5410080" y="3276720"/>
            <a:ext cx="1067040" cy="13716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 flipV="1">
            <a:off x="5486400" y="2209320"/>
            <a:ext cx="990720" cy="3429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中国教育出版网"/>
          <p:cNvPicPr/>
          <p:nvPr/>
        </p:nvPicPr>
        <p:blipFill>
          <a:blip r:embed="rId1"/>
          <a:srcRect l="0" t="0" r="0" b="7361"/>
          <a:stretch/>
        </p:blipFill>
        <p:spPr>
          <a:xfrm>
            <a:off x="6934320" y="0"/>
            <a:ext cx="22096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457560" y="-360"/>
            <a:ext cx="102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4.Work in pairs. Ask and answ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981000"/>
          <a:ext cx="8229600" cy="3111480"/>
        </p:xfrm>
        <a:graphic>
          <a:graphicData uri="http://schemas.openxmlformats.org/drawingml/2006/table">
            <a:tbl>
              <a:tblPr/>
              <a:tblGrid>
                <a:gridCol w="1287360"/>
                <a:gridCol w="1217520"/>
                <a:gridCol w="1154160"/>
                <a:gridCol w="1150920"/>
                <a:gridCol w="1150920"/>
                <a:gridCol w="1084320"/>
                <a:gridCol w="118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Picture 61" descr="中国教育出版网"/>
          <p:cNvPicPr/>
          <p:nvPr/>
        </p:nvPicPr>
        <p:blipFill>
          <a:blip r:embed="rId1"/>
          <a:stretch/>
        </p:blipFill>
        <p:spPr>
          <a:xfrm>
            <a:off x="2987640" y="5013360"/>
            <a:ext cx="1441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2" descr="中国教育出版网"/>
          <p:cNvPicPr/>
          <p:nvPr/>
        </p:nvPicPr>
        <p:blipFill>
          <a:blip r:embed="rId2"/>
          <a:stretch/>
        </p:blipFill>
        <p:spPr>
          <a:xfrm>
            <a:off x="5219640" y="4941720"/>
            <a:ext cx="1513080" cy="1511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3"/>
          <p:cNvSpPr/>
          <p:nvPr/>
        </p:nvSpPr>
        <p:spPr>
          <a:xfrm>
            <a:off x="594360" y="4405320"/>
            <a:ext cx="25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4"/>
          <p:cNvSpPr/>
          <p:nvPr/>
        </p:nvSpPr>
        <p:spPr>
          <a:xfrm rot="10800000">
            <a:off x="539640" y="4436640"/>
            <a:ext cx="2021040" cy="1513080"/>
          </a:xfrm>
          <a:prstGeom prst="wedgeRoundRectCallout">
            <a:avLst>
              <a:gd name="adj1" fmla="val -84879"/>
              <a:gd name="adj2" fmla="val -18208"/>
              <a:gd name="adj3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5"/>
          <p:cNvSpPr/>
          <p:nvPr/>
        </p:nvSpPr>
        <p:spPr>
          <a:xfrm>
            <a:off x="7073280" y="500364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6"/>
          <p:cNvSpPr/>
          <p:nvPr/>
        </p:nvSpPr>
        <p:spPr>
          <a:xfrm>
            <a:off x="6948360" y="5013360"/>
            <a:ext cx="1870200" cy="609480"/>
          </a:xfrm>
          <a:prstGeom prst="wedgeRoundRectCallout">
            <a:avLst>
              <a:gd name="adj1" fmla="val -71393"/>
              <a:gd name="adj2" fmla="val 83592"/>
              <a:gd name="adj3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7"/>
          <p:cNvSpPr/>
          <p:nvPr/>
        </p:nvSpPr>
        <p:spPr>
          <a:xfrm>
            <a:off x="4114800" y="2514600"/>
            <a:ext cx="1008000" cy="576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8"/>
          <p:cNvSpPr/>
          <p:nvPr/>
        </p:nvSpPr>
        <p:spPr>
          <a:xfrm>
            <a:off x="4140360" y="836640"/>
            <a:ext cx="914400" cy="8636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99072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5. Listen and wr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59280" y="1341360"/>
            <a:ext cx="29005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859280" y="2565360"/>
            <a:ext cx="29736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003640" y="3860640"/>
            <a:ext cx="29210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297440" y="137160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220760" y="26668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144440" y="396252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220760" y="5181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411880" y="1752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5258880" y="297180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522760" y="478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488200" y="426708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学习重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词汇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day .Tuesday .Wednesday 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rsday . Friday . Saturday . Sun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型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hat day is it today?       –It’s Monda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hat day is it tomorrow?   –It’s Tuesda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学习目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S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单词：所有学生能够听读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学生可以听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背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熟练运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重点句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6. Write.  And then listen and chec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______ is it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oday is Tues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morrow is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ursday, Friday,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_________, Monday, Tue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It’s Wednesday to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morrow is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363400" y="152388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506760" y="289548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573080" y="350532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144800" y="41911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06760" y="54864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64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7.Work in pairs. Ask and answ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hat day is it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t’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t’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My favourite day i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your favourit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t’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909800" y="32846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4802400" y="3886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836720" y="206064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中国教育出版网"/>
          <p:cNvPicPr/>
          <p:nvPr/>
        </p:nvPicPr>
        <p:blipFill>
          <a:blip r:embed="rId1"/>
          <a:stretch/>
        </p:blipFill>
        <p:spPr>
          <a:xfrm>
            <a:off x="7315200" y="1752480"/>
            <a:ext cx="1600200" cy="1511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"/>
          <p:cNvSpPr/>
          <p:nvPr/>
        </p:nvSpPr>
        <p:spPr>
          <a:xfrm>
            <a:off x="12193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514600" y="152280"/>
            <a:ext cx="2438280" cy="703440"/>
          </a:xfrm>
          <a:prstGeom prst="rect">
            <a:avLst/>
          </a:prstGeom>
          <a:solidFill>
            <a:srgbClr val="7de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2502"/>
                </a:solidFill>
                <a:latin typeface="Arial"/>
              </a:rPr>
              <a:t>Let’s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990720"/>
            <a:ext cx="74674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ay ____   ____ 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ay ____   ____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What day ____   ____ 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ay ____   ____ 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4674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238880" y="1600200"/>
            <a:ext cx="17528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590920" y="914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733920" y="914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371600" y="1600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中国教育出版网"/>
          <p:cNvPicPr/>
          <p:nvPr/>
        </p:nvPicPr>
        <p:blipFill>
          <a:blip r:embed="rId2"/>
          <a:stretch/>
        </p:blipFill>
        <p:spPr>
          <a:xfrm>
            <a:off x="7227720" y="4191120"/>
            <a:ext cx="1916280" cy="19810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2"/>
          <p:cNvSpPr/>
          <p:nvPr/>
        </p:nvSpPr>
        <p:spPr>
          <a:xfrm>
            <a:off x="7391520" y="3962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7315200" y="38862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2514600" y="3886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3733920" y="3809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160020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2590920" y="53341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886200" y="5257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3962520" y="2362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274320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447920" y="3048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1905120" y="594360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5181480" y="6094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523880" y="1905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600200" y="609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n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5181480" y="190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5238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5181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523880" y="4343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352680" y="533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中国教育出版网"/>
          <p:cNvPicPr/>
          <p:nvPr/>
        </p:nvPicPr>
        <p:blipFill>
          <a:blip r:embed="rId1"/>
          <a:stretch/>
        </p:blipFill>
        <p:spPr>
          <a:xfrm>
            <a:off x="5029200" y="4038480"/>
            <a:ext cx="2174760" cy="28195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752480" y="1828800"/>
            <a:ext cx="4800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day, Monday, Tuesday…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表示星期几的单词前要加介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752480" y="1676520"/>
            <a:ext cx="4724640" cy="2209680"/>
          </a:xfrm>
          <a:prstGeom prst="wedgeRoundRectCallout">
            <a:avLst>
              <a:gd name="adj1" fmla="val 39550"/>
              <a:gd name="adj2" fmla="val 65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节课我们学到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20103028123024"/>
          <p:cNvPicPr/>
          <p:nvPr/>
        </p:nvPicPr>
        <p:blipFill>
          <a:blip r:embed="rId2"/>
          <a:srcRect l="0" t="0" r="0" b="8510"/>
          <a:stretch/>
        </p:blipFill>
        <p:spPr>
          <a:xfrm>
            <a:off x="0" y="3276720"/>
            <a:ext cx="3581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bbj18"/>
          <p:cNvPicPr/>
          <p:nvPr/>
        </p:nvPicPr>
        <p:blipFill>
          <a:blip r:embed="rId2"/>
          <a:stretch/>
        </p:blipFill>
        <p:spPr>
          <a:xfrm>
            <a:off x="152280" y="37339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bbj18"/>
          <p:cNvPicPr/>
          <p:nvPr/>
        </p:nvPicPr>
        <p:blipFill>
          <a:blip r:embed="rId3"/>
          <a:stretch/>
        </p:blipFill>
        <p:spPr>
          <a:xfrm>
            <a:off x="2209680" y="37339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bbj18"/>
          <p:cNvPicPr/>
          <p:nvPr/>
        </p:nvPicPr>
        <p:blipFill>
          <a:blip r:embed="rId4"/>
          <a:stretch/>
        </p:blipFill>
        <p:spPr>
          <a:xfrm>
            <a:off x="4114800" y="3733920"/>
            <a:ext cx="1828800" cy="2361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bbj18"/>
          <p:cNvPicPr/>
          <p:nvPr/>
        </p:nvPicPr>
        <p:blipFill>
          <a:blip r:embed="rId5"/>
          <a:stretch/>
        </p:blipFill>
        <p:spPr>
          <a:xfrm>
            <a:off x="6019920" y="3733920"/>
            <a:ext cx="1828800" cy="2361960"/>
          </a:xfrm>
          <a:prstGeom prst="rect">
            <a:avLst/>
          </a:prstGeom>
          <a:ln w="0">
            <a:noFill/>
          </a:ln>
        </p:spPr>
      </p:pic>
      <p:sp>
        <p:nvSpPr>
          <p:cNvPr id="279" name="WordArt 10"/>
          <p:cNvSpPr txBox="1"/>
          <p:nvPr/>
        </p:nvSpPr>
        <p:spPr>
          <a:xfrm>
            <a:off x="1828800" y="1371600"/>
            <a:ext cx="4724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Goodbye!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猜一猜她怎么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16243426519399"/>
          <p:cNvPicPr/>
          <p:nvPr/>
        </p:nvPicPr>
        <p:blipFill>
          <a:blip r:embed="rId2"/>
          <a:stretch/>
        </p:blipFill>
        <p:spPr>
          <a:xfrm>
            <a:off x="1143000" y="1676520"/>
            <a:ext cx="2819520" cy="2819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9"/>
          <p:cNvGrpSpPr/>
          <p:nvPr/>
        </p:nvGrpSpPr>
        <p:grpSpPr>
          <a:xfrm>
            <a:off x="1066680" y="1676520"/>
            <a:ext cx="2895840" cy="3428640"/>
            <a:chOff x="1066680" y="1676520"/>
            <a:chExt cx="2895840" cy="3428640"/>
          </a:xfrm>
        </p:grpSpPr>
        <p:pic>
          <p:nvPicPr>
            <p:cNvPr id="57" name="Picture 5" descr="0a78c86a985831e715b021fa53e8998f560cef4c"/>
            <p:cNvPicPr/>
            <p:nvPr/>
          </p:nvPicPr>
          <p:blipFill>
            <a:blip r:embed="rId3"/>
            <a:stretch/>
          </p:blipFill>
          <p:spPr>
            <a:xfrm>
              <a:off x="1126800" y="1676520"/>
              <a:ext cx="2827800" cy="323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"/>
            <p:cNvSpPr/>
            <p:nvPr/>
          </p:nvSpPr>
          <p:spPr>
            <a:xfrm>
              <a:off x="1066680" y="4199760"/>
              <a:ext cx="2895840" cy="90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20100915_b3eb76a311260b234256DzJdyF32h2lL"/>
          <p:cNvPicPr/>
          <p:nvPr/>
        </p:nvPicPr>
        <p:blipFill>
          <a:blip r:embed="rId1"/>
          <a:stretch/>
        </p:blipFill>
        <p:spPr>
          <a:xfrm>
            <a:off x="380880" y="2743200"/>
            <a:ext cx="2967120" cy="2244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4"/>
          <p:cNvSpPr/>
          <p:nvPr/>
        </p:nvSpPr>
        <p:spPr>
          <a:xfrm>
            <a:off x="533520" y="4495680"/>
            <a:ext cx="696960" cy="30492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9"/>
          <p:cNvGrpSpPr/>
          <p:nvPr/>
        </p:nvGrpSpPr>
        <p:grpSpPr>
          <a:xfrm>
            <a:off x="304920" y="0"/>
            <a:ext cx="2514600" cy="1904760"/>
            <a:chOff x="304920" y="0"/>
            <a:chExt cx="2514600" cy="1904760"/>
          </a:xfrm>
        </p:grpSpPr>
        <p:pic>
          <p:nvPicPr>
            <p:cNvPr id="64" name="Picture 5" descr="20100915_59841889b6b585306aa5RrWJtKTiVfBA"/>
            <p:cNvPicPr/>
            <p:nvPr/>
          </p:nvPicPr>
          <p:blipFill>
            <a:blip r:embed="rId2"/>
            <a:stretch/>
          </p:blipFill>
          <p:spPr>
            <a:xfrm>
              <a:off x="304920" y="0"/>
              <a:ext cx="25146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12"/>
            <p:cNvSpPr/>
            <p:nvPr/>
          </p:nvSpPr>
          <p:spPr>
            <a:xfrm>
              <a:off x="380880" y="1452600"/>
              <a:ext cx="533520" cy="381960"/>
            </a:xfrm>
            <a:prstGeom prst="rect">
              <a:avLst/>
            </a:prstGeom>
            <a:solidFill>
              <a:srgbClr val="f825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1"/>
          <p:cNvGrpSpPr/>
          <p:nvPr/>
        </p:nvGrpSpPr>
        <p:grpSpPr>
          <a:xfrm>
            <a:off x="1828800" y="1447920"/>
            <a:ext cx="2362320" cy="1676160"/>
            <a:chOff x="1828800" y="1447920"/>
            <a:chExt cx="2362320" cy="1676160"/>
          </a:xfrm>
        </p:grpSpPr>
        <p:pic>
          <p:nvPicPr>
            <p:cNvPr id="67" name="Picture 6" descr="20100915_0313ee38fa2682d02c6fZaEYTcnS2hTU"/>
            <p:cNvPicPr/>
            <p:nvPr/>
          </p:nvPicPr>
          <p:blipFill>
            <a:blip r:embed="rId3"/>
            <a:stretch/>
          </p:blipFill>
          <p:spPr>
            <a:xfrm>
              <a:off x="1828800" y="1447920"/>
              <a:ext cx="23623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3"/>
            <p:cNvSpPr/>
            <p:nvPr/>
          </p:nvSpPr>
          <p:spPr>
            <a:xfrm>
              <a:off x="1897920" y="2797200"/>
              <a:ext cx="555840" cy="321120"/>
            </a:xfrm>
            <a:prstGeom prst="rect">
              <a:avLst/>
            </a:prstGeom>
            <a:solidFill>
              <a:srgbClr val="f825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0"/>
          <p:cNvGrpSpPr/>
          <p:nvPr/>
        </p:nvGrpSpPr>
        <p:grpSpPr>
          <a:xfrm>
            <a:off x="1371600" y="4572000"/>
            <a:ext cx="2437920" cy="2057040"/>
            <a:chOff x="1371600" y="4572000"/>
            <a:chExt cx="2437920" cy="2057040"/>
          </a:xfrm>
        </p:grpSpPr>
        <p:pic>
          <p:nvPicPr>
            <p:cNvPr id="70" name="Picture 8" descr="20100915_4de7b0e1317040f1712fZ8Ija4MyEEQD"/>
            <p:cNvPicPr/>
            <p:nvPr/>
          </p:nvPicPr>
          <p:blipFill>
            <a:blip r:embed="rId4"/>
            <a:stretch/>
          </p:blipFill>
          <p:spPr>
            <a:xfrm>
              <a:off x="1440720" y="4572000"/>
              <a:ext cx="236880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15"/>
            <p:cNvSpPr/>
            <p:nvPr/>
          </p:nvSpPr>
          <p:spPr>
            <a:xfrm>
              <a:off x="1371600" y="6100200"/>
              <a:ext cx="556920" cy="509400"/>
            </a:xfrm>
            <a:prstGeom prst="rect">
              <a:avLst/>
            </a:prstGeom>
            <a:solidFill>
              <a:srgbClr val="f825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6095880" y="152280"/>
            <a:ext cx="2667240" cy="2133360"/>
            <a:chOff x="6095880" y="152280"/>
            <a:chExt cx="2667240" cy="2133360"/>
          </a:xfrm>
        </p:grpSpPr>
        <p:pic>
          <p:nvPicPr>
            <p:cNvPr id="73" name="Picture 9" descr="20100915_b2cdd7bcb1c6775cc6f5IOsOwvv5aVxW"/>
            <p:cNvPicPr/>
            <p:nvPr/>
          </p:nvPicPr>
          <p:blipFill>
            <a:blip r:embed="rId5"/>
            <a:srcRect l="0" t="0" r="0" b="9979"/>
            <a:stretch/>
          </p:blipFill>
          <p:spPr>
            <a:xfrm>
              <a:off x="6095880" y="152280"/>
              <a:ext cx="2667240" cy="19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6"/>
            <p:cNvSpPr/>
            <p:nvPr/>
          </p:nvSpPr>
          <p:spPr>
            <a:xfrm>
              <a:off x="6095880" y="1941840"/>
              <a:ext cx="585360" cy="343800"/>
            </a:xfrm>
            <a:prstGeom prst="rect">
              <a:avLst/>
            </a:prstGeom>
            <a:solidFill>
              <a:srgbClr val="f825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6172200" y="4419720"/>
            <a:ext cx="2514600" cy="2209680"/>
            <a:chOff x="6172200" y="4419720"/>
            <a:chExt cx="2514600" cy="2209680"/>
          </a:xfrm>
        </p:grpSpPr>
        <p:pic>
          <p:nvPicPr>
            <p:cNvPr id="76" name="Picture 10" descr="20100915_e973690e833133ecb9d6uVnvTUmjUZnK"/>
            <p:cNvPicPr/>
            <p:nvPr/>
          </p:nvPicPr>
          <p:blipFill>
            <a:blip r:embed="rId6"/>
            <a:srcRect l="0" t="0" r="0" b="11639"/>
            <a:stretch/>
          </p:blipFill>
          <p:spPr>
            <a:xfrm>
              <a:off x="6172200" y="4419720"/>
              <a:ext cx="25146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7"/>
            <p:cNvSpPr/>
            <p:nvPr/>
          </p:nvSpPr>
          <p:spPr>
            <a:xfrm>
              <a:off x="6248520" y="6248520"/>
              <a:ext cx="838080" cy="380880"/>
            </a:xfrm>
            <a:prstGeom prst="rect">
              <a:avLst/>
            </a:prstGeom>
            <a:solidFill>
              <a:srgbClr val="f825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v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3"/>
          <p:cNvGrpSpPr/>
          <p:nvPr/>
        </p:nvGrpSpPr>
        <p:grpSpPr>
          <a:xfrm>
            <a:off x="6248520" y="2286000"/>
            <a:ext cx="2590200" cy="2209320"/>
            <a:chOff x="6248520" y="2286000"/>
            <a:chExt cx="2590200" cy="2209320"/>
          </a:xfrm>
        </p:grpSpPr>
        <p:pic>
          <p:nvPicPr>
            <p:cNvPr id="79" name="Picture 7" descr="20100915_7c088b20fd0bb78a1d5ehWe1bv96tGX1"/>
            <p:cNvPicPr/>
            <p:nvPr/>
          </p:nvPicPr>
          <p:blipFill>
            <a:blip r:embed="rId7"/>
            <a:srcRect l="0" t="0" r="0" b="7888"/>
            <a:stretch/>
          </p:blipFill>
          <p:spPr>
            <a:xfrm>
              <a:off x="6248520" y="2286000"/>
              <a:ext cx="25902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18"/>
            <p:cNvSpPr/>
            <p:nvPr/>
          </p:nvSpPr>
          <p:spPr>
            <a:xfrm>
              <a:off x="6329520" y="4053240"/>
              <a:ext cx="566640" cy="442080"/>
            </a:xfrm>
            <a:prstGeom prst="rect">
              <a:avLst/>
            </a:prstGeom>
            <a:solidFill>
              <a:srgbClr val="f825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6"/>
          <p:cNvSpPr/>
          <p:nvPr/>
        </p:nvSpPr>
        <p:spPr>
          <a:xfrm>
            <a:off x="3962520" y="457200"/>
            <a:ext cx="2133360" cy="551808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1" lang="en-US" sz="2800" spc="-1" strike="noStrike">
                <a:solidFill>
                  <a:srgbClr val="f82502"/>
                </a:solidFill>
                <a:latin typeface="Arial"/>
              </a:rPr>
              <a:t>d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1" lang="en-US" sz="2800" spc="-1" strike="noStrike">
                <a:solidFill>
                  <a:srgbClr val="f82502"/>
                </a:solidFill>
                <a:latin typeface="Arial"/>
              </a:rPr>
              <a:t>d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1" lang="en-US" sz="2400" spc="-1" strike="noStrike">
                <a:solidFill>
                  <a:srgbClr val="f82502"/>
                </a:solidFill>
                <a:latin typeface="Arial"/>
              </a:rPr>
              <a:t>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1" lang="en-US" sz="2800" spc="-1" strike="noStrike">
                <a:solidFill>
                  <a:srgbClr val="f82502"/>
                </a:solidFill>
                <a:latin typeface="Arial"/>
              </a:rPr>
              <a:t>d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1" lang="en-US" sz="2800" spc="-1" strike="noStrike">
                <a:solidFill>
                  <a:srgbClr val="f82502"/>
                </a:solidFill>
                <a:latin typeface="Arial"/>
              </a:rPr>
              <a:t>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ur</a:t>
            </a:r>
            <a:r>
              <a:rPr b="1" lang="en-US" sz="2800" spc="-1" strike="noStrike">
                <a:solidFill>
                  <a:srgbClr val="f82502"/>
                </a:solidFill>
                <a:latin typeface="Arial"/>
              </a:rPr>
              <a:t>d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2800" spc="-1" strike="noStrike">
                <a:solidFill>
                  <a:srgbClr val="f82502"/>
                </a:solidFill>
                <a:latin typeface="Arial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100915_b3eb76a311260b234256DzJdyF32h2lL"/>
          <p:cNvPicPr/>
          <p:nvPr/>
        </p:nvPicPr>
        <p:blipFill>
          <a:blip r:embed="rId1"/>
          <a:srcRect l="0" t="0" r="0" b="8889"/>
          <a:stretch/>
        </p:blipFill>
        <p:spPr>
          <a:xfrm>
            <a:off x="6095880" y="22860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100915_59841889b6b585306aa5RrWJtKTiVfBA"/>
          <p:cNvPicPr/>
          <p:nvPr/>
        </p:nvPicPr>
        <p:blipFill>
          <a:blip r:embed="rId2"/>
          <a:srcRect l="0" t="0" r="0" b="6868"/>
          <a:stretch/>
        </p:blipFill>
        <p:spPr>
          <a:xfrm>
            <a:off x="228600" y="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20100915_0313ee38fa2682d02c6fZaEYTcnS2hTU"/>
          <p:cNvPicPr/>
          <p:nvPr/>
        </p:nvPicPr>
        <p:blipFill>
          <a:blip r:embed="rId3"/>
          <a:srcRect l="0" t="0" r="0" b="6825"/>
          <a:stretch/>
        </p:blipFill>
        <p:spPr>
          <a:xfrm>
            <a:off x="3276720" y="22860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20100915_7c088b20fd0bb78a1d5ehWe1bv96tGX1"/>
          <p:cNvPicPr/>
          <p:nvPr/>
        </p:nvPicPr>
        <p:blipFill>
          <a:blip r:embed="rId4"/>
          <a:stretch/>
        </p:blipFill>
        <p:spPr>
          <a:xfrm>
            <a:off x="304920" y="2590920"/>
            <a:ext cx="2590560" cy="197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20100915_4de7b0e1317040f1712fZ8Ija4MyEEQD"/>
          <p:cNvPicPr/>
          <p:nvPr/>
        </p:nvPicPr>
        <p:blipFill>
          <a:blip r:embed="rId5"/>
          <a:stretch/>
        </p:blipFill>
        <p:spPr>
          <a:xfrm>
            <a:off x="152280" y="4419720"/>
            <a:ext cx="2590920" cy="184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20100915_b2cdd7bcb1c6775cc6f5IOsOwvv5aVxW"/>
          <p:cNvPicPr/>
          <p:nvPr/>
        </p:nvPicPr>
        <p:blipFill>
          <a:blip r:embed="rId6"/>
          <a:srcRect l="0" t="0" r="0" b="7905"/>
          <a:stretch/>
        </p:blipFill>
        <p:spPr>
          <a:xfrm>
            <a:off x="3124080" y="3200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20100915_e973690e833133ecb9d6uVnvTUmjUZnK"/>
          <p:cNvPicPr/>
          <p:nvPr/>
        </p:nvPicPr>
        <p:blipFill>
          <a:blip r:embed="rId7"/>
          <a:srcRect l="0" t="0" r="0" b="8112"/>
          <a:stretch/>
        </p:blipFill>
        <p:spPr>
          <a:xfrm>
            <a:off x="6019920" y="3200400"/>
            <a:ext cx="2819160" cy="2590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685800" y="213372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295280" y="426708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85800" y="624852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3657600" y="228600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es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629400" y="236232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3657600" y="617220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6629400" y="6172200"/>
            <a:ext cx="1676520" cy="457200"/>
          </a:xfrm>
          <a:prstGeom prst="rect">
            <a:avLst/>
          </a:prstGeom>
          <a:solidFill>
            <a:srgbClr val="f82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42920" y="907920"/>
            <a:ext cx="208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99" name="Picture 3" descr="中国教育出版网"/>
          <p:cNvPicPr/>
          <p:nvPr/>
        </p:nvPicPr>
        <p:blipFill>
          <a:blip r:embed="rId1"/>
          <a:stretch/>
        </p:blipFill>
        <p:spPr>
          <a:xfrm>
            <a:off x="4788000" y="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4140360" y="1125360"/>
            <a:ext cx="1223640" cy="719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1042920" y="2997360"/>
            <a:ext cx="18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unc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02" name="Picture 6" descr="中国教育出版网"/>
          <p:cNvPicPr/>
          <p:nvPr/>
        </p:nvPicPr>
        <p:blipFill>
          <a:blip r:embed="rId2"/>
          <a:stretch/>
        </p:blipFill>
        <p:spPr>
          <a:xfrm>
            <a:off x="4932360" y="2276640"/>
            <a:ext cx="2036880" cy="20365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1042920" y="1052640"/>
            <a:ext cx="7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042920" y="3141720"/>
            <a:ext cx="7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395280" y="515772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s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106" name="Picture 10" descr="中国教育出版网"/>
          <p:cNvPicPr/>
          <p:nvPr/>
        </p:nvPicPr>
        <p:blipFill>
          <a:blip r:embed="rId3"/>
          <a:stretch/>
        </p:blipFill>
        <p:spPr>
          <a:xfrm>
            <a:off x="5076720" y="4869000"/>
            <a:ext cx="1800360" cy="17017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1"/>
          <p:cNvSpPr txBox="1"/>
          <p:nvPr/>
        </p:nvSpPr>
        <p:spPr>
          <a:xfrm>
            <a:off x="1908000" y="5157720"/>
            <a:ext cx="13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08" name="Picture 12" descr="中国教育出版网"/>
          <p:cNvPicPr/>
          <p:nvPr/>
        </p:nvPicPr>
        <p:blipFill>
          <a:blip r:embed="rId4"/>
          <a:stretch/>
        </p:blipFill>
        <p:spPr>
          <a:xfrm>
            <a:off x="5029200" y="4343400"/>
            <a:ext cx="2448000" cy="2367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3"/>
          <p:cNvSpPr txBox="1"/>
          <p:nvPr/>
        </p:nvSpPr>
        <p:spPr>
          <a:xfrm rot="5400000">
            <a:off x="5813640" y="3015360"/>
            <a:ext cx="5291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66"/>
                    </a:gs>
                  </a:gsLst>
                  <a:lin ang="8100000"/>
                </a:gradFill>
                <a:latin typeface="宋体"/>
              </a:rPr>
              <a:t>联系相同组合巧记单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0066"/>
                  </a:gs>
                </a:gsLst>
                <a:lin ang="81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animMotion origin="layout" path="M 0 0 L 0 0.33302 E">
                                      <p:cBhvr>
                                        <p:cTn id="2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animMotion origin="layout" path="M 0.00417 -0.01064 L 0.00018 0.6346 E">
                                      <p:cBhvr>
                                        <p:cTn id="2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1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16000" y="1125360"/>
            <a:ext cx="1657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1619280" y="1125360"/>
            <a:ext cx="115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684360" y="3068640"/>
            <a:ext cx="936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M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2916360" y="3284640"/>
            <a:ext cx="136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6" descr="中国教育出版网"/>
          <p:cNvPicPr/>
          <p:nvPr/>
        </p:nvPicPr>
        <p:blipFill>
          <a:blip r:embed="rId1"/>
          <a:stretch/>
        </p:blipFill>
        <p:spPr>
          <a:xfrm>
            <a:off x="4932360" y="0"/>
            <a:ext cx="2449440" cy="3208320"/>
          </a:xfrm>
          <a:prstGeom prst="rect">
            <a:avLst/>
          </a:prstGeom>
          <a:ln w="0">
            <a:noFill/>
          </a:ln>
        </p:spPr>
      </p:pic>
      <p:sp>
        <p:nvSpPr>
          <p:cNvPr id="115" name="Line 7"/>
          <p:cNvSpPr/>
          <p:nvPr/>
        </p:nvSpPr>
        <p:spPr>
          <a:xfrm>
            <a:off x="2987640" y="1557360"/>
            <a:ext cx="2448000" cy="358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076720" y="18900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614240" y="306864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 Rounded MT Bold"/>
                <a:ea typeface="幼圆"/>
              </a:rPr>
              <a:t>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中国教育出版网"/>
          <p:cNvPicPr/>
          <p:nvPr/>
        </p:nvPicPr>
        <p:blipFill>
          <a:blip r:embed="rId2"/>
          <a:srcRect l="0" t="0" r="0" b="6665"/>
          <a:stretch/>
        </p:blipFill>
        <p:spPr>
          <a:xfrm>
            <a:off x="4724280" y="3200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1"/>
          <p:cNvSpPr/>
          <p:nvPr/>
        </p:nvSpPr>
        <p:spPr>
          <a:xfrm>
            <a:off x="4869720" y="571500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urlz MT"/>
              </a:rPr>
              <a:t>HAPPY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Motion origin="layout" path="M 0 0 L 0 0.33302 E">
                                      <p:cBhvr>
                                        <p:cTn id="6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3132000" y="1197000"/>
            <a:ext cx="5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2122560" y="765000"/>
            <a:ext cx="936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T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3851280" y="1197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e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5003640" y="981000"/>
            <a:ext cx="144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24" name="Picture 6" descr="中国教育出版网"/>
          <p:cNvPicPr/>
          <p:nvPr/>
        </p:nvPicPr>
        <p:blipFill>
          <a:blip r:embed="rId1"/>
          <a:srcRect l="0" t="0" r="0" b="12622"/>
          <a:stretch/>
        </p:blipFill>
        <p:spPr>
          <a:xfrm>
            <a:off x="5181480" y="3962520"/>
            <a:ext cx="3672000" cy="2361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834480" y="3124080"/>
            <a:ext cx="59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French Script MT"/>
              </a:rPr>
              <a:t>Happy Tu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042920" y="620640"/>
            <a:ext cx="15112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1547640" y="620640"/>
            <a:ext cx="10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28" name="Picture 4" descr="中国教育出版网"/>
          <p:cNvPicPr/>
          <p:nvPr/>
        </p:nvPicPr>
        <p:blipFill>
          <a:blip r:embed="rId1"/>
          <a:stretch/>
        </p:blipFill>
        <p:spPr>
          <a:xfrm>
            <a:off x="3635280" y="189000"/>
            <a:ext cx="1623960" cy="1652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3492360" y="170028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1042920" y="2130480"/>
            <a:ext cx="1584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1547640" y="2276640"/>
            <a:ext cx="10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780000" y="195264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611280" y="4506840"/>
            <a:ext cx="936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W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979640" y="4510080"/>
            <a:ext cx="720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1"/>
          <p:cNvSpPr txBox="1"/>
          <p:nvPr/>
        </p:nvSpPr>
        <p:spPr>
          <a:xfrm>
            <a:off x="1979640" y="4579920"/>
            <a:ext cx="6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</a:t>
            </a:r>
            <a:endParaRPr b="1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12"/>
          <p:cNvSpPr txBox="1"/>
          <p:nvPr/>
        </p:nvSpPr>
        <p:spPr>
          <a:xfrm>
            <a:off x="2771640" y="494028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2050920" y="5589720"/>
            <a:ext cx="50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763640" y="645336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5"/>
          <p:cNvGrpSpPr/>
          <p:nvPr/>
        </p:nvGrpSpPr>
        <p:grpSpPr>
          <a:xfrm>
            <a:off x="1752480" y="5740560"/>
            <a:ext cx="1441440" cy="1119960"/>
            <a:chOff x="1752480" y="5740560"/>
            <a:chExt cx="1441440" cy="1119960"/>
          </a:xfrm>
        </p:grpSpPr>
        <p:pic>
          <p:nvPicPr>
            <p:cNvPr id="140" name="Picture 16" descr="320px-SMirC-silent"/>
            <p:cNvPicPr/>
            <p:nvPr/>
          </p:nvPicPr>
          <p:blipFill>
            <a:blip r:embed="rId2"/>
            <a:stretch/>
          </p:blipFill>
          <p:spPr>
            <a:xfrm>
              <a:off x="2027160" y="5740560"/>
              <a:ext cx="66024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7"/>
            <p:cNvSpPr/>
            <p:nvPr/>
          </p:nvSpPr>
          <p:spPr>
            <a:xfrm>
              <a:off x="1752480" y="640080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d</a:t>
              </a:r>
              <a:r>
                <a:rPr b="1" lang="zh-CN" sz="2400" spc="-1" strike="noStrike">
                  <a:solidFill>
                    <a:srgbClr val="ff0066"/>
                  </a:solidFill>
                  <a:latin typeface="Comic Sans MS"/>
                </a:rPr>
                <a:t>不发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WordArt 18"/>
          <p:cNvSpPr txBox="1"/>
          <p:nvPr/>
        </p:nvSpPr>
        <p:spPr>
          <a:xfrm>
            <a:off x="3348000" y="4869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e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4427640" y="4583160"/>
            <a:ext cx="15843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Motion origin="layout" path="M -0.00382 0.25186 L -0.00782 0.62951 E">
                                      <p:cBhvr>
                                        <p:cTn id="11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animMotion origin="layout" path="M -0.00781 -0.26226 L -0.01181 0.38297 E">
                                      <p:cBhvr>
                                        <p:cTn id="12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1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6-03-07T07:08:24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