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307-A293-4F48-84AB-4789F55A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813-B9DA-4D89-BCAE-51C99007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2E1-5103-47C2-A72D-DF8E7539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F9E-F2DD-4FAD-99D3-43AC316C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02D-BB52-450F-A734-C1248038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EE4-C25B-4546-89D5-33EFCC27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0D4-CDE1-4D84-B12B-C3DE089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19E-99B5-45B7-B4FD-D70D72CE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EFD-EDBB-405E-90A0-7599F4D7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354-B622-4970-A00E-760C045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57A-4FC7-4553-A075-D3649C4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2A2-6A77-473D-A255-23D1917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4FF-296F-4BAD-9B10-6A5EDB629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 It’s time to g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.What ti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 you often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often get up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often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ave break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 often have breakfas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up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lunch"/>
          <p:cNvPicPr/>
          <p:nvPr/>
        </p:nvPicPr>
        <p:blipFill>
          <a:blip r:embed="rId2"/>
          <a:srcRect l="20540" t="18241" r="29894" b="24792"/>
          <a:stretch/>
        </p:blipFill>
        <p:spPr>
          <a:xfrm>
            <a:off x="6407280" y="4292640"/>
            <a:ext cx="2736720" cy="236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back"/>
          <p:cNvPicPr/>
          <p:nvPr/>
        </p:nvPicPr>
        <p:blipFill>
          <a:blip r:embed="rId3"/>
          <a:srcRect l="18311" t="11262" r="12509" b="19552"/>
          <a:stretch/>
        </p:blipFill>
        <p:spPr>
          <a:xfrm>
            <a:off x="3780000" y="4292640"/>
            <a:ext cx="259056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dinner"/>
          <p:cNvPicPr/>
          <p:nvPr/>
        </p:nvPicPr>
        <p:blipFill>
          <a:blip r:embed="rId4"/>
          <a:srcRect l="25246" t="29655" r="18651" b="20282"/>
          <a:stretch/>
        </p:blipFill>
        <p:spPr>
          <a:xfrm>
            <a:off x="1042920" y="4292640"/>
            <a:ext cx="2592360" cy="204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leep"/>
          <p:cNvPicPr/>
          <p:nvPr/>
        </p:nvPicPr>
        <p:blipFill>
          <a:blip r:embed="rId5"/>
          <a:srcRect l="15136" t="18090" r="20918" b="18166"/>
          <a:stretch/>
        </p:blipFill>
        <p:spPr>
          <a:xfrm>
            <a:off x="0" y="0"/>
            <a:ext cx="1979640" cy="17733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9"/>
          <p:cNvGrpSpPr/>
          <p:nvPr/>
        </p:nvGrpSpPr>
        <p:grpSpPr>
          <a:xfrm>
            <a:off x="6588000" y="0"/>
            <a:ext cx="1150920" cy="907920"/>
            <a:chOff x="6588000" y="0"/>
            <a:chExt cx="1150920" cy="907920"/>
          </a:xfrm>
        </p:grpSpPr>
        <p:pic>
          <p:nvPicPr>
            <p:cNvPr id="92" name="Picture 10" descr="图片1"/>
            <p:cNvPicPr/>
            <p:nvPr/>
          </p:nvPicPr>
          <p:blipFill>
            <a:blip r:embed="rId6"/>
            <a:stretch/>
          </p:blipFill>
          <p:spPr>
            <a:xfrm>
              <a:off x="6588000" y="0"/>
              <a:ext cx="11509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6876720" y="2599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: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2"/>
          <p:cNvGrpSpPr/>
          <p:nvPr/>
        </p:nvGrpSpPr>
        <p:grpSpPr>
          <a:xfrm>
            <a:off x="1403280" y="0"/>
            <a:ext cx="1150920" cy="907920"/>
            <a:chOff x="1403280" y="0"/>
            <a:chExt cx="1150920" cy="907920"/>
          </a:xfrm>
        </p:grpSpPr>
        <p:pic>
          <p:nvPicPr>
            <p:cNvPr id="95" name="Picture 13" descr="图片1"/>
            <p:cNvPicPr/>
            <p:nvPr/>
          </p:nvPicPr>
          <p:blipFill>
            <a:blip r:embed="rId7"/>
            <a:stretch/>
          </p:blipFill>
          <p:spPr>
            <a:xfrm>
              <a:off x="1403280" y="0"/>
              <a:ext cx="11509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4"/>
            <p:cNvSpPr/>
            <p:nvPr/>
          </p:nvSpPr>
          <p:spPr>
            <a:xfrm>
              <a:off x="1692000" y="2599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: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52280"/>
          <a:ext cx="9144000" cy="6705720"/>
        </p:xfrm>
        <a:graphic>
          <a:graphicData uri="http://schemas.openxmlformats.org/drawingml/2006/table">
            <a:tbl>
              <a:tblPr/>
              <a:tblGrid>
                <a:gridCol w="1828800"/>
                <a:gridCol w="1827360"/>
                <a:gridCol w="1831680"/>
                <a:gridCol w="1827360"/>
                <a:gridCol w="1828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 J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: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: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b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20520"/>
          <a:ext cx="9144000" cy="6689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sch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back 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and 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ime to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01402211208235147"/>
          <p:cNvPicPr/>
          <p:nvPr/>
        </p:nvPicPr>
        <p:blipFill>
          <a:blip r:embed="rId1"/>
          <a:srcRect l="0" t="0" r="0" b="4857"/>
          <a:stretch/>
        </p:blipFill>
        <p:spPr>
          <a:xfrm>
            <a:off x="0" y="1052640"/>
            <a:ext cx="8713800" cy="4662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0" y="2781360"/>
            <a:ext cx="4897440" cy="2808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2708280"/>
            <a:ext cx="468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自星星的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圆满结局了，好想知道教授最近在忙些什么呀！偷偷告诉你，都教授的时间表，你设想自己是他的秘书，提醒他要干什么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minjun’s 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341360"/>
          <a:ext cx="9144000" cy="1800360"/>
        </p:xfrm>
        <a:graphic>
          <a:graphicData uri="http://schemas.openxmlformats.org/drawingml/2006/table">
            <a:tbl>
              <a:tblPr/>
              <a:tblGrid>
                <a:gridCol w="857160"/>
                <a:gridCol w="1044720"/>
                <a:gridCol w="1120680"/>
                <a:gridCol w="2197080"/>
                <a:gridCol w="1312920"/>
                <a:gridCol w="261144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back h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is home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26"/>
          <p:cNvSpPr/>
          <p:nvPr/>
        </p:nvSpPr>
        <p:spPr>
          <a:xfrm>
            <a:off x="971640" y="3573360"/>
            <a:ext cx="561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_________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tim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4" descr="138931_10220182143390"/>
          <p:cNvPicPr/>
          <p:nvPr/>
        </p:nvPicPr>
        <p:blipFill>
          <a:blip r:embed="rId1"/>
          <a:srcRect l="0" t="12039" r="0" b="0"/>
          <a:stretch/>
        </p:blipFill>
        <p:spPr>
          <a:xfrm>
            <a:off x="6227640" y="3714840"/>
            <a:ext cx="2916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and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isten"/>
          <p:cNvPicPr/>
          <p:nvPr/>
        </p:nvPicPr>
        <p:blipFill>
          <a:blip r:embed="rId1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and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isten"/>
          <p:cNvPicPr/>
          <p:nvPr/>
        </p:nvPicPr>
        <p:blipFill>
          <a:blip r:embed="rId1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and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isten"/>
          <p:cNvPicPr/>
          <p:nvPr/>
        </p:nvPicPr>
        <p:blipFill>
          <a:blip r:embed="rId1"/>
          <a:stretch/>
        </p:blipFill>
        <p:spPr>
          <a:xfrm>
            <a:off x="68436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871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and m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A: It’s five o’clock in the afternoon. It’s time to get     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B: It’s eight o’clock in the evening. It’s time for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C: It’s eleven o’clock at night. It’s time to play games with m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D: It’s seven o’clock in the morning. It’s time to go back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E: It’s ten o’clock in the morning. It’s time to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ead"/>
          <p:cNvPicPr/>
          <p:nvPr/>
        </p:nvPicPr>
        <p:blipFill>
          <a:blip r:embed="rId1"/>
          <a:srcRect l="0" t="17305" r="0" b="46143"/>
          <a:stretch/>
        </p:blipFill>
        <p:spPr>
          <a:xfrm>
            <a:off x="0" y="549360"/>
            <a:ext cx="5724360" cy="1368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9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read"/>
          <p:cNvPicPr/>
          <p:nvPr/>
        </p:nvPicPr>
        <p:blipFill>
          <a:blip r:embed="rId2"/>
          <a:srcRect l="21749" t="50418" r="14939" b="18085"/>
          <a:stretch/>
        </p:blipFill>
        <p:spPr>
          <a:xfrm>
            <a:off x="5616720" y="620640"/>
            <a:ext cx="3527280" cy="1316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539640" y="299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1280" y="39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8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39640" y="58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David’s jo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ook"/>
          <p:cNvPicPr/>
          <p:nvPr/>
        </p:nvPicPr>
        <p:blipFill>
          <a:blip r:embed="rId1"/>
          <a:stretch/>
        </p:blipFill>
        <p:spPr>
          <a:xfrm>
            <a:off x="2484360" y="0"/>
            <a:ext cx="2952720" cy="20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0" y="3213000"/>
          <a:ext cx="8893080" cy="1346400"/>
        </p:xfrm>
        <a:graphic>
          <a:graphicData uri="http://schemas.openxmlformats.org/drawingml/2006/table">
            <a:tbl>
              <a:tblPr/>
              <a:tblGrid>
                <a:gridCol w="1692360"/>
                <a:gridCol w="1727280"/>
                <a:gridCol w="1800000"/>
                <a:gridCol w="1657440"/>
                <a:gridCol w="20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0 p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 p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00 a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00 a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o to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38"/>
          <p:cNvSpPr/>
          <p:nvPr/>
        </p:nvSpPr>
        <p:spPr>
          <a:xfrm>
            <a:off x="755640" y="551664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1692360" y="4005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have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3492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5219640" y="400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o to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94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755640" y="4797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.What ti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es David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g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5"/>
          <p:cNvSpPr/>
          <p:nvPr/>
        </p:nvSpPr>
        <p:spPr>
          <a:xfrm>
            <a:off x="900000" y="53737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go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ork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28472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our o’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3:32:30Z</dcterms:created>
  <dc:creator>微软用户</dc:creator>
  <dc:description/>
  <dc:language>en-US</dc:language>
  <cp:lastModifiedBy>dreamsummit</cp:lastModifiedBy>
  <dcterms:modified xsi:type="dcterms:W3CDTF">2016-01-28T02:00:56Z</dcterms:modified>
  <cp:revision>9</cp:revision>
  <dc:subject/>
  <dc:title>Unit 3 It’s time to get up</dc:title>
</cp:coreProperties>
</file>