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728-4E34-4CD2-A9E2-BBAD24CA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EC0-349D-47B5-9A12-CA895FDF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11C-D71F-4ABE-893B-9B6EABF4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FF7-5BC5-45AE-AB5C-97A3F3D7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6AD-017B-4571-8368-086679A3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A0F-D9A8-4952-9B38-196A9D40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5B4-273C-416F-9FCE-47673052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449-9EB6-4444-A792-D407AC25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632-0851-4E00-AC25-6BC854E1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698-547E-41F3-BE95-029B92FF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3AD-9F2D-4031-81E9-18EF1EDD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364-0338-466B-8F58-5CE8FA41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D008-66F5-476C-AB42-65410AA99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26032;&#29256;&#24191;&#24030;&#23567;&#23398;&#33521;&#35821;/&#22235;&#19979;&#35838;&#20214;/&#22235;&#24180;&#32423;&#19979;&#20876;U5&#31532;2&#35838;&#26102;&#35838;&#20214;/&#22235;&#24180;&#32423;&#19979;&#20876;unit5&#31532;2&#35838;&#26102;(3&#26376;13&#20462;&#25913;&#31295;&#65289;/sing.swf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03920" y="2133720"/>
            <a:ext cx="810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Unit 5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What day is it toda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Laying-In-Grass"/>
          <p:cNvPicPr/>
          <p:nvPr/>
        </p:nvPicPr>
        <p:blipFill>
          <a:blip r:embed="rId3"/>
          <a:srcRect l="0" t="0" r="0" b="12666"/>
          <a:stretch/>
        </p:blipFill>
        <p:spPr>
          <a:xfrm>
            <a:off x="0" y="4495680"/>
            <a:ext cx="9144000" cy="2362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186840" y="380880"/>
            <a:ext cx="883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Module3  Days of The Wee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4"/>
          <p:cNvSpPr/>
          <p:nvPr/>
        </p:nvSpPr>
        <p:spPr>
          <a:xfrm>
            <a:off x="3124080" y="5181480"/>
            <a:ext cx="601992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What day is it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09480" y="4624560"/>
            <a:ext cx="20574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28091-Clipart-Illustration-Of-A-Set-Of-Orange-And-Red-Flip-Page-Desk-Top-Calendars-With-Blank-Pages副本"/>
          <p:cNvPicPr/>
          <p:nvPr/>
        </p:nvPicPr>
        <p:blipFill>
          <a:blip r:embed="rId1"/>
          <a:srcRect l="13443" t="5262" r="10443" b="4203"/>
          <a:stretch/>
        </p:blipFill>
        <p:spPr>
          <a:xfrm>
            <a:off x="457200" y="4495680"/>
            <a:ext cx="2133720" cy="210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762120" y="5614920"/>
            <a:ext cx="14475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819520" y="2514600"/>
            <a:ext cx="20574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28091-Clipart-Illustration-Of-A-Set-Of-Orange-And-Red-Flip-Page-Desk-Top-Calendars-With-Blank-Pages副本"/>
          <p:cNvPicPr/>
          <p:nvPr/>
        </p:nvPicPr>
        <p:blipFill>
          <a:blip r:embed="rId2"/>
          <a:srcRect l="13443" t="5262" r="10443" b="4203"/>
          <a:stretch/>
        </p:blipFill>
        <p:spPr>
          <a:xfrm>
            <a:off x="2819520" y="2286000"/>
            <a:ext cx="3276360" cy="2057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3200400" y="3276720"/>
            <a:ext cx="2590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6095880" y="457200"/>
            <a:ext cx="20574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28091-Clipart-Illustration-Of-A-Set-Of-Orange-And-Red-Flip-Page-Desk-Top-Calendars-With-Blank-Pages副本"/>
          <p:cNvPicPr/>
          <p:nvPr/>
        </p:nvPicPr>
        <p:blipFill>
          <a:blip r:embed="rId3"/>
          <a:srcRect l="13443" t="5262" r="10443" b="4203"/>
          <a:stretch/>
        </p:blipFill>
        <p:spPr>
          <a:xfrm>
            <a:off x="6324480" y="239760"/>
            <a:ext cx="2362320" cy="2004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2"/>
          <p:cNvSpPr/>
          <p:nvPr/>
        </p:nvSpPr>
        <p:spPr>
          <a:xfrm>
            <a:off x="6553080" y="1295280"/>
            <a:ext cx="1828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304920" y="2590920"/>
            <a:ext cx="20574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28091-Clipart-Illustration-Of-A-Set-Of-Orange-And-Red-Flip-Page-Desk-Top-Calendars-With-Blank-Pages副本"/>
          <p:cNvPicPr/>
          <p:nvPr/>
        </p:nvPicPr>
        <p:blipFill>
          <a:blip r:embed="rId4"/>
          <a:srcRect l="13443" t="5262" r="10443" b="4203"/>
          <a:stretch/>
        </p:blipFill>
        <p:spPr>
          <a:xfrm>
            <a:off x="3124080" y="304920"/>
            <a:ext cx="2819520" cy="1939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5"/>
          <p:cNvSpPr/>
          <p:nvPr/>
        </p:nvSpPr>
        <p:spPr>
          <a:xfrm>
            <a:off x="3886200" y="1360440"/>
            <a:ext cx="1447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0" y="685800"/>
            <a:ext cx="20574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28091-Clipart-Illustration-Of-A-Set-Of-Orange-And-Red-Flip-Page-Desk-Top-Calendars-With-Blank-Pages副本"/>
          <p:cNvPicPr/>
          <p:nvPr/>
        </p:nvPicPr>
        <p:blipFill>
          <a:blip r:embed="rId5"/>
          <a:srcRect l="13443" t="5262" r="10443" b="4203"/>
          <a:stretch/>
        </p:blipFill>
        <p:spPr>
          <a:xfrm>
            <a:off x="380880" y="304920"/>
            <a:ext cx="2362320" cy="20048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8"/>
          <p:cNvSpPr/>
          <p:nvPr/>
        </p:nvSpPr>
        <p:spPr>
          <a:xfrm>
            <a:off x="685800" y="1447920"/>
            <a:ext cx="1752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0" descr="28091-Clipart-Illustration-Of-A-Set-Of-Orange-And-Red-Flip-Page-Desk-Top-Calendars-With-Blank-Pages副本"/>
          <p:cNvPicPr/>
          <p:nvPr/>
        </p:nvPicPr>
        <p:blipFill>
          <a:blip r:embed="rId6"/>
          <a:srcRect l="13443" t="5262" r="10443" b="4203"/>
          <a:stretch/>
        </p:blipFill>
        <p:spPr>
          <a:xfrm>
            <a:off x="6400800" y="2438280"/>
            <a:ext cx="2438280" cy="1874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1"/>
          <p:cNvSpPr/>
          <p:nvPr/>
        </p:nvSpPr>
        <p:spPr>
          <a:xfrm>
            <a:off x="6934320" y="3429000"/>
            <a:ext cx="1447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3" descr="28091-Clipart-Illustration-Of-A-Set-Of-Orange-And-Red-Flip-Page-Desk-Top-Calendars-With-Blank-Pages副本"/>
          <p:cNvPicPr/>
          <p:nvPr/>
        </p:nvPicPr>
        <p:blipFill>
          <a:blip r:embed="rId7"/>
          <a:srcRect l="13443" t="5262" r="10443" b="4203"/>
          <a:stretch/>
        </p:blipFill>
        <p:spPr>
          <a:xfrm>
            <a:off x="228600" y="2438280"/>
            <a:ext cx="2514600" cy="1874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4"/>
          <p:cNvSpPr/>
          <p:nvPr/>
        </p:nvSpPr>
        <p:spPr>
          <a:xfrm>
            <a:off x="457200" y="3429000"/>
            <a:ext cx="2057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838080" y="48531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星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3809880" y="2590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星期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6934320" y="609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星期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838080" y="26668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星期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914400" y="609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星期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6934320" y="2666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星期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3886200" y="598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星期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5" descr="17707-Clipart-Illustration-Of-An-Orange-Man-Rubbing-His-Chin-And-Posed-By-A-Question-Mark-Symbolizing-Curiousity-Confusion-And-Uncertainty"/>
          <p:cNvPicPr/>
          <p:nvPr/>
        </p:nvPicPr>
        <p:blipFill>
          <a:blip r:embed="rId8"/>
          <a:srcRect l="0" t="4540" r="0" b="11816"/>
          <a:stretch/>
        </p:blipFill>
        <p:spPr>
          <a:xfrm>
            <a:off x="2743200" y="4419720"/>
            <a:ext cx="1523880" cy="934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6"/>
          <p:cNvSpPr/>
          <p:nvPr/>
        </p:nvSpPr>
        <p:spPr>
          <a:xfrm>
            <a:off x="3124080" y="6095880"/>
            <a:ext cx="601992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It’s 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girl 3"/>
          <p:cNvPicPr/>
          <p:nvPr/>
        </p:nvPicPr>
        <p:blipFill>
          <a:blip r:embed="rId1"/>
          <a:stretch/>
        </p:blipFill>
        <p:spPr>
          <a:xfrm>
            <a:off x="7086600" y="5514840"/>
            <a:ext cx="1828800" cy="1343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oy 4"/>
          <p:cNvPicPr/>
          <p:nvPr/>
        </p:nvPicPr>
        <p:blipFill>
          <a:blip r:embed="rId2"/>
          <a:stretch/>
        </p:blipFill>
        <p:spPr>
          <a:xfrm>
            <a:off x="0" y="609480"/>
            <a:ext cx="1224000" cy="12956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4"/>
          <p:cNvSpPr/>
          <p:nvPr/>
        </p:nvSpPr>
        <p:spPr>
          <a:xfrm>
            <a:off x="1981080" y="304920"/>
            <a:ext cx="6477120" cy="1143000"/>
          </a:xfrm>
          <a:prstGeom prst="wedgeRoundRectCallout">
            <a:avLst>
              <a:gd name="adj1" fmla="val -60662"/>
              <a:gd name="adj2" fmla="val 36527"/>
              <a:gd name="adj3" fmla="val 16667"/>
            </a:avLst>
          </a:prstGeom>
          <a:solidFill>
            <a:srgbClr val="bbe0e3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228600" y="5181480"/>
            <a:ext cx="6095880" cy="1295640"/>
          </a:xfrm>
          <a:prstGeom prst="wedgeRoundRectCallout">
            <a:avLst>
              <a:gd name="adj1" fmla="val 61041"/>
              <a:gd name="adj2" fmla="val 37254"/>
              <a:gd name="adj3" fmla="val 16667"/>
            </a:avLst>
          </a:prstGeom>
          <a:solidFill>
            <a:srgbClr val="ffd9e2"/>
          </a:solidFill>
          <a:ln w="31680">
            <a:solidFill>
              <a:srgbClr val="fa4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It’s .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2133720" y="38088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What day is it toda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5" descr="28091-Clipart-Illustration-Of-A-Set-Of-Orange-And-Red-Flip-Page-Desk-Top-Calendars-With-Blank-Pages副本"/>
          <p:cNvPicPr/>
          <p:nvPr/>
        </p:nvPicPr>
        <p:blipFill>
          <a:blip r:embed="rId3"/>
          <a:stretch/>
        </p:blipFill>
        <p:spPr>
          <a:xfrm>
            <a:off x="1752480" y="1447920"/>
            <a:ext cx="5334120" cy="3782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2743200" y="3352680"/>
            <a:ext cx="32767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ur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girl 3"/>
          <p:cNvPicPr/>
          <p:nvPr/>
        </p:nvPicPr>
        <p:blipFill>
          <a:blip r:embed="rId1"/>
          <a:stretch/>
        </p:blipFill>
        <p:spPr>
          <a:xfrm>
            <a:off x="7086600" y="5514840"/>
            <a:ext cx="1828800" cy="1343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boy 4"/>
          <p:cNvPicPr/>
          <p:nvPr/>
        </p:nvPicPr>
        <p:blipFill>
          <a:blip r:embed="rId2"/>
          <a:stretch/>
        </p:blipFill>
        <p:spPr>
          <a:xfrm>
            <a:off x="0" y="609480"/>
            <a:ext cx="1224000" cy="12956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/>
          <p:cNvSpPr/>
          <p:nvPr/>
        </p:nvSpPr>
        <p:spPr>
          <a:xfrm>
            <a:off x="1981080" y="304920"/>
            <a:ext cx="6477120" cy="1143000"/>
          </a:xfrm>
          <a:prstGeom prst="wedgeRoundRectCallout">
            <a:avLst>
              <a:gd name="adj1" fmla="val -60662"/>
              <a:gd name="adj2" fmla="val 36527"/>
              <a:gd name="adj3" fmla="val 16667"/>
            </a:avLst>
          </a:prstGeom>
          <a:solidFill>
            <a:srgbClr val="bbe0e3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228600" y="5181480"/>
            <a:ext cx="6095880" cy="1295640"/>
          </a:xfrm>
          <a:prstGeom prst="wedgeRoundRectCallout">
            <a:avLst>
              <a:gd name="adj1" fmla="val 61041"/>
              <a:gd name="adj2" fmla="val 37254"/>
              <a:gd name="adj3" fmla="val 16667"/>
            </a:avLst>
          </a:prstGeom>
          <a:solidFill>
            <a:srgbClr val="ffd9e2"/>
          </a:solidFill>
          <a:ln w="31680">
            <a:solidFill>
              <a:srgbClr val="fa4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It’s .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133720" y="38088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What day is it toda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28091-Clipart-Illustration-Of-A-Set-Of-Orange-And-Red-Flip-Page-Desk-Top-Calendars-With-Blank-Pages副本"/>
          <p:cNvPicPr/>
          <p:nvPr/>
        </p:nvPicPr>
        <p:blipFill>
          <a:blip r:embed="rId3"/>
          <a:stretch/>
        </p:blipFill>
        <p:spPr>
          <a:xfrm>
            <a:off x="1523880" y="1447920"/>
            <a:ext cx="6248520" cy="3782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2743200" y="3352680"/>
            <a:ext cx="38862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girl 3"/>
          <p:cNvPicPr/>
          <p:nvPr/>
        </p:nvPicPr>
        <p:blipFill>
          <a:blip r:embed="rId1"/>
          <a:stretch/>
        </p:blipFill>
        <p:spPr>
          <a:xfrm>
            <a:off x="7086600" y="5514840"/>
            <a:ext cx="1828800" cy="1343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boy 4"/>
          <p:cNvPicPr/>
          <p:nvPr/>
        </p:nvPicPr>
        <p:blipFill>
          <a:blip r:embed="rId2"/>
          <a:stretch/>
        </p:blipFill>
        <p:spPr>
          <a:xfrm>
            <a:off x="0" y="609480"/>
            <a:ext cx="1224000" cy="12956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1981080" y="304920"/>
            <a:ext cx="6477120" cy="1143000"/>
          </a:xfrm>
          <a:prstGeom prst="wedgeRoundRectCallout">
            <a:avLst>
              <a:gd name="adj1" fmla="val -60662"/>
              <a:gd name="adj2" fmla="val 36527"/>
              <a:gd name="adj3" fmla="val 16667"/>
            </a:avLst>
          </a:prstGeom>
          <a:solidFill>
            <a:srgbClr val="bbe0e3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228600" y="5181480"/>
            <a:ext cx="6095880" cy="1295640"/>
          </a:xfrm>
          <a:prstGeom prst="wedgeRoundRectCallout">
            <a:avLst>
              <a:gd name="adj1" fmla="val 61041"/>
              <a:gd name="adj2" fmla="val 37254"/>
              <a:gd name="adj3" fmla="val 16667"/>
            </a:avLst>
          </a:prstGeom>
          <a:solidFill>
            <a:srgbClr val="ffd9e2"/>
          </a:solidFill>
          <a:ln w="31680">
            <a:solidFill>
              <a:srgbClr val="fa4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It’s .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133720" y="38088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What day is it toda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28091-Clipart-Illustration-Of-A-Set-Of-Orange-And-Red-Flip-Page-Desk-Top-Calendars-With-Blank-Pages副本"/>
          <p:cNvPicPr/>
          <p:nvPr/>
        </p:nvPicPr>
        <p:blipFill>
          <a:blip r:embed="rId3"/>
          <a:stretch/>
        </p:blipFill>
        <p:spPr>
          <a:xfrm>
            <a:off x="1523880" y="1447920"/>
            <a:ext cx="6248520" cy="37828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3429000" y="3200400"/>
            <a:ext cx="2438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ri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An-Art-Teacher-Holding-Up-A-Blank-Sign-By-Her-Students"/>
          <p:cNvPicPr/>
          <p:nvPr/>
        </p:nvPicPr>
        <p:blipFill>
          <a:blip r:embed="rId1"/>
          <a:srcRect l="0" t="0" r="0" b="6699"/>
          <a:stretch/>
        </p:blipFill>
        <p:spPr>
          <a:xfrm>
            <a:off x="0" y="0"/>
            <a:ext cx="5562720" cy="38559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849240" y="1600200"/>
            <a:ext cx="37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Now you 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28600" y="3962520"/>
            <a:ext cx="6705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What day is it toda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33520" y="525780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It’s 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7010280" y="228600"/>
            <a:ext cx="1828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6858000" y="5029200"/>
            <a:ext cx="2133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7086600" y="1828800"/>
            <a:ext cx="1828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Comic Sans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7162920" y="990720"/>
            <a:ext cx="1447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4c9b"/>
                </a:solidFill>
                <a:latin typeface="Comic Sans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553080" y="2590920"/>
            <a:ext cx="2590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7162920" y="4191120"/>
            <a:ext cx="1447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omic Sans MS"/>
              </a:rPr>
              <a:t>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781680" y="3352680"/>
            <a:ext cx="2057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girl 3"/>
          <p:cNvPicPr/>
          <p:nvPr/>
        </p:nvPicPr>
        <p:blipFill>
          <a:blip r:embed="rId1"/>
          <a:stretch/>
        </p:blipFill>
        <p:spPr>
          <a:xfrm>
            <a:off x="7315200" y="5514840"/>
            <a:ext cx="1828800" cy="1343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boy 4"/>
          <p:cNvPicPr/>
          <p:nvPr/>
        </p:nvPicPr>
        <p:blipFill>
          <a:blip r:embed="rId2"/>
          <a:stretch/>
        </p:blipFill>
        <p:spPr>
          <a:xfrm>
            <a:off x="0" y="609480"/>
            <a:ext cx="1224000" cy="129564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4"/>
          <p:cNvSpPr/>
          <p:nvPr/>
        </p:nvSpPr>
        <p:spPr>
          <a:xfrm>
            <a:off x="1752480" y="380880"/>
            <a:ext cx="7391520" cy="1143000"/>
          </a:xfrm>
          <a:prstGeom prst="wedgeRoundRectCallout">
            <a:avLst>
              <a:gd name="adj1" fmla="val -59342"/>
              <a:gd name="adj2" fmla="val 36527"/>
              <a:gd name="adj3" fmla="val 16667"/>
            </a:avLst>
          </a:prstGeom>
          <a:solidFill>
            <a:srgbClr val="bbe0e3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0" y="5181480"/>
            <a:ext cx="6934320" cy="1143000"/>
          </a:xfrm>
          <a:prstGeom prst="wedgeRoundRectCallout">
            <a:avLst>
              <a:gd name="adj1" fmla="val 59203"/>
              <a:gd name="adj2" fmla="val 73888"/>
              <a:gd name="adj3" fmla="val 16667"/>
            </a:avLst>
          </a:prstGeom>
          <a:solidFill>
            <a:srgbClr val="ffd9e2"/>
          </a:solidFill>
          <a:ln w="31680">
            <a:solidFill>
              <a:srgbClr val="fa4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My favourite day is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752480" y="45720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What’s your favourite da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28091-Clipart-Illustration-Of-A-Set-Of-Orange-And-Red-Flip-Page-Desk-Top-Calendars-With-Blank-Pages副本"/>
          <p:cNvPicPr/>
          <p:nvPr/>
        </p:nvPicPr>
        <p:blipFill>
          <a:blip r:embed="rId3"/>
          <a:stretch/>
        </p:blipFill>
        <p:spPr>
          <a:xfrm>
            <a:off x="1523880" y="1295280"/>
            <a:ext cx="6248520" cy="37832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9"/>
          <p:cNvSpPr/>
          <p:nvPr/>
        </p:nvSpPr>
        <p:spPr>
          <a:xfrm>
            <a:off x="3048120" y="3352680"/>
            <a:ext cx="3429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uesday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girl 3"/>
          <p:cNvPicPr/>
          <p:nvPr/>
        </p:nvPicPr>
        <p:blipFill>
          <a:blip r:embed="rId1"/>
          <a:stretch/>
        </p:blipFill>
        <p:spPr>
          <a:xfrm>
            <a:off x="7315200" y="5514840"/>
            <a:ext cx="1828800" cy="1343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boy 4"/>
          <p:cNvPicPr/>
          <p:nvPr/>
        </p:nvPicPr>
        <p:blipFill>
          <a:blip r:embed="rId2"/>
          <a:stretch/>
        </p:blipFill>
        <p:spPr>
          <a:xfrm>
            <a:off x="0" y="609480"/>
            <a:ext cx="1224000" cy="1295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4"/>
          <p:cNvSpPr/>
          <p:nvPr/>
        </p:nvSpPr>
        <p:spPr>
          <a:xfrm>
            <a:off x="1752480" y="380880"/>
            <a:ext cx="7391520" cy="1143000"/>
          </a:xfrm>
          <a:prstGeom prst="wedgeRoundRectCallout">
            <a:avLst>
              <a:gd name="adj1" fmla="val -59342"/>
              <a:gd name="adj2" fmla="val 36527"/>
              <a:gd name="adj3" fmla="val 16667"/>
            </a:avLst>
          </a:prstGeom>
          <a:solidFill>
            <a:srgbClr val="bbe0e3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0" y="5181480"/>
            <a:ext cx="6934320" cy="1143000"/>
          </a:xfrm>
          <a:prstGeom prst="wedgeRoundRectCallout">
            <a:avLst>
              <a:gd name="adj1" fmla="val 59203"/>
              <a:gd name="adj2" fmla="val 73888"/>
              <a:gd name="adj3" fmla="val 16667"/>
            </a:avLst>
          </a:prstGeom>
          <a:solidFill>
            <a:srgbClr val="ffd9e2"/>
          </a:solidFill>
          <a:ln w="31680">
            <a:solidFill>
              <a:srgbClr val="fa4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My favourite day is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752480" y="45720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What’s your favourite da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28091-Clipart-Illustration-Of-A-Set-Of-Orange-And-Red-Flip-Page-Desk-Top-Calendars-With-Blank-Pages副本"/>
          <p:cNvPicPr/>
          <p:nvPr/>
        </p:nvPicPr>
        <p:blipFill>
          <a:blip r:embed="rId3"/>
          <a:stretch/>
        </p:blipFill>
        <p:spPr>
          <a:xfrm>
            <a:off x="1523880" y="1295280"/>
            <a:ext cx="6248520" cy="3783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3429000" y="3200400"/>
            <a:ext cx="2438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ri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n-Art-Teacher-Holding-Up-A-Blank-Sign-By-Her-Students"/>
          <p:cNvPicPr/>
          <p:nvPr/>
        </p:nvPicPr>
        <p:blipFill>
          <a:blip r:embed="rId1"/>
          <a:srcRect l="0" t="0" r="0" b="6699"/>
          <a:stretch/>
        </p:blipFill>
        <p:spPr>
          <a:xfrm>
            <a:off x="0" y="0"/>
            <a:ext cx="5562720" cy="38559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849240" y="1600200"/>
            <a:ext cx="37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Now you 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7010280" y="228600"/>
            <a:ext cx="1828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6858000" y="5029200"/>
            <a:ext cx="2133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7086600" y="1828800"/>
            <a:ext cx="1828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Comic Sans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7162920" y="990720"/>
            <a:ext cx="1447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4c9b"/>
                </a:solidFill>
                <a:latin typeface="Comic Sans MS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553080" y="2590920"/>
            <a:ext cx="2590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7162920" y="4191120"/>
            <a:ext cx="1447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omic Sans MS"/>
              </a:rPr>
              <a:t>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6781680" y="3352680"/>
            <a:ext cx="2057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0" y="4038480"/>
            <a:ext cx="6553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’s your favourite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251280" y="5427720"/>
            <a:ext cx="545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My favourite day is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380880" y="0"/>
            <a:ext cx="23623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us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c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886200" y="0"/>
            <a:ext cx="525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earn to speak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ing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raw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use num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lay computer g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lay s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read and write s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understand the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981080" y="304920"/>
            <a:ext cx="2133720" cy="51051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600200" y="1143000"/>
            <a:ext cx="2438280" cy="16765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295280" y="2895480"/>
            <a:ext cx="2819520" cy="16765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057400" y="5486400"/>
            <a:ext cx="1981080" cy="7621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V="1">
            <a:off x="2286000" y="3733560"/>
            <a:ext cx="1752480" cy="25146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V="1">
            <a:off x="1905120" y="304920"/>
            <a:ext cx="2133360" cy="16761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676520" y="1142640"/>
            <a:ext cx="2438280" cy="3429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 flipV="1">
            <a:off x="1371600" y="1980720"/>
            <a:ext cx="2743200" cy="17528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4" descr="week.jpg"/>
          <p:cNvPicPr/>
          <p:nvPr/>
        </p:nvPicPr>
        <p:blipFill>
          <a:blip r:embed="rId1"/>
          <a:srcRect l="16927" t="6949" r="15350" b="6949"/>
          <a:stretch/>
        </p:blipFill>
        <p:spPr>
          <a:xfrm>
            <a:off x="3429000" y="0"/>
            <a:ext cx="5562720" cy="3730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</p:spPr>
      </p:pic>
      <p:sp>
        <p:nvSpPr>
          <p:cNvPr id="211" name="Text Box 5"/>
          <p:cNvSpPr/>
          <p:nvPr/>
        </p:nvSpPr>
        <p:spPr>
          <a:xfrm>
            <a:off x="-61200" y="838080"/>
            <a:ext cx="35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chool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课程表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373392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’s your favourite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51280" y="4648320"/>
            <a:ext cx="545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My favourite day is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15840" y="541008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460080" y="6216480"/>
            <a:ext cx="82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I have a ...lesson on ..., I like/love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aying-In-Grass"/>
          <p:cNvPicPr/>
          <p:nvPr/>
        </p:nvPicPr>
        <p:blipFill>
          <a:blip r:embed="rId1"/>
          <a:srcRect l="0" t="0" r="0" b="12666"/>
          <a:stretch/>
        </p:blipFill>
        <p:spPr>
          <a:xfrm>
            <a:off x="3276720" y="5059440"/>
            <a:ext cx="5867280" cy="17985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644760" y="228600"/>
            <a:ext cx="198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词缀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:-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657600" y="-2880"/>
            <a:ext cx="410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y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k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y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m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y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h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y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y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b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y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r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y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l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8091-Clipart-Illustration-Of-A-Set-Of-Orange-And-Red-Flip-Page-Desk-Top-Calendars-With-Blank-Pages副本"/>
          <p:cNvPicPr/>
          <p:nvPr/>
        </p:nvPicPr>
        <p:blipFill>
          <a:blip r:embed="rId1"/>
          <a:stretch/>
        </p:blipFill>
        <p:spPr>
          <a:xfrm>
            <a:off x="-533520" y="-380880"/>
            <a:ext cx="102110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429000" y="14479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omic Sans MS"/>
                <a:ea typeface="黑体"/>
              </a:rPr>
              <a:t>星期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308680" y="3200400"/>
            <a:ext cx="919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060000" y="3200400"/>
            <a:ext cx="10126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u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824280" y="3200400"/>
            <a:ext cx="10126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631400" y="3200400"/>
            <a:ext cx="1008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462640" y="3124080"/>
            <a:ext cx="16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ay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2438280" y="49528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2438280" y="4800600"/>
            <a:ext cx="2133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28091-Clipart-Illustration-Of-A-Set-Of-Orange-And-Red-Flip-Page-Desk-Top-Calendars-With-Blank-Pages副本"/>
          <p:cNvPicPr/>
          <p:nvPr/>
        </p:nvPicPr>
        <p:blipFill>
          <a:blip r:embed="rId1"/>
          <a:stretch/>
        </p:blipFill>
        <p:spPr>
          <a:xfrm>
            <a:off x="-533520" y="-380880"/>
            <a:ext cx="10211040" cy="7238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581280" y="15238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omic Sans MS"/>
                <a:ea typeface="黑体"/>
              </a:rPr>
              <a:t>星期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043360" y="3200400"/>
            <a:ext cx="14014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149280" y="3200400"/>
            <a:ext cx="9946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o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24280" y="3200400"/>
            <a:ext cx="10126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631400" y="3200400"/>
            <a:ext cx="1008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462640" y="3124080"/>
            <a:ext cx="16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ay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2286000" y="49528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2286000" y="480060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8091-Clipart-Illustration-Of-A-Set-Of-Orange-And-Red-Flip-Page-Desk-Top-Calendars-With-Blank-Pages副本"/>
          <p:cNvPicPr/>
          <p:nvPr/>
        </p:nvPicPr>
        <p:blipFill>
          <a:blip r:embed="rId1"/>
          <a:stretch/>
        </p:blipFill>
        <p:spPr>
          <a:xfrm>
            <a:off x="-533520" y="-380880"/>
            <a:ext cx="10211040" cy="723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429000" y="14479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omic Sans MS"/>
                <a:ea typeface="黑体"/>
              </a:rPr>
              <a:t>星期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065680" y="327672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820960" y="3200400"/>
            <a:ext cx="1771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u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350600" y="3200400"/>
            <a:ext cx="8254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936320" y="3200400"/>
            <a:ext cx="1008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691240" y="3124080"/>
            <a:ext cx="16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ay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2438280" y="49528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2438280" y="480060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28091-Clipart-Illustration-Of-A-Set-Of-Orange-And-Red-Flip-Page-Desk-Top-Calendars-With-Blank-Pages副本"/>
          <p:cNvPicPr/>
          <p:nvPr/>
        </p:nvPicPr>
        <p:blipFill>
          <a:blip r:embed="rId1"/>
          <a:stretch/>
        </p:blipFill>
        <p:spPr>
          <a:xfrm>
            <a:off x="-533520" y="-380880"/>
            <a:ext cx="10211040" cy="7238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515960" y="3352680"/>
            <a:ext cx="131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83360" y="33526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776200" y="335268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455160" y="3352680"/>
            <a:ext cx="14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a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128040" y="3352680"/>
            <a:ext cx="168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d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569120" y="3352680"/>
            <a:ext cx="145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429000" y="14479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omic Sans MS"/>
                <a:ea typeface="黑体"/>
              </a:rPr>
              <a:t>星期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1828800" y="502920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1828800" y="48006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8091-Clipart-Illustration-Of-A-Set-Of-Orange-And-Red-Flip-Page-Desk-Top-Calendars-With-Blank-Pages副本"/>
          <p:cNvPicPr/>
          <p:nvPr/>
        </p:nvPicPr>
        <p:blipFill>
          <a:blip r:embed="rId1"/>
          <a:stretch/>
        </p:blipFill>
        <p:spPr>
          <a:xfrm>
            <a:off x="-533520" y="-380880"/>
            <a:ext cx="10211040" cy="72388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429000" y="14479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omic Sans MS"/>
                <a:ea typeface="黑体"/>
              </a:rPr>
              <a:t>星期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81480" y="3352680"/>
            <a:ext cx="1761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Th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180960" y="3352680"/>
            <a:ext cx="1569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u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579200" y="3352680"/>
            <a:ext cx="8254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164920" y="3352680"/>
            <a:ext cx="1008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919840" y="3276720"/>
            <a:ext cx="16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ay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1905120" y="5105520"/>
            <a:ext cx="5410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1981080" y="495288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8091-Clipart-Illustration-Of-A-Set-Of-Orange-And-Red-Flip-Page-Desk-Top-Calendars-With-Blank-Pages副本"/>
          <p:cNvPicPr/>
          <p:nvPr/>
        </p:nvPicPr>
        <p:blipFill>
          <a:blip r:embed="rId1"/>
          <a:stretch/>
        </p:blipFill>
        <p:spPr>
          <a:xfrm>
            <a:off x="-533520" y="-380880"/>
            <a:ext cx="10211040" cy="7238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3429000" y="14479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omic Sans MS"/>
                <a:ea typeface="黑体"/>
              </a:rPr>
              <a:t>星期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652120" y="3276720"/>
            <a:ext cx="8787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131720" y="3352680"/>
            <a:ext cx="528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i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475440" y="3276720"/>
            <a:ext cx="736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479120" y="3352680"/>
            <a:ext cx="1008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310360" y="3276720"/>
            <a:ext cx="16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ay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2514600" y="5105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2590920" y="4876920"/>
            <a:ext cx="2133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28091-Clipart-Illustration-Of-A-Set-Of-Orange-And-Red-Flip-Page-Desk-Top-Calendars-With-Blank-Pages副本"/>
          <p:cNvPicPr/>
          <p:nvPr/>
        </p:nvPicPr>
        <p:blipFill>
          <a:blip r:embed="rId1"/>
          <a:stretch/>
        </p:blipFill>
        <p:spPr>
          <a:xfrm>
            <a:off x="-533520" y="-380880"/>
            <a:ext cx="10211040" cy="7238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3429000" y="14479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omic Sans MS"/>
                <a:ea typeface="黑体"/>
              </a:rPr>
              <a:t>星期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775160" y="3352680"/>
            <a:ext cx="919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59960" y="3352680"/>
            <a:ext cx="93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352680" y="3352680"/>
            <a:ext cx="666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241240" y="3352680"/>
            <a:ext cx="1008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996160" y="3352680"/>
            <a:ext cx="16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ay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943080" y="3352680"/>
            <a:ext cx="1569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u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1905120" y="5105520"/>
            <a:ext cx="556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1905120" y="4952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1905120" y="4952880"/>
            <a:ext cx="3352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6-01-28T01:52:02Z</dcterms:modified>
  <cp:revision>3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