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2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19.gif" ContentType="image/gif"/>
  <Override PartName="/ppt/media/image1.gif" ContentType="image/gif"/>
  <Override PartName="/ppt/media/image10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14.png" ContentType="image/png"/>
  <Override PartName="/ppt/media/image5.gif" ContentType="image/gif"/>
  <Override PartName="/ppt/media/image6.gif" ContentType="image/gif"/>
  <Override PartName="/ppt/media/image9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0AF-5599-4883-BA61-6BB36C8C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F4E-C4BA-4D11-B797-1FB570F4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96C-C242-435C-9DD2-827B06B8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A28-4029-4CD0-9D40-3FDF772F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962-4757-408B-95FA-196379DF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82D-FE9F-42E7-BDF5-F718A740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9B9-0DCE-4856-9418-517F98EE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AA13-354F-4C18-96ED-4FDD973C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1B22-797F-4723-8284-8C99BC8F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45E-8261-4975-9F97-5DD34F6C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B1A-10F6-4E99-8DDA-BA68A34E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5B7-7ADA-4975-946C-487F7AB0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15D4-A041-4A04-A676-580C04ABDA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692360" y="1773360"/>
            <a:ext cx="5867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875b0d">
                      <a:alpha val="66000"/>
                    </a:srgbClr>
                  </a:outerShdw>
                </a:effectLst>
                <a:latin typeface="Comic Sans MS"/>
              </a:rPr>
              <a:t>Module 4 Unit 7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0"/>
              </a:gradFill>
              <a:effectLst>
                <a:outerShdw dist="153753" dir="2700000" blurRad="0" rotWithShape="0">
                  <a:srgbClr val="875b0d">
                    <a:alpha val="66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123840" y="3029040"/>
            <a:ext cx="297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lay music"/>
          <p:cNvPicPr/>
          <p:nvPr/>
        </p:nvPicPr>
        <p:blipFill>
          <a:blip r:embed="rId1"/>
          <a:stretch/>
        </p:blipFill>
        <p:spPr>
          <a:xfrm>
            <a:off x="0" y="5734080"/>
            <a:ext cx="4724280" cy="885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play music"/>
          <p:cNvPicPr/>
          <p:nvPr/>
        </p:nvPicPr>
        <p:blipFill>
          <a:blip r:embed="rId2"/>
          <a:stretch/>
        </p:blipFill>
        <p:spPr>
          <a:xfrm>
            <a:off x="4572000" y="5661000"/>
            <a:ext cx="457200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脚印1"/>
          <p:cNvPicPr/>
          <p:nvPr/>
        </p:nvPicPr>
        <p:blipFill>
          <a:blip r:embed="rId3"/>
          <a:stretch/>
        </p:blipFill>
        <p:spPr>
          <a:xfrm>
            <a:off x="15228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脚印1"/>
          <p:cNvPicPr/>
          <p:nvPr/>
        </p:nvPicPr>
        <p:blipFill>
          <a:blip r:embed="rId4"/>
          <a:stretch/>
        </p:blipFill>
        <p:spPr>
          <a:xfrm>
            <a:off x="2209680" y="457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脚印1"/>
          <p:cNvPicPr/>
          <p:nvPr/>
        </p:nvPicPr>
        <p:blipFill>
          <a:blip r:embed="rId5"/>
          <a:stretch/>
        </p:blipFill>
        <p:spPr>
          <a:xfrm>
            <a:off x="6019920" y="5335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脚印1"/>
          <p:cNvPicPr/>
          <p:nvPr/>
        </p:nvPicPr>
        <p:blipFill>
          <a:blip r:embed="rId6"/>
          <a:stretch/>
        </p:blipFill>
        <p:spPr>
          <a:xfrm>
            <a:off x="7696080" y="152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脚印1"/>
          <p:cNvPicPr/>
          <p:nvPr/>
        </p:nvPicPr>
        <p:blipFill>
          <a:blip r:embed="rId7"/>
          <a:stretch/>
        </p:blipFill>
        <p:spPr>
          <a:xfrm>
            <a:off x="4068720" y="442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11"/>
          <p:cNvSpPr txBox="1"/>
          <p:nvPr/>
        </p:nvSpPr>
        <p:spPr>
          <a:xfrm>
            <a:off x="395280" y="3213000"/>
            <a:ext cx="8424720" cy="182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00cc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Comic Sans MS"/>
              </a:rPr>
              <a:t>What  do  you  do  when  you  have  free  time ?</a:t>
            </a:r>
            <a:endParaRPr b="1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00cc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1" name="Picture 12" descr="u=781475825,456713537&amp;fm=56"/>
          <p:cNvPicPr/>
          <p:nvPr/>
        </p:nvPicPr>
        <p:blipFill>
          <a:blip r:embed="rId8"/>
          <a:stretch/>
        </p:blipFill>
        <p:spPr>
          <a:xfrm>
            <a:off x="2147760" y="1714680"/>
            <a:ext cx="48484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rcRect l="0" t="0" r="0" b="5229"/>
          <a:stretch/>
        </p:blipFill>
        <p:spPr>
          <a:xfrm>
            <a:off x="468360" y="-379440"/>
            <a:ext cx="8712000" cy="63802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3"/>
          <p:cNvSpPr/>
          <p:nvPr/>
        </p:nvSpPr>
        <p:spPr>
          <a:xfrm>
            <a:off x="990720" y="4648320"/>
            <a:ext cx="7848360" cy="2209680"/>
          </a:xfrm>
          <a:prstGeom prst="irregularSeal2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833200" y="5410080"/>
            <a:ext cx="380160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ve a p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cn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rcRect l="0" t="0" r="0" b="6237"/>
          <a:stretch/>
        </p:blipFill>
        <p:spPr>
          <a:xfrm>
            <a:off x="2484360" y="4043520"/>
            <a:ext cx="3816360" cy="295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rcRect l="0" t="0" r="0" b="7926"/>
          <a:stretch/>
        </p:blipFill>
        <p:spPr>
          <a:xfrm rot="21120000">
            <a:off x="5494320" y="4078080"/>
            <a:ext cx="3311640" cy="2358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rcRect l="0" t="0" r="0" b="4954"/>
          <a:stretch/>
        </p:blipFill>
        <p:spPr>
          <a:xfrm rot="540000">
            <a:off x="5537160" y="74520"/>
            <a:ext cx="3351240" cy="29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rcRect l="0" t="0" r="0" b="6596"/>
          <a:stretch/>
        </p:blipFill>
        <p:spPr>
          <a:xfrm rot="540000">
            <a:off x="4149720" y="2495520"/>
            <a:ext cx="3213000" cy="2152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rcRect l="0" t="0" r="0" b="5750"/>
          <a:stretch/>
        </p:blipFill>
        <p:spPr>
          <a:xfrm>
            <a:off x="973080" y="2133720"/>
            <a:ext cx="3836880" cy="2367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6"/>
          <a:stretch/>
        </p:blipFill>
        <p:spPr>
          <a:xfrm rot="21240000">
            <a:off x="394920" y="549000"/>
            <a:ext cx="2376360" cy="2031840"/>
          </a:xfrm>
          <a:prstGeom prst="rect">
            <a:avLst/>
          </a:prstGeom>
          <a:ln w="0">
            <a:noFill/>
          </a:ln>
        </p:spPr>
      </p:pic>
      <p:pic>
        <p:nvPicPr>
          <p:cNvPr id="100" name="猫和老鼠.MPG" descr=""/>
          <p:cNvPicPr/>
          <p:nvPr/>
        </p:nvPicPr>
        <p:blipFill>
          <a:blip r:embed="rId7"/>
          <a:stretch/>
        </p:blipFill>
        <p:spPr>
          <a:xfrm>
            <a:off x="3276720" y="476280"/>
            <a:ext cx="2436840" cy="1873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8"/>
          <a:stretch/>
        </p:blipFill>
        <p:spPr>
          <a:xfrm rot="660000">
            <a:off x="-246240" y="4220640"/>
            <a:ext cx="3322800" cy="2657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Comic Sans MS"/>
              </a:rPr>
              <a:t>have free time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Comic Sans MS"/>
              </a:rPr>
              <a:t>有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华文楷体"/>
              </a:rPr>
              <a:t>当你有空你会做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10"/>
          <p:cNvPicPr/>
          <p:nvPr/>
        </p:nvPicPr>
        <p:blipFill>
          <a:blip r:embed="rId1"/>
          <a:stretch/>
        </p:blipFill>
        <p:spPr>
          <a:xfrm rot="20179800">
            <a:off x="-320760" y="4365720"/>
            <a:ext cx="2257560" cy="2671560"/>
          </a:xfrm>
          <a:prstGeom prst="rect">
            <a:avLst/>
          </a:prstGeom>
          <a:ln w="0">
            <a:noFill/>
          </a:ln>
        </p:spPr>
      </p:pic>
      <p:sp>
        <p:nvSpPr>
          <p:cNvPr id="105" name="WordArt 5"/>
          <p:cNvSpPr txBox="1"/>
          <p:nvPr/>
        </p:nvSpPr>
        <p:spPr>
          <a:xfrm>
            <a:off x="252360" y="1773360"/>
            <a:ext cx="87854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Comic Sans MS"/>
              </a:rPr>
              <a:t>What do you do when you have free time?</a:t>
            </a:r>
            <a:endParaRPr b="1" lang="en-US" sz="3200" spc="1" strike="noStrike">
              <a:ln w="9360">
                <a:solidFill>
                  <a:srgbClr val="cc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620720" y="4581360"/>
            <a:ext cx="6408720" cy="1008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I  often  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52360" y="5697360"/>
            <a:ext cx="8713800" cy="825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4800" spc="-1" strike="noStrike">
                <a:solidFill>
                  <a:srgbClr val="ff0066"/>
                </a:solidFill>
                <a:latin typeface="Comic Sans MS"/>
              </a:rPr>
              <a:t>I often</a:t>
            </a:r>
            <a:r>
              <a:rPr b="1" lang="zh-CN" sz="4800" spc="-1" strike="noStrike">
                <a:solidFill>
                  <a:srgbClr val="333399"/>
                </a:solidFill>
                <a:latin typeface="Comic Sans MS"/>
              </a:rPr>
              <a:t> watch cartoon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dianshi"/>
          <p:cNvPicPr/>
          <p:nvPr/>
        </p:nvPicPr>
        <p:blipFill>
          <a:blip r:embed="rId1"/>
          <a:srcRect l="13156" t="11916" r="15794" b="6706"/>
          <a:stretch/>
        </p:blipFill>
        <p:spPr>
          <a:xfrm>
            <a:off x="1676520" y="304920"/>
            <a:ext cx="5333760" cy="4267080"/>
          </a:xfrm>
          <a:prstGeom prst="rect">
            <a:avLst/>
          </a:prstGeom>
          <a:ln w="0">
            <a:noFill/>
          </a:ln>
        </p:spPr>
      </p:pic>
      <p:pic>
        <p:nvPicPr>
          <p:cNvPr id="109" name="猫和老鼠.MPG" descr=""/>
          <p:cNvPicPr/>
          <p:nvPr/>
        </p:nvPicPr>
        <p:blipFill>
          <a:blip r:embed="rId2"/>
          <a:stretch/>
        </p:blipFill>
        <p:spPr>
          <a:xfrm>
            <a:off x="2340000" y="692280"/>
            <a:ext cx="4032360" cy="3097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93600" y="4245120"/>
            <a:ext cx="9375840" cy="155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Comic Sans MS"/>
              </a:rPr>
              <a:t>What do you do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 when you have free tim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rcRect l="0" t="0" r="0" b="6237"/>
          <a:stretch/>
        </p:blipFill>
        <p:spPr>
          <a:xfrm>
            <a:off x="2484360" y="4043520"/>
            <a:ext cx="3816360" cy="295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rcRect l="0" t="0" r="0" b="4776"/>
          <a:stretch/>
        </p:blipFill>
        <p:spPr>
          <a:xfrm rot="21120000">
            <a:off x="5500440" y="4076280"/>
            <a:ext cx="3311280" cy="2440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rcRect l="0" t="0" r="0" b="4954"/>
          <a:stretch/>
        </p:blipFill>
        <p:spPr>
          <a:xfrm rot="540000">
            <a:off x="5537160" y="74520"/>
            <a:ext cx="3351240" cy="292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rcRect l="0" t="0" r="0" b="10136"/>
          <a:stretch/>
        </p:blipFill>
        <p:spPr>
          <a:xfrm rot="540000">
            <a:off x="4157280" y="2495160"/>
            <a:ext cx="3213000" cy="2071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5"/>
          <a:srcRect l="0" t="0" r="0" b="5750"/>
          <a:stretch/>
        </p:blipFill>
        <p:spPr>
          <a:xfrm>
            <a:off x="973080" y="2133720"/>
            <a:ext cx="3836880" cy="2367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6"/>
          <a:stretch/>
        </p:blipFill>
        <p:spPr>
          <a:xfrm rot="21240000">
            <a:off x="394920" y="549000"/>
            <a:ext cx="2376360" cy="2031840"/>
          </a:xfrm>
          <a:prstGeom prst="rect">
            <a:avLst/>
          </a:prstGeom>
          <a:ln w="0">
            <a:noFill/>
          </a:ln>
        </p:spPr>
      </p:pic>
      <p:pic>
        <p:nvPicPr>
          <p:cNvPr id="117" name="猫和老鼠.MPG" descr=""/>
          <p:cNvPicPr/>
          <p:nvPr/>
        </p:nvPicPr>
        <p:blipFill>
          <a:blip r:embed="rId7"/>
          <a:stretch/>
        </p:blipFill>
        <p:spPr>
          <a:xfrm>
            <a:off x="3276720" y="476280"/>
            <a:ext cx="2436840" cy="187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8"/>
          <a:stretch/>
        </p:blipFill>
        <p:spPr>
          <a:xfrm rot="660000">
            <a:off x="-246240" y="4220640"/>
            <a:ext cx="3322800" cy="2657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rcRect l="0" t="5381" r="0" b="0"/>
          <a:stretch/>
        </p:blipFill>
        <p:spPr>
          <a:xfrm>
            <a:off x="-249120" y="142920"/>
            <a:ext cx="9138960" cy="67341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1835280" y="1628640"/>
            <a:ext cx="6049800" cy="1739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Comic Sans MS"/>
              </a:rPr>
              <a:t>Shall we ......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我们……好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268360" y="3573360"/>
            <a:ext cx="4751640" cy="1678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Comic Sans MS"/>
              </a:rPr>
              <a:t>Great 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太好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rcRect l="0" t="0" r="0" b="6237"/>
          <a:stretch/>
        </p:blipFill>
        <p:spPr>
          <a:xfrm>
            <a:off x="2484360" y="4043520"/>
            <a:ext cx="3816360" cy="2957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rcRect l="0" t="0" r="0" b="4776"/>
          <a:stretch/>
        </p:blipFill>
        <p:spPr>
          <a:xfrm rot="21120000">
            <a:off x="5500440" y="4076280"/>
            <a:ext cx="3311280" cy="2440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3"/>
          <a:srcRect l="0" t="0" r="0" b="7243"/>
          <a:stretch/>
        </p:blipFill>
        <p:spPr>
          <a:xfrm rot="540000">
            <a:off x="5541480" y="74520"/>
            <a:ext cx="3351240" cy="285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4"/>
          <a:srcRect l="0" t="0" r="0" b="7078"/>
          <a:stretch/>
        </p:blipFill>
        <p:spPr>
          <a:xfrm rot="540000">
            <a:off x="4150800" y="2495160"/>
            <a:ext cx="3213360" cy="214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5"/>
          <a:srcRect l="0" t="0" r="0" b="5750"/>
          <a:stretch/>
        </p:blipFill>
        <p:spPr>
          <a:xfrm>
            <a:off x="973080" y="2133720"/>
            <a:ext cx="3836880" cy="2367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6"/>
          <a:stretch/>
        </p:blipFill>
        <p:spPr>
          <a:xfrm rot="21240000">
            <a:off x="394920" y="549000"/>
            <a:ext cx="2376360" cy="2031840"/>
          </a:xfrm>
          <a:prstGeom prst="rect">
            <a:avLst/>
          </a:prstGeom>
          <a:ln w="0">
            <a:noFill/>
          </a:ln>
        </p:spPr>
      </p:pic>
      <p:pic>
        <p:nvPicPr>
          <p:cNvPr id="128" name="猫和老鼠.MPG" descr=""/>
          <p:cNvPicPr/>
          <p:nvPr/>
        </p:nvPicPr>
        <p:blipFill>
          <a:blip r:embed="rId7"/>
          <a:stretch/>
        </p:blipFill>
        <p:spPr>
          <a:xfrm>
            <a:off x="3276720" y="476280"/>
            <a:ext cx="2436840" cy="1873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8"/>
          <a:stretch/>
        </p:blipFill>
        <p:spPr>
          <a:xfrm rot="660000">
            <a:off x="-246240" y="4220640"/>
            <a:ext cx="3322800" cy="2657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438280" y="38088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612720" y="3862440"/>
            <a:ext cx="590400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Shall  we.......?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684360" y="5016600"/>
            <a:ext cx="2736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Great !</a:t>
            </a:r>
            <a:endParaRPr b="0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4000" y="4437000"/>
            <a:ext cx="242640" cy="860400"/>
          </a:xfrm>
          <a:custGeom>
            <a:avLst/>
            <a:gdLst>
              <a:gd name="textAreaLeft" fmla="*/ 155160 w 242640"/>
              <a:gd name="textAreaRight" fmla="*/ 243000 w 242640"/>
              <a:gd name="textAreaTop" fmla="*/ 22320 h 860400"/>
              <a:gd name="textAreaBottom" fmla="*/ 838080 h 86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142920" y="477720"/>
            <a:ext cx="869004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What do you do when you have free time?</a:t>
            </a:r>
            <a:endParaRPr b="0" lang="en-US" sz="40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1763640" y="1989000"/>
            <a:ext cx="485928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I often ....           </a:t>
            </a:r>
            <a:endParaRPr b="0" lang="en-US" sz="40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0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5720" y="1447200"/>
            <a:ext cx="8168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Copy the phrases 3 tim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Read the text 3 times , and a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in pair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&lt;Exercise Book&gt; P21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200692875829856"/>
          <p:cNvPicPr/>
          <p:nvPr/>
        </p:nvPicPr>
        <p:blipFill>
          <a:blip r:embed="rId2"/>
          <a:stretch/>
        </p:blipFill>
        <p:spPr>
          <a:xfrm>
            <a:off x="7238880" y="4572000"/>
            <a:ext cx="1905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Monotype Corsiva"/>
                <a:ea typeface="华文行楷"/>
              </a:rPr>
              <a:t>Let’s sing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turtle"/>
          <p:cNvPicPr/>
          <p:nvPr/>
        </p:nvPicPr>
        <p:blipFill>
          <a:blip r:embed="rId1"/>
          <a:stretch/>
        </p:blipFill>
        <p:spPr>
          <a:xfrm>
            <a:off x="7956720" y="5533920"/>
            <a:ext cx="1110960" cy="127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s-violet"/>
          <p:cNvPicPr/>
          <p:nvPr/>
        </p:nvPicPr>
        <p:blipFill>
          <a:blip r:embed="rId2"/>
          <a:stretch/>
        </p:blipFill>
        <p:spPr>
          <a:xfrm>
            <a:off x="4788000" y="476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s-yellow"/>
          <p:cNvPicPr/>
          <p:nvPr/>
        </p:nvPicPr>
        <p:blipFill>
          <a:blip r:embed="rId3"/>
          <a:stretch/>
        </p:blipFill>
        <p:spPr>
          <a:xfrm>
            <a:off x="3564000" y="40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s-yellow"/>
          <p:cNvPicPr/>
          <p:nvPr/>
        </p:nvPicPr>
        <p:blipFill>
          <a:blip r:embed="rId4"/>
          <a:stretch/>
        </p:blipFill>
        <p:spPr>
          <a:xfrm>
            <a:off x="5940360" y="260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s-yellow"/>
          <p:cNvPicPr/>
          <p:nvPr/>
        </p:nvPicPr>
        <p:blipFill>
          <a:blip r:embed="rId5"/>
          <a:stretch/>
        </p:blipFill>
        <p:spPr>
          <a:xfrm>
            <a:off x="8101080" y="620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s-yellow"/>
          <p:cNvPicPr/>
          <p:nvPr/>
        </p:nvPicPr>
        <p:blipFill>
          <a:blip r:embed="rId6"/>
          <a:stretch/>
        </p:blipFill>
        <p:spPr>
          <a:xfrm>
            <a:off x="324000" y="1773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s-yellow"/>
          <p:cNvPicPr/>
          <p:nvPr/>
        </p:nvPicPr>
        <p:blipFill>
          <a:blip r:embed="rId7"/>
          <a:stretch/>
        </p:blipFill>
        <p:spPr>
          <a:xfrm>
            <a:off x="8244000" y="39337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s-yellow"/>
          <p:cNvPicPr/>
          <p:nvPr/>
        </p:nvPicPr>
        <p:blipFill>
          <a:blip r:embed="rId8"/>
          <a:stretch/>
        </p:blipFill>
        <p:spPr>
          <a:xfrm>
            <a:off x="5435640" y="6093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s-yellow"/>
          <p:cNvPicPr/>
          <p:nvPr/>
        </p:nvPicPr>
        <p:blipFill>
          <a:blip r:embed="rId9"/>
          <a:stretch/>
        </p:blipFill>
        <p:spPr>
          <a:xfrm>
            <a:off x="1116000" y="6021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s-violet"/>
          <p:cNvPicPr/>
          <p:nvPr/>
        </p:nvPicPr>
        <p:blipFill>
          <a:blip r:embed="rId10"/>
          <a:stretch/>
        </p:blipFill>
        <p:spPr>
          <a:xfrm>
            <a:off x="2771640" y="6021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s-violet"/>
          <p:cNvPicPr/>
          <p:nvPr/>
        </p:nvPicPr>
        <p:blipFill>
          <a:blip r:embed="rId11"/>
          <a:stretch/>
        </p:blipFill>
        <p:spPr>
          <a:xfrm>
            <a:off x="8317080" y="2781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s-violet"/>
          <p:cNvPicPr/>
          <p:nvPr/>
        </p:nvPicPr>
        <p:blipFill>
          <a:blip r:embed="rId12"/>
          <a:stretch/>
        </p:blipFill>
        <p:spPr>
          <a:xfrm>
            <a:off x="324000" y="3213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s-violet"/>
          <p:cNvPicPr/>
          <p:nvPr/>
        </p:nvPicPr>
        <p:blipFill>
          <a:blip r:embed="rId13"/>
          <a:stretch/>
        </p:blipFill>
        <p:spPr>
          <a:xfrm>
            <a:off x="179280" y="48690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755280" y="1125000"/>
            <a:ext cx="7931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Comic Sans MS"/>
              </a:rPr>
              <a:t>Doing the hokey pokey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Comic Sans MS"/>
              </a:rPr>
              <a:t>We`re doing the hokey pokey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Comic Sans MS"/>
              </a:rPr>
              <a:t>We `re doing the hokey pokey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Comic Sans MS"/>
              </a:rPr>
              <a:t>We are waving our arm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Comic Sans MS"/>
              </a:rPr>
              <a:t>We`re kicking our legs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Comic Sans MS"/>
              </a:rPr>
              <a:t>We `re doing the hokey pokey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ff"/>
                </a:solidFill>
                <a:latin typeface="Comic Sans MS"/>
              </a:rPr>
              <a:t>We `re doing the hokey pokey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96720" y="260280"/>
            <a:ext cx="8280720" cy="70786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5"/>
          <p:cNvSpPr/>
          <p:nvPr/>
        </p:nvSpPr>
        <p:spPr>
          <a:xfrm>
            <a:off x="-677880" y="-20520"/>
            <a:ext cx="7840800" cy="2203200"/>
          </a:xfrm>
          <a:prstGeom prst="irregularSeal2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85360" y="693720"/>
            <a:ext cx="498600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me r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ea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990720" y="4648320"/>
            <a:ext cx="7848360" cy="2209680"/>
          </a:xfrm>
          <a:prstGeom prst="irregularSeal2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597040" y="5410080"/>
            <a:ext cx="456876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tch c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ar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oo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dianshi"/>
          <p:cNvPicPr/>
          <p:nvPr/>
        </p:nvPicPr>
        <p:blipFill>
          <a:blip r:embed="rId1"/>
          <a:srcRect l="13156" t="11916" r="15794" b="6706"/>
          <a:stretch/>
        </p:blipFill>
        <p:spPr>
          <a:xfrm>
            <a:off x="1676520" y="304920"/>
            <a:ext cx="5333760" cy="4267080"/>
          </a:xfrm>
          <a:prstGeom prst="rect">
            <a:avLst/>
          </a:prstGeom>
          <a:ln w="0">
            <a:noFill/>
          </a:ln>
        </p:spPr>
      </p:pic>
      <p:pic>
        <p:nvPicPr>
          <p:cNvPr id="75" name="猫和老鼠.MPG" descr=""/>
          <p:cNvPicPr/>
          <p:nvPr/>
        </p:nvPicPr>
        <p:blipFill>
          <a:blip r:embed="rId2"/>
          <a:stretch/>
        </p:blipFill>
        <p:spPr>
          <a:xfrm>
            <a:off x="2340000" y="692280"/>
            <a:ext cx="4032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0" t="0" r="0" b="4555"/>
          <a:stretch/>
        </p:blipFill>
        <p:spPr>
          <a:xfrm>
            <a:off x="1619280" y="-236520"/>
            <a:ext cx="7435800" cy="65232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3"/>
          <p:cNvSpPr/>
          <p:nvPr/>
        </p:nvSpPr>
        <p:spPr>
          <a:xfrm>
            <a:off x="-390600" y="3933720"/>
            <a:ext cx="7842240" cy="2210040"/>
          </a:xfrm>
          <a:prstGeom prst="irregularSeal2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116000" y="4581360"/>
            <a:ext cx="439272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e 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ph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rcRect l="0" t="0" r="0" b="6222"/>
          <a:stretch/>
        </p:blipFill>
        <p:spPr>
          <a:xfrm>
            <a:off x="36360" y="460440"/>
            <a:ext cx="9145800" cy="56116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3"/>
          <p:cNvSpPr/>
          <p:nvPr/>
        </p:nvSpPr>
        <p:spPr>
          <a:xfrm>
            <a:off x="990720" y="4648320"/>
            <a:ext cx="7848360" cy="2209680"/>
          </a:xfrm>
          <a:prstGeom prst="irregularSeal2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854800" y="5410080"/>
            <a:ext cx="375876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  sh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pp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in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0" t="0" r="0" b="5858"/>
          <a:stretch/>
        </p:blipFill>
        <p:spPr>
          <a:xfrm>
            <a:off x="34920" y="189000"/>
            <a:ext cx="9136080" cy="616896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3"/>
          <p:cNvSpPr/>
          <p:nvPr/>
        </p:nvSpPr>
        <p:spPr>
          <a:xfrm>
            <a:off x="990720" y="4648320"/>
            <a:ext cx="7848360" cy="2209680"/>
          </a:xfrm>
          <a:prstGeom prst="irregularSeal2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527560" y="5410080"/>
            <a:ext cx="441432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n t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u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54160" y="-7920"/>
            <a:ext cx="9070920" cy="72248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"/>
          <p:cNvSpPr/>
          <p:nvPr/>
        </p:nvSpPr>
        <p:spPr>
          <a:xfrm>
            <a:off x="990720" y="4648320"/>
            <a:ext cx="7848360" cy="2209680"/>
          </a:xfrm>
          <a:prstGeom prst="irregularSeal2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613960" y="5410080"/>
            <a:ext cx="424044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dr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aw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 a p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ct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ur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0" t="4751" r="0" b="5141"/>
          <a:stretch/>
        </p:blipFill>
        <p:spPr>
          <a:xfrm>
            <a:off x="828720" y="0"/>
            <a:ext cx="7777080" cy="57862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3"/>
          <p:cNvSpPr/>
          <p:nvPr/>
        </p:nvSpPr>
        <p:spPr>
          <a:xfrm>
            <a:off x="990720" y="4648320"/>
            <a:ext cx="7848360" cy="2209680"/>
          </a:xfrm>
          <a:prstGeom prst="irregularSeal2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300400" y="5410080"/>
            <a:ext cx="486720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ai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l m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 fr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ie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6-01-28T02:04:54Z</dcterms:modified>
  <cp:revision>1</cp:revision>
  <dc:subject/>
  <dc:title>幻灯片 1</dc:title>
</cp:coreProperties>
</file>