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.jpeg" ContentType="image/jpeg"/>
  <Override PartName="/ppt/media/voltage.wav" ContentType="audio/x-wav"/>
  <Override PartName="/ppt/media/image7.jpeg" ContentType="image/jpeg"/>
  <Override PartName="/ppt/media/image4.jpeg" ContentType="image/jpeg"/>
  <Override PartName="/ppt/media/suction.wav" ContentType="audio/x-wav"/>
  <Override PartName="/ppt/media/laser.wav" ContentType="audio/x-wav"/>
  <Override PartName="/ppt/media/image3.jpeg" ContentType="image/jpeg"/>
  <Override PartName="/ppt/media/image12.png" ContentType="image/png"/>
  <Override PartName="/ppt/media/hammer.wav" ContentType="audio/x-wav"/>
  <Override PartName="/ppt/media/image11.png" ContentType="image/png"/>
  <Override PartName="/ppt/media/camera.wav" ContentType="audio/x-wav"/>
  <Override PartName="/ppt/media/image9.png" ContentType="image/png"/>
  <Override PartName="/ppt/media/image8.jpeg" ContentType="image/jpeg"/>
  <Override PartName="/ppt/media/image1.jpeg" ContentType="image/jpeg"/>
  <Override PartName="/ppt/media/image2.jpeg" ContentType="image/jpeg"/>
  <Override PartName="/ppt/media/wind.wav" ContentType="audio/x-wav"/>
  <Override PartName="/ppt/media/chimes.wav" ContentType="audio/x-wav"/>
  <Override PartName="/ppt/media/image10.png" ContentType="image/png"/>
  <Override PartName="/ppt/media/image6.jpeg" ContentType="image/jpeg"/>
  <Override PartName="/ppt/media/type.wav" ContentType="audio/x-wav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dt" idx="10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 type="ftr" idx="10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 type="sldNum" idx="10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0470-E586-45B1-AAF3-336157C0BFC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Calibri"/>
              </a:rPr>
              <a:t>归纳现在分词的构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ABA7-C96E-42F3-9A08-D0DE2FAB57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Calibri"/>
              </a:rPr>
              <a:t>归纳现在分词的构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6223-85AE-44DA-86BE-97C74F7B4C2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Calibri"/>
              </a:rPr>
              <a:t>归纳现在分词的构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10BE-5442-408C-9803-D00F3D925E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Calibri"/>
              </a:rPr>
              <a:t>归纳现在分词的构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D3B3-A4A4-4AC5-80AE-82DC6C0B4E3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Calibri"/>
              </a:rPr>
              <a:t>归纳现在分词的构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7EA2-3C81-46FF-A4CD-ADB7592592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Calibri"/>
              </a:rPr>
              <a:t>归纳现在分词的构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50A0-DD54-4199-BAA6-036B4B5224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Calibri"/>
              </a:rPr>
              <a:t>归纳现在分词的构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65A2-0FE8-4482-AE2E-CAF660F9E3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Calibri"/>
              </a:rPr>
              <a:t>归纳现在分词的构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E039-00C2-49B7-8B6D-64157067B4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Calibri"/>
              </a:rPr>
              <a:t>归纳现在分词的构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C832-8A6E-4501-A978-7F3B643D443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FF3-0B5F-4A20-9E28-A88CBFAB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948-16F6-4CD3-A213-33A8FFF4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33D57-7E5A-4F9D-B19F-0E70A6FF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D8D69-5161-4A6D-91C1-A3C6A4BA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CA7F5-2130-4201-AB23-FC0B8F10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93BE7-543C-48B5-B27C-4B0B8B42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5D76B-C7A1-4CC1-8633-4F8B8A10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18D00-1FBF-4A70-BFBB-9EDA60E1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3F173-9381-401C-8895-890B2CC9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27EA7-0765-4295-B594-5C59E112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FEF92-3497-4348-8387-6A414866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0760E-523A-465E-B9B0-37374995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98E-AFC2-4486-98D8-286F4CAA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FC5E7-14AA-4D8D-8FBE-05D9D25F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E3EE4-D1B2-4FED-8FA4-4C025E20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AA4F3-55EF-4118-B4F3-FE2EDB31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C7B65-A334-450A-A593-DE0D821A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1BF5F-04AE-4DA4-84D2-F3F6C6DE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DE7F5-0B2A-4D60-B5EE-CB0D4C90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22AE5-49C4-4806-A195-3B086E62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C1D60-2CB6-4383-B842-A895E21E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14A0C-9D4B-4E81-9DEB-D27E5BB5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BCD87-A9ED-4FE2-B6DF-86676CC8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D43-306D-499C-8964-31694358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E4F40-B757-4B0C-9271-39946B31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C333D-B182-49FC-8E86-C1F02947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6A2E6-79EB-4818-9A91-4CD1EC34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0D454-81D6-4A93-9AFB-5CD36197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8469B-3A61-4F79-AE3E-35A8F89B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197B9-8B3B-43B2-A620-7FC84F76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9000F-1132-4A90-9E9E-D906B084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7CFE0-D211-4A9D-A821-F8CB16E0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3589C-6651-4E6F-87F1-DAC8B0F7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3A93F-D8C4-4C7D-BAC4-29B0D9C9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C0C1-7840-409A-802A-31670ED9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5B4EE-7497-454C-8128-28B1FE59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5B883-5D6E-43B9-8489-CFA4E92E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4971E-BED2-4C4C-9A2F-339F11E4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0FF10-1529-4718-9174-0ACE3662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F03B8-DB46-47EE-A53C-77C4BC8C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B2D05-0C4A-440E-A6E1-D250B26F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43DDC-D089-413B-8DBA-91CA6878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B1B59-76CD-49A6-B091-FBFB2CCB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95D3D-F954-44E1-8EDD-6AFA3678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B0371-0AD2-4522-AA5A-C477B2A8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D128-0B5A-4847-BB08-08F5E3BD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9AFF5-54D8-4449-8459-0641E9F5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3CAAB-2D89-4628-B0BC-80657F84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4E8D0-86AB-4B3F-8C0E-0CA9F8DE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2718D-8E2F-4E4C-8AEF-5642D443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19A9F-48EB-4AF8-9CD3-37F6D1A2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D8BE6E-3535-4687-9E2C-7B048818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EC4CFD-0284-4BE4-8ABD-84191364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5634DE-F9ED-4C67-922A-15B40B18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20A7F6-25A6-4518-9F3D-0DA28CE8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AD723F-9213-4487-BBBE-D2A70DAE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BE8C-9C71-4822-93C2-A32E1463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89F49-6B25-4E13-8936-D2FB6E2D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E254C-47FE-457A-83CC-3AF4B482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71EDB-EDA6-4C59-B219-C91ED242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9FB99-4350-4EC0-946B-F03E2EF7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33A27-419B-4418-83CA-BB23D539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1D5372-B52C-4DA0-A9B0-38CDCD60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D1223-2744-475A-BCE7-A3CB8882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F6C53-871C-4FC5-B9F6-2FCF51C6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D8207A-C730-4117-8ECF-5864D531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7FDFC4-5201-4444-89D1-80D765F3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F08E-FA76-48F5-B054-2992432E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30BC3E-A7FA-43CD-8849-B491BDB9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123729-D6D2-4F85-8D96-BA0F1518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B36899-6AE2-4B54-B003-68AC95B7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EB82FB-0493-4AB3-9716-7C331377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1D3D16-2EB0-4924-8257-8D5D63C1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FFBA63-FBD5-447E-8B27-0985B826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72D794-1BB3-4C79-A9FA-197FB921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E45B6D-6C78-4489-9F28-7EE8E6A5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CDC2D-83D1-474A-BD45-0E8F7A9D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4688D6-478A-4AD3-AF55-5DF655B3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D728-BFC8-4E36-9E0F-D468413C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10E002-2891-4AB6-90CF-2C863A15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C0FE8C-9B95-488B-8133-D6A30649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2E1C7C-CD37-4EA1-BD5C-2D4D1EF3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D1AA60-C379-4889-AB69-776C71F2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BAC4BD-C93C-4A9B-8693-08EB1CCE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3CD481-83FE-4FCD-A9FF-DFC90A65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49DA73-50D7-44B9-903D-0D5E6839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59C5D6-3E62-4C63-8D40-38FB7A5B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FB6815-B8B5-421D-9971-0D2797BD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B32378-7848-4D5F-812A-C99F465F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C69A-1905-4638-8AFF-A80AD736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0FB069-EE9E-4876-8E92-BC42A9E8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804CF1-86DC-42EA-99B8-FA301F7D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D3FEBB-B6D3-4471-84FE-F605926E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2FAC1C-E0B0-4827-9A1C-0996E0CA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A3B27D-A42E-4A12-81BE-3BE9933A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354DFE-10F3-4204-9917-74A65102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0B5BB-69B2-4117-8E88-6C45605A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4721D3-C078-4156-A471-D6191236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108081-42D3-47CA-B839-3B9F808B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48A435-471E-415A-B89D-89ECEF9D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8A06-909A-4F2D-B471-04DCD783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0B2434-6E23-466A-A714-7448E85A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240CDD-DF07-495B-97C2-6B7E2F5B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7D1A4D-11B9-4417-85AB-A6618FA5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FC6BA5-1378-449A-8E63-80BDEBCA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7EFCEF-97E4-4DEF-938F-81B70412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A073D4-27F9-4A71-A129-1010555E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7A47C3-3E40-4700-B243-6AB8402D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192A70-346B-40ED-9676-701B586B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369346-2247-42B6-B9CE-075D7984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FEB91A-F4D0-4335-B9BA-EAC156B1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11F-E719-4772-899E-64B2D157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E4EE-3C65-4E32-B722-6A54DF6B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31EAA1-8D9B-40A0-B2E0-459DE58A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AA690F-266C-44A1-B11E-2D17841F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60F250-A9C6-4C46-A328-430E2ACF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1A9B38-B165-4A7F-B5D8-21AB4D2F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9A7FEC-ECC3-4CC1-91FD-73B1E467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D2B8F7-3FEE-4C57-8244-A59EF1BB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842D7F-F8C2-4AF5-83CF-9DA0DE26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30C751-9200-4ABE-9561-19254E07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8F1CA5-7EF7-42C2-9C54-B212E84A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14F99C-E614-42CD-94D2-4941877C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F0FB-F702-447A-B580-80ED1D21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48B914-7BC9-41EC-922E-0D0BC900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FA5677-8D5A-426A-B993-CF3BF259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7D9645-9D38-4D5C-AC08-6BB3D125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F723FF-5E31-4BE5-A79F-C82FC9AB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84A35D-98DC-467B-AE35-42DDBB18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96345D-B64B-4A23-9453-5EDA788B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E43611-708A-4865-89F3-6B91042F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5735D5-3C1E-4ED6-B53E-BFE8821A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3FB046-D053-4E46-A41D-C3C70C2F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93C5C1-1231-42B4-BE2F-5390E62A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1C13-A9C2-40E9-9F80-0B20FCBA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CB1DEA-0E39-4153-AE5B-6C77DC29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C9AAFB-81B2-4BDC-AD96-E7F197CB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CCB3CB-7041-4DC1-92D4-5D4BAA74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A7DCBB-E13A-4F87-938C-E4671242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2A00CE-F4DD-4F98-9FCB-78C9C0F7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5C563D-958B-4F12-99A6-291DC884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19C7A0-A75F-4990-A3CF-BB1D205E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E9A3E7-3447-4E20-9609-5D991024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577E4F-A9BF-4E5F-BD65-8269D92A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47028A-BACE-4514-B2DE-DBDC65A4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F6A8-323F-42E3-A89D-C8D6F905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8C7E10-0FA9-4725-9651-FB6C33C0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613A9D-9BCD-4AE8-835D-733FA16F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5869C2-FB81-4A85-B2BF-58EB03E2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DB317D-6FB3-4B09-8758-285C1FAD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A9F9E4-9124-46E3-A764-E6324DCD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21D385-784C-49B2-8F4B-873B1285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EB4DDA-BA40-4015-9C14-D035A570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4E93C8-B9C5-43D1-934B-5C9BC2D4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4B7545-0DB7-4244-B85D-E0CB6F82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F4433E-DB7C-4B4C-BC84-2CB929D4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ECD9-94B9-4527-9399-A6FFD51F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591DA8-6A1B-4ECB-B67E-78936FC5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83E359-C694-439C-9A4B-B9F8F24A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9483CE-B02E-498D-9F2A-E78A6EC8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049707-002D-4C48-9D7A-6BAC45D7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DAB638-30BC-476D-A1C0-356051EC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C42FB3-9D73-4011-A488-87A537D9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ACE0B4-60CC-45ED-9CE2-123233C4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B3A9AD-9484-4A20-AF9F-77A78964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D0E03F-A828-41B4-AE25-4F2C0A14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3CFDFE-FF0F-4D3B-AF7D-24B00C73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723A3-A545-4598-9C30-DF673D33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4D2035-C97F-4344-B3E4-F3C95E3C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5F2D00-05EA-47F9-BAEF-17C832C6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C65F7D-4697-41CC-AB95-83DB34B1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A038D2-3AAB-4750-A29A-769BAD10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3C6E59-AF0F-4875-8E07-18F06DC1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2D7CA9-82B5-4E81-B032-7F518BF0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E10152-2213-4A9E-8795-AB5B0F20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7B2AE1-F59D-43F1-B4D7-FE1497EC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9B8DCE-4F03-4C82-A274-52FE5231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4433E1-EBE0-4576-BE71-60C5EA7E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D9A23-8519-4FCC-AF62-B1E8C6D0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5555EB-6273-4277-A445-67ABA8B4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700E4B-F178-4F81-B765-E0299F75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6788D3-4623-4508-A8EA-3A7CB840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2CE935-1AA6-4202-A5D0-3F15973B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887154-9278-4D97-A512-4EB15CF0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D6D356-A77E-48BC-9C67-9405AAA3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497182-DD0D-4B07-BC07-87A2F3FD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FA46AF-E864-4FB4-AC40-5689B1C6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882D7C-BEFD-444A-B577-350567CC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E2A875-39E5-4A5E-9901-9118CFD0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3C8C1-0715-42E7-B470-BCF44904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2351B7-FF96-4E94-9D7B-EAADAB14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000D8F-3CD9-4518-8114-F7DF6432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294A0B-417C-403A-940B-815C29BB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201F9D-E0CF-46DA-AEB5-5C87ABAE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B478E7-B8F4-4F02-85C4-CA17EA48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CA0517-3230-4942-89C6-0ECCA405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E6A559-D186-470F-B47B-76BBD174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992406-C2CF-4423-9506-DA56B83B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20AC6C-778B-44C0-A051-51412EB6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75EA28-5EE4-4809-8E36-AEDC56A5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57691-A03E-4999-8166-5B1B81D0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A2832B-816D-43EC-B597-E3A17769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88C14F-B738-4322-8499-D03FF004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546543-0EF8-48C1-A9BB-C0C86A78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9A728C-A4E2-451C-AF59-F6FDFD71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52E6AC-621E-41EE-A0EB-1E8BCE30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9B3EC6-E625-4327-AB3B-FCEA82A1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9F9B4F-DA2B-48EA-B812-676B85B4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E878AA-DBAC-416B-AB8A-06860F25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5D0D0D-4BF0-42E9-858F-1F5987FC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C58796-D0AD-4617-8F29-6025AF25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8A597-8158-4D03-80EF-9EEA05E6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046333-03D9-49FF-A26F-7284C2EC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3D3B21-7FDA-4CD2-9CA1-7C58C766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E6534A-EDFA-4D69-BA7C-A6F201C3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878A03-5E91-4D70-92C0-4AB9F7C9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0092D7-3700-46F9-8217-E0635618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A38FD1-3D17-4BD3-9A9E-1C4FB578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9496E0-7E41-4C30-8B79-AFFFE20A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DDFB52-980E-4570-936B-336EE302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FD83B9-44AE-4AC9-997C-0203DB38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61F34A-5B62-41A1-8FF9-D04C4B0F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03B4-57D6-4FE7-A75E-8856E0B3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D7FAE-170C-464C-AC7D-9675D12C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25D38C-5340-4457-8970-4ACD688C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02E067-F15C-4C02-8B13-88FB64DB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DF72D6-E82E-4931-882A-9119D6AE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1C3EBA-6BE2-4DB2-A6D1-2F62B94A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0B31DB-CDD9-4F74-A837-E940B10D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F4253A-EE54-4C50-BFDA-8B29AF2A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7AE6A3-858B-4819-B4D1-5B2F5B27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24D146-F9E7-485E-9349-9D662D96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1743FB-F3AF-4098-92DF-4C85022D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7C5873-822D-4461-AD46-533DFC43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98AFD-C402-4ABE-A10E-EBC57269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1FB7C5-7D56-40BB-B1DA-2156AE2B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4DB5B8-9789-4E1B-BD9D-C1CC4640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6B6F63-58C9-462C-BD6D-C77D94DA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B68FC5-29D0-4CA8-9A57-605B2A62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A85393-424D-49C4-BB20-7A51B230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67DFCF-E460-4783-BB40-6630B1AF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DA1862-E93A-4619-9945-8CBE5F6F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2FA5A5-ABDB-481A-A225-01D09C17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D6D1C5-7119-4E8E-89CF-3936069D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87560D-97BA-4052-A64C-677C7809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D2A17-AF76-4D57-8CDB-DAF2E84D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57C36D-F5FE-4CE9-83AE-40BC0AED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4F2820-9390-459B-803E-44A93291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8BAFFB-E14A-4982-8C1B-E4BC4104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855EE8-05D4-40CA-AB2A-FD7C8B6D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E8DF88-74AF-45E1-A5FA-B286C9E5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048A40-0497-4839-A35B-48CD3706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E20E8E-FFF4-4BC5-B33F-F930D67A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D9A79D-2F38-4B11-9C55-A147D9A9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1EAFCC-19CC-4FBC-9BCF-6C077C2E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916455-4486-4974-A70B-0650210B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2A62F-BDEA-4B91-8D7E-7C834BC3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D58E7E-4B92-4F28-9681-C4FE5E42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0FC763-21B6-44F8-96E8-291B16F0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913694-9E42-4995-A4DB-254630DE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1B33E2-BF73-47DB-9FB2-709A11A5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BF6D89-4AF3-44F6-BB9D-11CAE200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E71481-CA52-4A09-96ED-C8E99684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415E80-8499-4818-AF53-9F911C1E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3676F7-40BC-4294-98C9-15059D7C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07FA5A-57C6-47D1-8A0C-3535A338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507C7A-A008-4AAB-A8B5-C7EFDC2C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02D67-BE04-43D7-B0B8-30443405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27EB84-DDB1-4ED1-A264-B526B1CD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750062-208F-4A01-96D2-2AA3508D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DAF5C5-A290-4B30-8F41-BE91AEC5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C5F96D-3CCD-4C81-B454-9A48B59E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7A14BC-0CD4-4862-A19F-17DAB2BC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272CA4-D2A0-4B04-807D-DDF3FABA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6C072C-141F-4CB2-807E-DC6F39D4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66CC06-AF31-414C-9BE8-05920D67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7F7DE5-4A62-45CA-BF52-86EDE593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0FD247-ADBE-4037-9100-49057F1E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EF117-86C9-4CA1-B7DE-1FA0ACAD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EBAC6F-FB58-4EAB-87AE-11455744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CCB0B8-1F79-420E-AE74-6F2FF707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DEC588-365A-4526-9175-811ADBC8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44FED4-D6E4-4648-B4CE-A025E929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ED4500-F7A9-4288-8EC3-8AFEA7DE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EB2FA1-9CC9-428D-9820-DCDCE308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4EFC6A-F9DF-46C9-B356-A60900B5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68D8FA-3290-473F-8564-37CEB68F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BA6EFF-936D-485D-9157-D9BDE2DE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59A3E3-8A96-4914-AEC8-6B1631FB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2A3AE-9F9A-4C14-B81C-5A6FF70E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CBF53C-452B-4B66-A64A-2A5E707C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F66D4C-664E-4AD4-8CA3-932FAA7E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A283B4-82D5-4A3B-97C6-23F54B99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A78A64-0330-43F2-97BE-C5042FE9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5D0D16-B727-4607-8A69-CD469556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71C97C-79A8-45DC-A776-1D6C342E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611BA8-F4AD-4604-A4D7-81FA782D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19AE84-662D-4378-8816-7B7200FF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E0A634-51A6-4222-96B2-17817A67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25255A-5D8D-4EE7-8B83-44A8B34E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DB2D3-73E0-4DCD-ACF7-23B1971E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B2B0F2-95B7-4A0F-9C58-DC01AB11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7B2D1D-AB67-4277-A418-A58DB336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8B29D7-93FF-4314-858E-8E0ACE47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AC72BA-3D73-4658-AA1E-BA84A9DF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D99CD4-D2E1-4630-B8A4-1DBFF9A2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D0E543-89E1-4850-A617-86B1C3DD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801F35-02AA-4F37-85AF-AC711AF0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72BAE8-C04D-4751-AF98-4242DC46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21B6D0-102A-47CC-B844-97882D48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787ADD-E941-47E3-AF44-E450CBA2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5E2D9-2CF8-4B4D-B6F8-B758747E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3EA6DA-2692-4131-9B45-67BF23A6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E755C2-3EBF-472F-82C3-52F27EAD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464C56-A5AB-4EC9-B6B0-66C35756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44F9ED-DAF7-4768-AD7E-AC80EE11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DF773C-367D-4D5D-9B06-BC807209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8700160-652D-4F36-8DF1-82CA413C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87B787-3918-49F0-B721-41140EFB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B3AD66-72B8-4037-B6C5-EBD055B1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F4097D-7773-4828-8AAE-7ED49772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C7CE3F-AF3A-475A-AE28-BD11176D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848CF-CDA4-447F-B70C-E36B27D6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7504D93-3653-437A-B741-61E2B11B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17DB55-C8EC-4222-9CED-67453D7E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70B9D03-E329-4616-94E5-F7F6DA1A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C599CB-D775-47B3-BE94-6ACF36B2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368E757-1284-4D33-B1A9-12486830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2C8D99-07CE-4217-A5A0-8447138F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453A5E-2806-4314-936D-F1F77B2D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DE87-7A75-43AB-8002-B2B3FC4D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50520-F93A-450C-AED2-1902419D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42B18-BC2A-424A-9E4C-98D6C9F7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B94E1-F43C-40BC-B227-074323C2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2FEA3-348F-4CFF-9729-08E8F145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528E2-63F6-49C2-A291-2ADDCD71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234C5-EF8C-45A3-A946-57BE58CA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169DC-1144-47E4-95CF-5782324B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33E69-6063-4D9C-B77A-B8EE7F08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F722C-EA5C-419F-8A9C-2705553A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5CEDF-69D9-4842-9950-350E8424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4EF-4F51-4D2F-A2D3-C6C732B8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15C1F-8339-4DE1-ABDA-DB91FE92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73F2D-CEA9-4F79-8306-A298AACD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28E56-D8DD-4D35-A927-7C538E5F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77934-87F3-4690-B0E0-2F8E88EE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5EE65-C826-4874-914E-FE0A6B88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904C6-B256-427B-B566-A85A21C1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6F093-FF07-4476-A9E8-C8BFAF77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5AA43-C0FB-4614-BA45-47F81F36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19354-31BF-4B94-B0F3-20627E3D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3470D-267D-4B01-9D0B-96FDE02B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4652-CF13-41CB-AB77-2D6EBEDF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DF297-39EA-49C5-83F1-4CA4F7AA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1AAFF-BCFC-444F-A1FD-0F78AFEC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2649E-D650-4497-B3FE-061CBF6D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16AD9-CF12-49A0-9A6F-6C65C9F0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EB893-9C83-447F-8966-E5E9C519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3D0D3-2084-4E6B-8A8C-E0A2BC7E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D69FB-086E-4B20-A359-06BD1CB0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B8CB2-B0A8-4171-9C60-88D233F9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BCCF4-AFE9-4EC2-98F4-80396478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393D0-7B53-4F1D-B8A1-4868EB9D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4B1-CD4C-4A40-80BF-4A22B2E3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9D1F6-DA7F-45B0-B0EB-4588D5F8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2A8E9-EF4F-4407-8602-7CE1C671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FD5F9-3205-4A45-8AD4-88EE848C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B0EB6-43F9-4056-8387-A51D110F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288B9-1949-411A-844D-B814AA22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84702-1D27-4D92-BB8E-7F6B566C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44289-9213-4D8D-9591-01EAE1DE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766C5-EE31-47A0-9247-331D81D0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A2E1E-40FC-40E6-8939-25D35A8A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8DE76-CA66-4258-99DD-D4E5C81A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AFD-E8CB-4328-A4D4-D636D67E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4F9F5-D624-4A10-BEE5-6615CE9C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FCE46-E32F-4EB6-B469-2550FECA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661F3-B756-4458-B804-DF77DB61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E511B-17B0-413C-B1D5-25C9508F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E3FC7-78C4-43FE-9CEB-5015B4A9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3AD44-9129-4EAB-8B21-D8D3BA73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44981-B0F2-4898-96C8-FD0D0B23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60066-92BA-4DE0-BEE8-A934F466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FFA55-DC21-45E6-8C6F-CCE01775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291E4-6187-47F5-9E35-1B9ABAEB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F1F-1B2D-4165-858A-9CEF153B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5B622-5073-4C09-8F4C-DF789796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2F103-0849-4C00-A00A-B878BF7A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135C9-BC37-435B-837E-6818A92D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0CCC8-1A57-40B5-A52E-1765E7FF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9A5E7-7DDD-4597-8E36-5A16DE72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84C41-20C5-4BF9-A380-C3814A7C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26A43-40A5-4350-800F-AFC2085A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219F6-7E2A-4AFF-B081-E8E45199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BEFD3-2A54-44AE-8CAF-05C2A198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3CC27-D61B-434B-BFD6-55DA544C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90C4-29DA-4E87-8D46-2C9950340D34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3C1B-F797-46AB-8968-FAA0BF02C5D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4A74-F2A3-4653-8DCE-FA2ED0836565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D2A4-3AE0-4310-A004-BAAF73079D1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67D8-0EE6-4DEE-8C63-F31A4DD618C9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0B69-A0F6-4C4E-B4E4-C214004CA0E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BCA5-041D-48BE-97D1-9708A7DBF6EF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853A-5BEF-4B59-A32B-E8AF88E0832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9C12-6262-4620-9728-4A5A32297A0A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7A40-8F0A-4FAC-BA90-2E443E1EE4C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9BCE-F832-4CFE-9B86-FCC2B95096AB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0AFF-F77B-44F6-9A60-024FB292858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305C-6C7C-4704-8567-168B4EFA8D69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676A-0F37-44E1-88DD-7D5EBEDB4AF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D6EB-5951-44A1-BA28-723B0611E933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CFDE-D4D8-47DE-BCE9-E450419BAE8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929B-9491-4A37-98D1-3E43BD626115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31C8-0F66-42D8-B77D-97B7325B58B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7EA1-5E19-4507-AF31-DDC708B65B57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41BB-3B2E-497B-A23F-BBA804EDFFC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A706-511F-483A-A41E-C077AA2258D3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8E07-6DC0-46DC-ACC4-ADB1248702A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A381-429A-4C44-83DD-BC7671E2ABDF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34B6-FAEA-41F2-8391-C556BEFABE1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8F7A-170B-4279-A059-44F508E0646F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81D1-C352-4B06-B867-15EA0E1E009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3C7C-97B4-4DAA-8BDB-9138BBC99C11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8E8B-3B08-46C5-9AA7-16CB9E76D0B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1109-69E0-4420-9B6E-4F68044AD723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7F16-8734-443F-8952-7F5A89C920F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64BD-10E6-4583-9ECC-C6FD82275513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8C29-FE39-40D2-B2A2-B7A198727F2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01B7-DCD6-4B62-B428-4E177044DADA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D217-9759-42A2-B7DC-E3E17C490C3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7029-0622-487D-8CC4-7B5913ABBDC7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DB12-94CA-4F18-AFE9-2C980317162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62A3-ED13-48D8-AD35-690D4D60781F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C1A6-9152-40A9-9BAD-5672785467F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C830-8C2A-4C84-AFC0-8102BCBA053C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2E53-CCAA-4FFD-8990-FDF6CDCF09B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031A-14A8-4BCA-A987-6A7060E38650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6EF1-5FD1-4947-A3C7-0ED12243A4A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89BA-E6CF-41A0-8BA2-EB4C54162832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399E-BC2B-44BE-8341-EA25FF3F29C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8780-7F93-4941-84E3-C7AEE4F8B3D7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59A6-07FC-4C42-9378-8DB9FA9FE05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6729-AEC4-486A-883E-390D1BF2EFCC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5700-E410-4C27-B803-F12ADADBC8F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6C56-CC25-400A-B174-CFE5B2882E11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252D-3F48-4471-B6E4-2EB060B4EC7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E195-8620-4799-8860-2C0D21CEA5AF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5992-049A-454B-AEE5-66F8B473A27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C01A-3919-4F9D-87E6-9749CBC4D07F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F996-B291-47F4-BF20-70E2A2ED75B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F94D-0C47-48B1-952A-C6D5029E3150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6546-48C6-46AF-810B-03F07324588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B20C-25FC-4333-BE08-1FDBAF76FAA4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003C-1E59-42E9-944A-46545BB2F72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330D-64C0-4FAF-808B-F1BE717966A3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D1E8-6ECD-4902-89BC-0C24FC8FD63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92EE-5CAE-45F1-8736-6FEE46600E17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7B80-2A1B-43BF-AB83-FED94BCB8D0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B33B-E7FE-4C12-9E6E-358D74800A25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08A0-6231-4B6D-B900-0A5372F5A8D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F4CE-6078-4A77-80FA-725BD3C0D2CB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E45E-6FC2-4A8F-99EC-E68B9A36965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hammer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217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217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voltag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21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1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1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suction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217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21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217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WordArt 2"/>
          <p:cNvSpPr txBox="1"/>
          <p:nvPr/>
        </p:nvSpPr>
        <p:spPr>
          <a:xfrm>
            <a:off x="469800" y="212760"/>
            <a:ext cx="790272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  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Unit 10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I am very fast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61" name="Text Box 3"/>
          <p:cNvSpPr/>
          <p:nvPr/>
        </p:nvSpPr>
        <p:spPr>
          <a:xfrm>
            <a:off x="4962600" y="5986440"/>
            <a:ext cx="17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eriod 1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81E1-BBAB-468E-8CCC-73BC3B8586BA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矩形 5"/>
          <p:cNvSpPr/>
          <p:nvPr/>
        </p:nvSpPr>
        <p:spPr>
          <a:xfrm>
            <a:off x="9180360" y="148428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归纳现在分词的构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AutoShape 15"/>
          <p:cNvSpPr/>
          <p:nvPr/>
        </p:nvSpPr>
        <p:spPr>
          <a:xfrm>
            <a:off x="1500120" y="2000160"/>
            <a:ext cx="5000760" cy="1506600"/>
          </a:xfrm>
          <a:prstGeom prst="flowChartProcess">
            <a:avLst/>
          </a:prstGeom>
          <a:solidFill>
            <a:srgbClr val="ccffff"/>
          </a:solidFill>
          <a:ln w="381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ei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AutoShape 16"/>
          <p:cNvSpPr/>
          <p:nvPr/>
        </p:nvSpPr>
        <p:spPr>
          <a:xfrm>
            <a:off x="928800" y="4714920"/>
            <a:ext cx="7286400" cy="1549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们的；她们的；它们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Group 3"/>
          <p:cNvGrpSpPr/>
          <p:nvPr/>
        </p:nvGrpSpPr>
        <p:grpSpPr>
          <a:xfrm>
            <a:off x="7429680" y="4572000"/>
            <a:ext cx="1571400" cy="4357800"/>
            <a:chOff x="7429680" y="4572000"/>
            <a:chExt cx="1571400" cy="4357800"/>
          </a:xfrm>
        </p:grpSpPr>
        <p:grpSp>
          <p:nvGrpSpPr>
            <p:cNvPr id="1414" name="Group 4"/>
            <p:cNvGrpSpPr/>
            <p:nvPr/>
          </p:nvGrpSpPr>
          <p:grpSpPr>
            <a:xfrm>
              <a:off x="7530840" y="4572000"/>
              <a:ext cx="1470240" cy="4357800"/>
              <a:chOff x="7530840" y="4572000"/>
              <a:chExt cx="1470240" cy="4357800"/>
            </a:xfrm>
          </p:grpSpPr>
          <p:pic>
            <p:nvPicPr>
              <p:cNvPr id="1415" name="图片 23" descr="人物.png"/>
              <p:cNvPicPr/>
              <p:nvPr/>
            </p:nvPicPr>
            <p:blipFill>
              <a:blip r:embed="rId1"/>
              <a:stretch/>
            </p:blipFill>
            <p:spPr>
              <a:xfrm flipH="1">
                <a:off x="7530840" y="4572000"/>
                <a:ext cx="1450080" cy="22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矩形 24"/>
              <p:cNvSpPr/>
              <p:nvPr/>
            </p:nvSpPr>
            <p:spPr>
              <a:xfrm flipH="1">
                <a:off x="7558200" y="6733080"/>
                <a:ext cx="1442880" cy="21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Group 7"/>
            <p:cNvGrpSpPr/>
            <p:nvPr/>
          </p:nvGrpSpPr>
          <p:grpSpPr>
            <a:xfrm>
              <a:off x="7464600" y="4913280"/>
              <a:ext cx="1080360" cy="1607760"/>
              <a:chOff x="7464600" y="4913280"/>
              <a:chExt cx="1080360" cy="1607760"/>
            </a:xfrm>
          </p:grpSpPr>
          <p:pic>
            <p:nvPicPr>
              <p:cNvPr id="1418" name="图片 23" descr="人物.png"/>
              <p:cNvPicPr/>
              <p:nvPr/>
            </p:nvPicPr>
            <p:blipFill>
              <a:blip r:embed="rId2"/>
              <a:srcRect l="33571" t="0" r="0" b="52598"/>
              <a:stretch/>
            </p:blipFill>
            <p:spPr>
              <a:xfrm flipH="1">
                <a:off x="7581600" y="5463000"/>
                <a:ext cx="963360" cy="105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9" name="图片 23" descr="人物.png"/>
              <p:cNvPicPr/>
              <p:nvPr/>
            </p:nvPicPr>
            <p:blipFill>
              <a:blip r:embed="rId3"/>
              <a:srcRect l="41960" t="0" r="0" b="52598"/>
              <a:stretch/>
            </p:blipFill>
            <p:spPr>
              <a:xfrm flipH="1" rot="20992800">
                <a:off x="7551000" y="4978800"/>
                <a:ext cx="841680" cy="1058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0" name="Group 10"/>
            <p:cNvGrpSpPr/>
            <p:nvPr/>
          </p:nvGrpSpPr>
          <p:grpSpPr>
            <a:xfrm>
              <a:off x="7429680" y="5518800"/>
              <a:ext cx="1013760" cy="1211760"/>
              <a:chOff x="7429680" y="5518800"/>
              <a:chExt cx="1013760" cy="1211760"/>
            </a:xfrm>
          </p:grpSpPr>
          <p:pic>
            <p:nvPicPr>
              <p:cNvPr id="1421" name="图片 4" descr="波浪前1.png"/>
              <p:cNvPicPr/>
              <p:nvPr/>
            </p:nvPicPr>
            <p:blipFill>
              <a:blip r:embed="rId4"/>
              <a:srcRect l="28759" t="54857" r="57817" b="29896"/>
              <a:stretch/>
            </p:blipFill>
            <p:spPr>
              <a:xfrm>
                <a:off x="7632360" y="6465960"/>
                <a:ext cx="608400" cy="16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22" name="Group 12"/>
              <p:cNvGrpSpPr/>
              <p:nvPr/>
            </p:nvGrpSpPr>
            <p:grpSpPr>
              <a:xfrm>
                <a:off x="7429680" y="5518800"/>
                <a:ext cx="1013760" cy="1211760"/>
                <a:chOff x="7429680" y="5518800"/>
                <a:chExt cx="1013760" cy="1211760"/>
              </a:xfrm>
            </p:grpSpPr>
            <p:sp>
              <p:nvSpPr>
                <p:cNvPr id="1423" name="椭圆 11"/>
                <p:cNvSpPr/>
                <p:nvPr/>
              </p:nvSpPr>
              <p:spPr>
                <a:xfrm>
                  <a:off x="7714800" y="6001560"/>
                  <a:ext cx="443520" cy="45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椭圆 12"/>
                <p:cNvSpPr/>
                <p:nvPr/>
              </p:nvSpPr>
              <p:spPr>
                <a:xfrm>
                  <a:off x="7524720" y="6494400"/>
                  <a:ext cx="217440" cy="123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椭圆 13"/>
                <p:cNvSpPr/>
                <p:nvPr/>
              </p:nvSpPr>
              <p:spPr>
                <a:xfrm>
                  <a:off x="8126640" y="6535440"/>
                  <a:ext cx="158400" cy="169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26" name="Picture 2" descr="C:\Users\SAMSUNG\Desktop\中心组课件\演示文稿1\幻灯片1副本.jpg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429680" y="5518800"/>
                  <a:ext cx="1013760" cy="1211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427" name="Group 18"/>
          <p:cNvGrpSpPr/>
          <p:nvPr/>
        </p:nvGrpSpPr>
        <p:grpSpPr>
          <a:xfrm>
            <a:off x="214200" y="928800"/>
            <a:ext cx="1428840" cy="1214280"/>
            <a:chOff x="214200" y="928800"/>
            <a:chExt cx="1428840" cy="1214280"/>
          </a:xfrm>
        </p:grpSpPr>
        <p:sp>
          <p:nvSpPr>
            <p:cNvPr id="1428" name="椭圆 26"/>
            <p:cNvSpPr/>
            <p:nvPr/>
          </p:nvSpPr>
          <p:spPr>
            <a:xfrm>
              <a:off x="1208160" y="1386000"/>
              <a:ext cx="204840" cy="15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9" name="Group 20"/>
            <p:cNvGrpSpPr/>
            <p:nvPr/>
          </p:nvGrpSpPr>
          <p:grpSpPr>
            <a:xfrm>
              <a:off x="214200" y="928800"/>
              <a:ext cx="1428840" cy="1214280"/>
              <a:chOff x="214200" y="928800"/>
              <a:chExt cx="1428840" cy="1214280"/>
            </a:xfrm>
          </p:grpSpPr>
          <p:sp>
            <p:nvSpPr>
              <p:cNvPr id="1430" name="矩形 28"/>
              <p:cNvSpPr/>
              <p:nvPr/>
            </p:nvSpPr>
            <p:spPr>
              <a:xfrm>
                <a:off x="947520" y="1216080"/>
                <a:ext cx="204840" cy="112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31" name="图片 29" descr="幻灯片1_图层 1.jpg"/>
              <p:cNvPicPr/>
              <p:nvPr/>
            </p:nvPicPr>
            <p:blipFill>
              <a:blip r:embed="rId6"/>
              <a:stretch/>
            </p:blipFill>
            <p:spPr>
              <a:xfrm>
                <a:off x="214200" y="928800"/>
                <a:ext cx="1428840" cy="1214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2" name="矩形 30"/>
          <p:cNvSpPr/>
          <p:nvPr/>
        </p:nvSpPr>
        <p:spPr>
          <a:xfrm>
            <a:off x="2337120" y="765000"/>
            <a:ext cx="41522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Curlz MT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Text Box 25"/>
          <p:cNvSpPr/>
          <p:nvPr/>
        </p:nvSpPr>
        <p:spPr>
          <a:xfrm>
            <a:off x="252360" y="2362320"/>
            <a:ext cx="878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抄写新单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背新单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8499">
                                      <p:cBhvr>
                                        <p:cTn id="2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4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8499">
                                      <p:cBhvr>
                                        <p:cTn id="215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1FBB-C058-4530-9025-50036784DEBE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5"/>
          <p:cNvSpPr/>
          <p:nvPr/>
        </p:nvSpPr>
        <p:spPr>
          <a:xfrm>
            <a:off x="9180360" y="148428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归纳现在分词的构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AutoShape 15"/>
          <p:cNvSpPr/>
          <p:nvPr/>
        </p:nvSpPr>
        <p:spPr>
          <a:xfrm>
            <a:off x="6215040" y="1714680"/>
            <a:ext cx="2662200" cy="938160"/>
          </a:xfrm>
          <a:prstGeom prst="flowChartProcess">
            <a:avLst/>
          </a:prstGeom>
          <a:solidFill>
            <a:srgbClr val="ccffff"/>
          </a:solidFill>
          <a:ln w="381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17"/>
          <p:cNvSpPr/>
          <p:nvPr/>
        </p:nvSpPr>
        <p:spPr>
          <a:xfrm>
            <a:off x="5487840" y="3867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19"/>
          <p:cNvSpPr/>
          <p:nvPr/>
        </p:nvSpPr>
        <p:spPr>
          <a:xfrm>
            <a:off x="6898680" y="32148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手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7" name="Picture 15" descr="C:\Documents and Settings\Administrator\桌面\arm.jpg"/>
          <p:cNvPicPr/>
          <p:nvPr/>
        </p:nvPicPr>
        <p:blipFill>
          <a:blip r:embed="rId1"/>
          <a:stretch/>
        </p:blipFill>
        <p:spPr>
          <a:xfrm>
            <a:off x="0" y="285840"/>
            <a:ext cx="6000840" cy="4500360"/>
          </a:xfrm>
          <a:prstGeom prst="rect">
            <a:avLst/>
          </a:prstGeom>
          <a:ln w="0">
            <a:noFill/>
          </a:ln>
        </p:spPr>
      </p:pic>
      <p:sp>
        <p:nvSpPr>
          <p:cNvPr id="1368" name="AutoShape 16"/>
          <p:cNvSpPr/>
          <p:nvPr/>
        </p:nvSpPr>
        <p:spPr>
          <a:xfrm>
            <a:off x="714240" y="5445000"/>
            <a:ext cx="6286680" cy="81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   have   long   a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09CA-D8DE-4EDC-BC04-9C6B6BE1F12B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AutoShape 16"/>
          <p:cNvSpPr/>
          <p:nvPr/>
        </p:nvSpPr>
        <p:spPr>
          <a:xfrm>
            <a:off x="1187280" y="5445000"/>
            <a:ext cx="7027920" cy="81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play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volleyb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5"/>
          <p:cNvSpPr/>
          <p:nvPr/>
        </p:nvSpPr>
        <p:spPr>
          <a:xfrm>
            <a:off x="9180360" y="148428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归纳现在分词的构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AutoShape 15"/>
          <p:cNvSpPr/>
          <p:nvPr/>
        </p:nvSpPr>
        <p:spPr>
          <a:xfrm>
            <a:off x="1187280" y="4149720"/>
            <a:ext cx="2448000" cy="938160"/>
          </a:xfrm>
          <a:prstGeom prst="flowChartProcess">
            <a:avLst/>
          </a:prstGeom>
          <a:solidFill>
            <a:srgbClr val="ccffff"/>
          </a:solidFill>
          <a:ln w="381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 Box 16"/>
          <p:cNvSpPr/>
          <p:nvPr/>
        </p:nvSpPr>
        <p:spPr>
          <a:xfrm>
            <a:off x="4083480" y="4365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排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4" name="Picture 12" descr="C:\Documents and Settings\Administrator\桌面\volleyball.jpg"/>
          <p:cNvPicPr/>
          <p:nvPr/>
        </p:nvPicPr>
        <p:blipFill>
          <a:blip r:embed="rId1"/>
          <a:stretch/>
        </p:blipFill>
        <p:spPr>
          <a:xfrm>
            <a:off x="1785960" y="0"/>
            <a:ext cx="53100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13DD-720D-4BE0-9997-FFB5748A61B0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AutoShape 16"/>
          <p:cNvSpPr/>
          <p:nvPr/>
        </p:nvSpPr>
        <p:spPr>
          <a:xfrm>
            <a:off x="1332000" y="5157720"/>
            <a:ext cx="7026120" cy="81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cat is very fas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5"/>
          <p:cNvSpPr/>
          <p:nvPr/>
        </p:nvSpPr>
        <p:spPr>
          <a:xfrm>
            <a:off x="9180360" y="148428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归纳现在分词的构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AutoShape 15"/>
          <p:cNvSpPr/>
          <p:nvPr/>
        </p:nvSpPr>
        <p:spPr>
          <a:xfrm>
            <a:off x="1835280" y="4221000"/>
            <a:ext cx="2016000" cy="720720"/>
          </a:xfrm>
          <a:prstGeom prst="flowChartProcess">
            <a:avLst/>
          </a:prstGeom>
          <a:solidFill>
            <a:srgbClr val="ccffff"/>
          </a:solidFill>
          <a:ln w="381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 Box 17"/>
          <p:cNvSpPr/>
          <p:nvPr/>
        </p:nvSpPr>
        <p:spPr>
          <a:xfrm>
            <a:off x="5160240" y="414972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快的；飞快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0" name="Picture 13" descr="C:\Documents and Settings\Administrator\桌面\fast.jpg"/>
          <p:cNvPicPr/>
          <p:nvPr/>
        </p:nvPicPr>
        <p:blipFill>
          <a:blip r:embed="rId1"/>
          <a:stretch/>
        </p:blipFill>
        <p:spPr>
          <a:xfrm>
            <a:off x="1500120" y="0"/>
            <a:ext cx="500076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B161-1686-4E36-AA54-67C141052605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矩形 5"/>
          <p:cNvSpPr/>
          <p:nvPr/>
        </p:nvSpPr>
        <p:spPr>
          <a:xfrm>
            <a:off x="9180360" y="148428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归纳现在分词的构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AutoShape 15"/>
          <p:cNvSpPr/>
          <p:nvPr/>
        </p:nvSpPr>
        <p:spPr>
          <a:xfrm>
            <a:off x="1835280" y="4221000"/>
            <a:ext cx="2016000" cy="720720"/>
          </a:xfrm>
          <a:prstGeom prst="flowChartProcess">
            <a:avLst/>
          </a:prstGeom>
          <a:solidFill>
            <a:srgbClr val="ccffff"/>
          </a:solidFill>
          <a:ln w="381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17"/>
          <p:cNvSpPr/>
          <p:nvPr/>
        </p:nvSpPr>
        <p:spPr>
          <a:xfrm>
            <a:off x="4211640" y="4149720"/>
            <a:ext cx="228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5" name="Picture 2" descr="C:\Documents and Settings\Administrator\桌面\water.jpg"/>
          <p:cNvPicPr/>
          <p:nvPr/>
        </p:nvPicPr>
        <p:blipFill>
          <a:blip r:embed="rId1"/>
          <a:stretch/>
        </p:blipFill>
        <p:spPr>
          <a:xfrm>
            <a:off x="1500120" y="0"/>
            <a:ext cx="55245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4A0D-44C6-44B3-96F3-79DABD0C68F4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矩形 5"/>
          <p:cNvSpPr/>
          <p:nvPr/>
        </p:nvSpPr>
        <p:spPr>
          <a:xfrm>
            <a:off x="9180360" y="148428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归纳现在分词的构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AutoShape 15"/>
          <p:cNvSpPr/>
          <p:nvPr/>
        </p:nvSpPr>
        <p:spPr>
          <a:xfrm>
            <a:off x="1835280" y="4000680"/>
            <a:ext cx="2450880" cy="941040"/>
          </a:xfrm>
          <a:prstGeom prst="flowChartProcess">
            <a:avLst/>
          </a:prstGeom>
          <a:solidFill>
            <a:srgbClr val="ccffff"/>
          </a:solidFill>
          <a:ln w="381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9" name="Picture 2" descr="C:\Documents and Settings\Administrator\桌面\bath.jpg"/>
          <p:cNvPicPr/>
          <p:nvPr/>
        </p:nvPicPr>
        <p:blipFill>
          <a:blip r:embed="rId1"/>
          <a:stretch/>
        </p:blipFill>
        <p:spPr>
          <a:xfrm>
            <a:off x="1643040" y="0"/>
            <a:ext cx="5167440" cy="3875040"/>
          </a:xfrm>
          <a:prstGeom prst="rect">
            <a:avLst/>
          </a:prstGeom>
          <a:ln w="0">
            <a:noFill/>
          </a:ln>
        </p:spPr>
      </p:pic>
      <p:sp>
        <p:nvSpPr>
          <p:cNvPr id="1390" name="Text Box 17"/>
          <p:cNvSpPr/>
          <p:nvPr/>
        </p:nvSpPr>
        <p:spPr>
          <a:xfrm>
            <a:off x="4992120" y="392904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洗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6CA5-8AAD-4F61-BF9D-FC8200B197CE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矩形 5"/>
          <p:cNvSpPr/>
          <p:nvPr/>
        </p:nvSpPr>
        <p:spPr>
          <a:xfrm>
            <a:off x="9180360" y="148428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归纳现在分词的构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AutoShape 15"/>
          <p:cNvSpPr/>
          <p:nvPr/>
        </p:nvSpPr>
        <p:spPr>
          <a:xfrm>
            <a:off x="285840" y="4221000"/>
            <a:ext cx="5000400" cy="720720"/>
          </a:xfrm>
          <a:prstGeom prst="flowChartProcess">
            <a:avLst/>
          </a:prstGeom>
          <a:solidFill>
            <a:srgbClr val="ccffff"/>
          </a:solidFill>
          <a:ln w="381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ke  a b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17"/>
          <p:cNvSpPr/>
          <p:nvPr/>
        </p:nvSpPr>
        <p:spPr>
          <a:xfrm>
            <a:off x="5992560" y="407196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洗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5" name="Picture 2" descr="C:\Documents and Settings\Administrator\桌面\bath.jpg"/>
          <p:cNvPicPr/>
          <p:nvPr/>
        </p:nvPicPr>
        <p:blipFill>
          <a:blip r:embed="rId1"/>
          <a:stretch/>
        </p:blipFill>
        <p:spPr>
          <a:xfrm>
            <a:off x="1643040" y="0"/>
            <a:ext cx="5167440" cy="3875040"/>
          </a:xfrm>
          <a:prstGeom prst="rect">
            <a:avLst/>
          </a:prstGeom>
          <a:ln w="0">
            <a:noFill/>
          </a:ln>
        </p:spPr>
      </p:pic>
      <p:sp>
        <p:nvSpPr>
          <p:cNvPr id="1396" name="AutoShape 16"/>
          <p:cNvSpPr/>
          <p:nvPr/>
        </p:nvSpPr>
        <p:spPr>
          <a:xfrm>
            <a:off x="1332000" y="5157720"/>
            <a:ext cx="7026120" cy="81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ike taking a bat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E0FC-6FA1-4130-B063-D569C5826C25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AutoShape 16"/>
          <p:cNvSpPr/>
          <p:nvPr/>
        </p:nvSpPr>
        <p:spPr>
          <a:xfrm>
            <a:off x="1332000" y="5157720"/>
            <a:ext cx="7026120" cy="81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y  are very cleve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矩形 5"/>
          <p:cNvSpPr/>
          <p:nvPr/>
        </p:nvSpPr>
        <p:spPr>
          <a:xfrm>
            <a:off x="9180360" y="148428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归纳现在分词的构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AutoShape 15"/>
          <p:cNvSpPr/>
          <p:nvPr/>
        </p:nvSpPr>
        <p:spPr>
          <a:xfrm>
            <a:off x="1428840" y="4221000"/>
            <a:ext cx="3857400" cy="720720"/>
          </a:xfrm>
          <a:prstGeom prst="flowChartProcess">
            <a:avLst/>
          </a:prstGeom>
          <a:solidFill>
            <a:srgbClr val="ccffff"/>
          </a:solidFill>
          <a:ln w="381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17"/>
          <p:cNvSpPr/>
          <p:nvPr/>
        </p:nvSpPr>
        <p:spPr>
          <a:xfrm>
            <a:off x="6165720" y="40719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聪明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2" name="Picture 12" descr="C:\Documents and Settings\Administrator\桌面\clever.jpg"/>
          <p:cNvPicPr/>
          <p:nvPr/>
        </p:nvPicPr>
        <p:blipFill>
          <a:blip r:embed="rId1"/>
          <a:stretch/>
        </p:blipFill>
        <p:spPr>
          <a:xfrm>
            <a:off x="1857240" y="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91D3-AB62-49BE-BE42-E744D8267D2C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5"/>
          <p:cNvSpPr/>
          <p:nvPr/>
        </p:nvSpPr>
        <p:spPr>
          <a:xfrm>
            <a:off x="9180360" y="148428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归纳现在分词的构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AutoShape 15"/>
          <p:cNvSpPr/>
          <p:nvPr/>
        </p:nvSpPr>
        <p:spPr>
          <a:xfrm>
            <a:off x="285840" y="4221000"/>
            <a:ext cx="5000400" cy="720720"/>
          </a:xfrm>
          <a:prstGeom prst="flowChartProcess">
            <a:avLst/>
          </a:prstGeom>
          <a:solidFill>
            <a:srgbClr val="ccffff"/>
          </a:solidFill>
          <a:ln w="381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 Box 17"/>
          <p:cNvSpPr/>
          <p:nvPr/>
        </p:nvSpPr>
        <p:spPr>
          <a:xfrm>
            <a:off x="6165720" y="40719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羽毛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7" name="Picture 2" descr="C:\Documents and Settings\Administrator\桌面\badminton.jpg"/>
          <p:cNvPicPr/>
          <p:nvPr/>
        </p:nvPicPr>
        <p:blipFill>
          <a:blip r:embed="rId1"/>
          <a:stretch/>
        </p:blipFill>
        <p:spPr>
          <a:xfrm>
            <a:off x="1714680" y="0"/>
            <a:ext cx="5238720" cy="3929040"/>
          </a:xfrm>
          <a:prstGeom prst="rect">
            <a:avLst/>
          </a:prstGeom>
          <a:ln w="0">
            <a:noFill/>
          </a:ln>
        </p:spPr>
      </p:pic>
      <p:sp>
        <p:nvSpPr>
          <p:cNvPr id="1408" name="AutoShape 16"/>
          <p:cNvSpPr/>
          <p:nvPr/>
        </p:nvSpPr>
        <p:spPr>
          <a:xfrm>
            <a:off x="928800" y="5445000"/>
            <a:ext cx="7286400" cy="81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play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badmint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19:49:00Z</dcterms:created>
  <dc:creator>SAMSUNG</dc:creator>
  <dc:description/>
  <cp:keywords/>
  <dc:language>en-US</dc:language>
  <cp:lastModifiedBy>dreamsummit</cp:lastModifiedBy>
  <dcterms:modified xsi:type="dcterms:W3CDTF">2016-01-28T02:06:32Z</dcterms:modified>
  <cp:revision>2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