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3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gif" ContentType="image/gif"/>
  <Override PartName="/ppt/media/image11.jpeg" ContentType="image/jpeg"/>
  <Override PartName="/ppt/media/image10.png" ContentType="image/png"/>
  <Override PartName="/ppt/media/image6.jpeg" ContentType="image/jpeg"/>
  <Override PartName="/ppt/media/image5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DC3-F6A8-4393-A928-1F8DF05A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4FE-F31F-47CE-BED2-3AD94B8D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F139-5535-4A9F-99CE-A1ED4808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554-C981-4088-86BC-75CD8DA5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739C-C63C-4FAF-B7FC-BB767044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6606-B0DC-41D5-BD69-2C316B95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B689-A373-47E4-A832-1300A57F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BC45-12AC-441E-80CA-BC39F1E0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E2CF-0480-499F-B32D-A15BBA22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869760"/>
            <a:ext cx="788688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55D0-56B1-470A-A2C8-261B1996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EEE1-4287-4437-B34D-01E4FF1F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8DE6-3A06-4B15-9A72-9756A691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9C8C-4B5C-4095-81F1-E6699316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9F6D-BB68-4A58-BEBA-12CC4AED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CFF1-F41F-4B51-81D6-2EE65061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BCBF-B2AD-4294-AFA2-A83A86FD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A6BA-B63B-4AA4-942E-8C722F6B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8FB38-4B36-4A50-927F-690CD6F0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A8F9A-BDFD-49C9-94CB-5AEBD408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222E0-6304-4410-A3D5-0EE1EC87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F83AB-D5E1-494E-A944-0FDD9574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972D6-07A5-4679-9173-8FE98ABE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0F8-1683-4595-AA64-01D4CBDA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28560" y="869760"/>
            <a:ext cx="788688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E60DE-5723-4BF8-8C50-4078D8DD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210E4-6481-4D1D-8552-BA09AF9A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D1DCC-1A84-413F-91A9-9017D77F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82BD5-B704-47E1-B095-52FAA5E2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5A6D6-41D8-4EE0-B23C-74EDFEC2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92C80-A022-4A9A-92BF-7C612D85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FABCC-DED4-46FB-A5BB-338AA08C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9320-0C93-4216-BCBA-AFE42853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869760"/>
            <a:ext cx="788688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CE5D-2020-4018-9C59-84A86FFE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28560" y="869760"/>
            <a:ext cx="788688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869760"/>
            <a:ext cx="788688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CE6-F8C4-479F-9D15-6934B2CD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2B5D-894A-4B41-AE8D-519F5DB5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FEB2-CD2B-4318-A841-96592BC7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94E-836F-4510-968D-2C5418C7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9C4E-1742-4012-BD4C-804874A3B0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6"/>
          <p:cNvSpPr/>
          <p:nvPr/>
        </p:nvSpPr>
        <p:spPr>
          <a:xfrm>
            <a:off x="1363680" y="914400"/>
            <a:ext cx="7151760" cy="2728800"/>
          </a:xfrm>
          <a:prstGeom prst="ellipse">
            <a:avLst/>
          </a:prstGeom>
          <a:solidFill>
            <a:srgbClr val="39c99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8C51-AA59-4AA6-9DD8-B440D3002C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3"/>
          <a:stretch/>
        </p:blipFill>
        <p:spPr>
          <a:xfrm>
            <a:off x="92160" y="304920"/>
            <a:ext cx="9144000" cy="5651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C770-3EDC-4DFF-A916-1F0B1E3DCE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文本占位符 1" descr=""/>
          <p:cNvPicPr/>
          <p:nvPr/>
        </p:nvPicPr>
        <p:blipFill>
          <a:blip r:embed="rId1"/>
          <a:stretch/>
        </p:blipFill>
        <p:spPr>
          <a:xfrm>
            <a:off x="2120760" y="566640"/>
            <a:ext cx="56516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页脚占位符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3"/>
          <p:cNvSpPr/>
          <p:nvPr/>
        </p:nvSpPr>
        <p:spPr>
          <a:xfrm>
            <a:off x="1690920" y="1413000"/>
            <a:ext cx="555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d7d31"/>
                </a:solidFill>
                <a:latin typeface="Times New Roman"/>
              </a:rPr>
              <a:t>Where are you fro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48760" y="2924280"/>
            <a:ext cx="842256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ere are you from? Where are you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’m from China.    I’m from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ere are you from? Where are you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’m from China.   I’m from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324000" y="260280"/>
            <a:ext cx="3311280" cy="9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Let's sing.</a:t>
            </a:r>
            <a:endParaRPr b="1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114300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hat have your learnt today?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页脚占位符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页脚占位符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3"/>
          <p:cNvSpPr txBox="1"/>
          <p:nvPr/>
        </p:nvSpPr>
        <p:spPr>
          <a:xfrm>
            <a:off x="900000" y="981000"/>
            <a:ext cx="2181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6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Homework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59000" y="2565360"/>
            <a:ext cx="784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Listen to the tape and repeat it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写字"/>
          <p:cNvPicPr/>
          <p:nvPr/>
        </p:nvPicPr>
        <p:blipFill>
          <a:blip r:embed="rId1"/>
          <a:stretch/>
        </p:blipFill>
        <p:spPr>
          <a:xfrm>
            <a:off x="3276720" y="4581360"/>
            <a:ext cx="20034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页脚占位符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8"/>
          <p:cNvSpPr txBox="1"/>
          <p:nvPr/>
        </p:nvSpPr>
        <p:spPr>
          <a:xfrm>
            <a:off x="971640" y="620640"/>
            <a:ext cx="1828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板书设计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1484280" y="1558440"/>
            <a:ext cx="5124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Unit 1 Lesson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Where are you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I’m from Ca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me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Bri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2010410104610607"/>
          <p:cNvPicPr/>
          <p:nvPr/>
        </p:nvPicPr>
        <p:blipFill>
          <a:blip r:embed="rId1"/>
          <a:stretch/>
        </p:blipFill>
        <p:spPr>
          <a:xfrm>
            <a:off x="1727280" y="11160"/>
            <a:ext cx="56894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alibri Light"/>
              </a:rPr>
              <a:t>Chant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页脚占位符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24000" y="1557360"/>
            <a:ext cx="7920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4572000" y="2852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4319640" y="29296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中国"/>
          <p:cNvPicPr/>
          <p:nvPr/>
        </p:nvPicPr>
        <p:blipFill>
          <a:blip r:embed="rId1"/>
          <a:stretch/>
        </p:blipFill>
        <p:spPr>
          <a:xfrm>
            <a:off x="539640" y="981000"/>
            <a:ext cx="1728720" cy="1077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get"/>
          <p:cNvPicPr/>
          <p:nvPr/>
        </p:nvPicPr>
        <p:blipFill>
          <a:blip r:embed="rId2"/>
          <a:stretch/>
        </p:blipFill>
        <p:spPr>
          <a:xfrm>
            <a:off x="4572000" y="981000"/>
            <a:ext cx="1944720" cy="973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美国"/>
          <p:cNvPicPr/>
          <p:nvPr/>
        </p:nvPicPr>
        <p:blipFill>
          <a:blip r:embed="rId3"/>
          <a:stretch/>
        </p:blipFill>
        <p:spPr>
          <a:xfrm>
            <a:off x="2627280" y="981000"/>
            <a:ext cx="1584360" cy="1054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英国"/>
          <p:cNvPicPr/>
          <p:nvPr/>
        </p:nvPicPr>
        <p:blipFill>
          <a:blip r:embed="rId4"/>
          <a:stretch/>
        </p:blipFill>
        <p:spPr>
          <a:xfrm>
            <a:off x="6877080" y="981000"/>
            <a:ext cx="1428840" cy="9716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2"/>
          <p:cNvSpPr/>
          <p:nvPr/>
        </p:nvSpPr>
        <p:spPr>
          <a:xfrm>
            <a:off x="539640" y="3860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771640" y="3860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716360" y="3860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6516720" y="3860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alibri Light"/>
              </a:rPr>
              <a:t>Chant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页脚占位符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324000" y="1557360"/>
            <a:ext cx="7920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572000" y="2852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中国"/>
          <p:cNvPicPr/>
          <p:nvPr/>
        </p:nvPicPr>
        <p:blipFill>
          <a:blip r:embed="rId1"/>
          <a:stretch/>
        </p:blipFill>
        <p:spPr>
          <a:xfrm>
            <a:off x="539640" y="961920"/>
            <a:ext cx="1728720" cy="1077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get"/>
          <p:cNvPicPr/>
          <p:nvPr/>
        </p:nvPicPr>
        <p:blipFill>
          <a:blip r:embed="rId2"/>
          <a:stretch/>
        </p:blipFill>
        <p:spPr>
          <a:xfrm>
            <a:off x="4572000" y="981000"/>
            <a:ext cx="1944720" cy="973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美国"/>
          <p:cNvPicPr/>
          <p:nvPr/>
        </p:nvPicPr>
        <p:blipFill>
          <a:blip r:embed="rId3"/>
          <a:stretch/>
        </p:blipFill>
        <p:spPr>
          <a:xfrm>
            <a:off x="2627280" y="981000"/>
            <a:ext cx="1584360" cy="1054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英国"/>
          <p:cNvPicPr/>
          <p:nvPr/>
        </p:nvPicPr>
        <p:blipFill>
          <a:blip r:embed="rId4"/>
          <a:stretch/>
        </p:blipFill>
        <p:spPr>
          <a:xfrm>
            <a:off x="6877080" y="981000"/>
            <a:ext cx="1428840" cy="9716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2"/>
          <p:cNvSpPr/>
          <p:nvPr/>
        </p:nvSpPr>
        <p:spPr>
          <a:xfrm>
            <a:off x="539640" y="3860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2771640" y="3860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4716360" y="3860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6516720" y="3860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6"/>
          <p:cNvSpPr/>
          <p:nvPr/>
        </p:nvSpPr>
        <p:spPr>
          <a:xfrm>
            <a:off x="1258920" y="2060640"/>
            <a:ext cx="42498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7"/>
          <p:cNvSpPr/>
          <p:nvPr/>
        </p:nvSpPr>
        <p:spPr>
          <a:xfrm>
            <a:off x="3348000" y="2060640"/>
            <a:ext cx="410364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"/>
          <p:cNvSpPr/>
          <p:nvPr/>
        </p:nvSpPr>
        <p:spPr>
          <a:xfrm flipH="1">
            <a:off x="3419280" y="1989000"/>
            <a:ext cx="216036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9"/>
          <p:cNvSpPr/>
          <p:nvPr/>
        </p:nvSpPr>
        <p:spPr>
          <a:xfrm flipH="1">
            <a:off x="1258920" y="1989000"/>
            <a:ext cx="633744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页脚占位符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图片2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F:\三年级上6单元第3课\素材\11.png"/>
          <p:cNvPicPr/>
          <p:nvPr/>
        </p:nvPicPr>
        <p:blipFill>
          <a:blip r:embed="rId2"/>
          <a:stretch/>
        </p:blipFill>
        <p:spPr>
          <a:xfrm>
            <a:off x="0" y="404640"/>
            <a:ext cx="1982880" cy="22323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6"/>
          <p:cNvSpPr/>
          <p:nvPr/>
        </p:nvSpPr>
        <p:spPr>
          <a:xfrm>
            <a:off x="2196000" y="765000"/>
            <a:ext cx="617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d7d31"/>
                </a:solidFill>
                <a:latin typeface="Times New Roman"/>
              </a:rPr>
              <a:t>Welcome to Chin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1835640" y="2060640"/>
            <a:ext cx="66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--Where are you fro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1980000" y="3141720"/>
            <a:ext cx="530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--I’m from Chin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页脚占位符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图片2"/>
          <p:cNvPicPr/>
          <p:nvPr/>
        </p:nvPicPr>
        <p:blipFill>
          <a:blip r:embed="rId1"/>
          <a:stretch/>
        </p:blipFill>
        <p:spPr>
          <a:xfrm>
            <a:off x="-324000" y="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F:\三年级上6单元第3课\素材\11.png"/>
          <p:cNvPicPr/>
          <p:nvPr/>
        </p:nvPicPr>
        <p:blipFill>
          <a:blip r:embed="rId2"/>
          <a:stretch/>
        </p:blipFill>
        <p:spPr>
          <a:xfrm>
            <a:off x="0" y="404640"/>
            <a:ext cx="1982880" cy="22323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2195640" y="765000"/>
            <a:ext cx="562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d7d31"/>
                </a:solidFill>
                <a:latin typeface="Times New Roman"/>
              </a:rPr>
              <a:t>Listen and circ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756360" y="3933720"/>
            <a:ext cx="136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d7d31"/>
                </a:solidFill>
                <a:latin typeface="Times New Roman"/>
              </a:rPr>
              <a:t>Ji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2772720" y="3933720"/>
            <a:ext cx="178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d7d31"/>
                </a:solidFill>
                <a:latin typeface="Times New Roman"/>
              </a:rPr>
              <a:t>Mi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5221080" y="3933720"/>
            <a:ext cx="187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d7d31"/>
                </a:solidFill>
                <a:latin typeface="Times New Roman"/>
              </a:rPr>
              <a:t>M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1620000" y="2421000"/>
            <a:ext cx="729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d7d31"/>
                </a:solidFill>
                <a:latin typeface="Times New Roman"/>
              </a:rPr>
              <a:t>Who comes to China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页脚占位符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图片2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F:\三年级上6单元第3课\素材\11.png"/>
          <p:cNvPicPr/>
          <p:nvPr/>
        </p:nvPicPr>
        <p:blipFill>
          <a:blip r:embed="rId2"/>
          <a:stretch/>
        </p:blipFill>
        <p:spPr>
          <a:xfrm>
            <a:off x="-252360" y="0"/>
            <a:ext cx="1982880" cy="2232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2269800" y="260280"/>
            <a:ext cx="494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d7d31"/>
                </a:solidFill>
                <a:latin typeface="Times New Roman"/>
              </a:rPr>
              <a:t>Listen and answ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396000" y="3860640"/>
            <a:ext cx="136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d7d31"/>
                </a:solidFill>
                <a:latin typeface="Times New Roman"/>
              </a:rPr>
              <a:t>Ji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252000" y="4797360"/>
            <a:ext cx="178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d7d31"/>
                </a:solidFill>
                <a:latin typeface="Times New Roman"/>
              </a:rPr>
              <a:t>Mi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252000" y="5661000"/>
            <a:ext cx="187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d7d31"/>
                </a:solidFill>
                <a:latin typeface="Times New Roman"/>
              </a:rPr>
              <a:t>M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1693440" y="1268280"/>
            <a:ext cx="720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If you are Jim ,where are you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If you are Mike,where are you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If you are Mary,where are you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1836720" y="306864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I’m from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2413440" y="3933720"/>
            <a:ext cx="263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d7d31"/>
                </a:solidFill>
                <a:latin typeface="Times New Roman"/>
              </a:rPr>
              <a:t>Cana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2556720" y="4724280"/>
            <a:ext cx="284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d7d31"/>
                </a:solidFill>
                <a:latin typeface="Times New Roman"/>
              </a:rPr>
              <a:t>Amer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2556720" y="5661000"/>
            <a:ext cx="24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d7d31"/>
                </a:solidFill>
                <a:latin typeface="Times New Roman"/>
              </a:rPr>
              <a:t>Brita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86976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页脚占位符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F:\三年级上6单元第3课\素材\11.png"/>
          <p:cNvPicPr/>
          <p:nvPr/>
        </p:nvPicPr>
        <p:blipFill>
          <a:blip r:embed="rId2"/>
          <a:stretch/>
        </p:blipFill>
        <p:spPr>
          <a:xfrm>
            <a:off x="0" y="0"/>
            <a:ext cx="2625840" cy="27813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6"/>
          <p:cNvSpPr/>
          <p:nvPr/>
        </p:nvSpPr>
        <p:spPr>
          <a:xfrm>
            <a:off x="2554560" y="836640"/>
            <a:ext cx="617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6000" spc="-1" strike="noStrike">
                <a:solidFill>
                  <a:srgbClr val="ed7d31"/>
                </a:solidFill>
                <a:latin typeface="Times New Roman"/>
              </a:rPr>
              <a:t>Listen and imitat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1116000" y="2323440"/>
            <a:ext cx="75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d7d31"/>
                </a:solidFill>
                <a:latin typeface="Times New Roman"/>
              </a:rPr>
              <a:t>Re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6000" spc="-1" strike="noStrike">
                <a:solidFill>
                  <a:srgbClr val="ed7d31"/>
                </a:solidFill>
                <a:latin typeface="Times New Roman"/>
              </a:rPr>
              <a:t>the text in group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2844000" y="4508640"/>
            <a:ext cx="37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d7d31"/>
                </a:solidFill>
                <a:latin typeface="Times New Roman"/>
              </a:rPr>
              <a:t>Show tim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页脚占位符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825480" y="1413000"/>
            <a:ext cx="631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: Where are you fro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739800" y="2133720"/>
            <a:ext cx="399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B: I’m from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WordArt 5"/>
          <p:cNvSpPr txBox="1"/>
          <p:nvPr/>
        </p:nvSpPr>
        <p:spPr>
          <a:xfrm>
            <a:off x="324000" y="260280"/>
            <a:ext cx="3311280" cy="9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Let's talk.</a:t>
            </a:r>
            <a:endParaRPr b="1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282" name="Picture 6" descr="01"/>
          <p:cNvPicPr/>
          <p:nvPr/>
        </p:nvPicPr>
        <p:blipFill>
          <a:blip r:embed="rId2"/>
          <a:stretch/>
        </p:blipFill>
        <p:spPr>
          <a:xfrm>
            <a:off x="0" y="328464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02"/>
          <p:cNvPicPr/>
          <p:nvPr/>
        </p:nvPicPr>
        <p:blipFill>
          <a:blip r:embed="rId3"/>
          <a:stretch/>
        </p:blipFill>
        <p:spPr>
          <a:xfrm>
            <a:off x="2411280" y="328464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03"/>
          <p:cNvPicPr/>
          <p:nvPr/>
        </p:nvPicPr>
        <p:blipFill>
          <a:blip r:embed="rId4"/>
          <a:stretch/>
        </p:blipFill>
        <p:spPr>
          <a:xfrm>
            <a:off x="4500720" y="3284640"/>
            <a:ext cx="2592360" cy="1946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04"/>
          <p:cNvPicPr/>
          <p:nvPr/>
        </p:nvPicPr>
        <p:blipFill>
          <a:blip r:embed="rId5"/>
          <a:stretch/>
        </p:blipFill>
        <p:spPr>
          <a:xfrm>
            <a:off x="6191280" y="3213000"/>
            <a:ext cx="2952720" cy="22147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0"/>
          <p:cNvSpPr/>
          <p:nvPr/>
        </p:nvSpPr>
        <p:spPr>
          <a:xfrm>
            <a:off x="612360" y="5229360"/>
            <a:ext cx="16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2844720" y="5229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4933800" y="523548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U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7164720" y="522936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ri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06:57:58Z</dcterms:created>
  <dc:creator>曹惜惜</dc:creator>
  <dc:description>http://cai.7cxk.net 中小学课件站</dc:description>
  <cp:keywords>http:/cai.7cxk.net 中小学课件站</cp:keywords>
  <dc:language>en-US</dc:language>
  <cp:lastModifiedBy>曹惜惜</cp:lastModifiedBy>
  <dcterms:modified xsi:type="dcterms:W3CDTF">2017-11-21T14:04:19Z</dcterms:modified>
  <cp:revision>43</cp:revision>
  <dc:subject/>
  <dc:title>PowerPoint 演示文稿</dc:title>
</cp:coreProperties>
</file>