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6.jpeg" ContentType="image/jpeg"/>
  <Override PartName="/ppt/media/image9.wmf" ContentType="image/x-wmf"/>
  <Override PartName="/ppt/media/image14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jpeg" ContentType="image/jpeg"/>
  <Override PartName="/ppt/media/image16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4A23-8AEB-47D5-AF00-88DD48CB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E909-6010-4FBA-B320-E5C8B66F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7A95-C726-4DB2-A000-916CE93E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1F96-4E24-4FA7-AC8F-5CE64E69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6C5F-B2BC-4153-8508-659D3EC6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3F34-600B-4207-8B7F-0C0A24E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DBAF-46F1-440B-A3D0-708080C6D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BB01-086A-4352-B6B6-4405F1048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9426-D2BB-45DD-B94A-7B00ECE33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F829-AF61-4D91-AFAD-8F82B216C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A566-352E-4B74-8B93-8A00C034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12B9-2A50-4B8F-BD24-20BC61D17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893F-5481-4CAC-BF23-E27785F3054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1760" y="99036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Unit 2 Hous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480" y="2514240"/>
            <a:ext cx="7391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</a:rPr>
              <a:t>Lesson 2 What are you do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96600" y="33480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东科技版小学英语四年级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239240" cy="41004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513240" y="4495680"/>
            <a:ext cx="219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cloth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5079960" cy="3809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675800" y="4114800"/>
            <a:ext cx="409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washing cloth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28600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Is dad washing clothes, too?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6520" y="304920"/>
            <a:ext cx="79516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k 2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任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ead the dialogue and answer the qu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读对话回答问题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3520" y="3429000"/>
            <a:ext cx="357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No, he isn’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343400" cy="30639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472428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Yes, I’m cooking the chicken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35053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re you cooking the 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meal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, dad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077320" y="7621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8077320" y="14479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7543800" y="609480"/>
            <a:ext cx="131436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03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31"/>
                            </p:stCondLst>
                            <p:childTnLst>
                              <p:par>
                                <p:cTn id="5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3318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00200" y="228600"/>
            <a:ext cx="5562720" cy="39877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430440" y="4572000"/>
            <a:ext cx="159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me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286000" y="571680"/>
            <a:ext cx="3352680" cy="3162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829160" y="4370400"/>
            <a:ext cx="438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ok</a:t>
            </a: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ng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the mea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237636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What are you doing Danny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7200" y="382680"/>
            <a:ext cx="70866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k 3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任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isten and answer the question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听录音回答问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315200" y="533520"/>
            <a:ext cx="1201680" cy="1218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0200" y="3367080"/>
            <a:ext cx="534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watering the flowers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6040" y="3352680"/>
            <a:ext cx="106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’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7620120" y="380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620120" y="76212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7620120" y="11430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6"/>
          <a:stretch/>
        </p:blipFill>
        <p:spPr>
          <a:xfrm>
            <a:off x="7620120" y="1523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7"/>
          <a:stretch/>
        </p:blipFill>
        <p:spPr>
          <a:xfrm>
            <a:off x="8458200" y="205740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8"/>
          <a:stretch/>
        </p:blipFill>
        <p:spPr>
          <a:xfrm>
            <a:off x="8458200" y="24382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9"/>
          <a:stretch/>
        </p:blipFill>
        <p:spPr>
          <a:xfrm>
            <a:off x="8458200" y="28954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0"/>
          <a:stretch/>
        </p:blipFill>
        <p:spPr>
          <a:xfrm>
            <a:off x="8381880" y="33526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1"/>
          <a:stretch/>
        </p:blipFill>
        <p:spPr>
          <a:xfrm>
            <a:off x="8381880" y="3809880"/>
            <a:ext cx="244440" cy="244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2"/>
          <a:stretch/>
        </p:blipFill>
        <p:spPr>
          <a:xfrm>
            <a:off x="8305920" y="4191120"/>
            <a:ext cx="244440" cy="2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61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613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2534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147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986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133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222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9354"/>
                            </p:stCondLst>
                            <p:childTnLst>
                              <p:par>
                                <p:cTn id="6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" dur="303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2385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3318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5703"/>
                            </p:stCondLst>
                            <p:childTnLst>
                              <p:par>
                                <p:cTn id="7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" dur="261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8316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587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0903"/>
                            </p:stCondLst>
                            <p:childTnLst>
                              <p:par>
                                <p:cTn id="8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" dur="2169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3072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907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5410440" cy="36561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60040" y="4267080"/>
            <a:ext cx="582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water</a:t>
            </a:r>
            <a:r>
              <a:rPr b="0" lang="en-US" sz="5400" spc="-1" strike="noStrike">
                <a:solidFill>
                  <a:srgbClr val="0000ff"/>
                </a:solidFill>
                <a:latin typeface="Times New Roman"/>
                <a:ea typeface="微软雅黑"/>
              </a:rPr>
              <a:t>ing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the flow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66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152280"/>
            <a:ext cx="57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t’s clap and ch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3520" y="1411200"/>
            <a:ext cx="594360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   watering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m watering the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sh    wash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m washing cloth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ok     cook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’m cooking the me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6172200" y="914400"/>
            <a:ext cx="2590920" cy="1751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172200" y="2666880"/>
            <a:ext cx="2590920" cy="1943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6172200" y="4648320"/>
            <a:ext cx="2514600" cy="19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660680"/>
            <a:ext cx="60958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425520"/>
            <a:ext cx="8077320" cy="21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k 4.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任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Let’s listen to the tape  again and imitate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.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模仿跟读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295280" y="990720"/>
            <a:ext cx="5410440" cy="4741920"/>
            <a:chOff x="1295280" y="990720"/>
            <a:chExt cx="5410440" cy="4741920"/>
          </a:xfrm>
        </p:grpSpPr>
        <p:sp>
          <p:nvSpPr>
            <p:cNvPr id="45" name=""/>
            <p:cNvSpPr/>
            <p:nvPr/>
          </p:nvSpPr>
          <p:spPr>
            <a:xfrm>
              <a:off x="1371600" y="4724280"/>
              <a:ext cx="5257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clean the shoe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1295280" y="990720"/>
              <a:ext cx="5410440" cy="4057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4572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I can do and sa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我会做也会说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303120"/>
            <a:ext cx="64008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k 5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任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et’s talk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两人一组做对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" y="1768320"/>
            <a:ext cx="714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: What are you doing,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Jenn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: I’m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cleaning the floo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581280"/>
            <a:ext cx="8229600" cy="2895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You can use these words: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drawing pictures,      playing the piano,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cooking the meals,      washing clothes,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Times New Roman"/>
              </a:rPr>
              <a:t>playing basketball,     watering the flow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Summary(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总结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ords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othes, water, meal, flower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sentences: What are you do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washing cloth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cooking the chick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’m watering the flow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. Help parents do housework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352680" y="38088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6172200" y="380880"/>
            <a:ext cx="2819520" cy="2114640"/>
          </a:xfrm>
          <a:prstGeom prst="rect">
            <a:avLst/>
          </a:prstGeom>
          <a:ln w="0">
            <a:noFill/>
          </a:ln>
        </p:spPr>
      </p:pic>
      <p:grpSp>
        <p:nvGrpSpPr>
          <p:cNvPr id="126" name=""/>
          <p:cNvGrpSpPr/>
          <p:nvPr/>
        </p:nvGrpSpPr>
        <p:grpSpPr>
          <a:xfrm>
            <a:off x="2209680" y="2514600"/>
            <a:ext cx="5105160" cy="1676520"/>
            <a:chOff x="2209680" y="2514600"/>
            <a:chExt cx="5105160" cy="1676520"/>
          </a:xfrm>
        </p:grpSpPr>
        <p:sp>
          <p:nvSpPr>
            <p:cNvPr id="127" name=""/>
            <p:cNvSpPr/>
            <p:nvPr/>
          </p:nvSpPr>
          <p:spPr>
            <a:xfrm>
              <a:off x="2209680" y="2743200"/>
              <a:ext cx="76212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419360" y="2514600"/>
              <a:ext cx="22860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5714640" y="2514600"/>
              <a:ext cx="160020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2438280" y="41911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do house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219320" y="6033960"/>
            <a:ext cx="6781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502920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己能做的事情要自己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50000">
              <a:srgbClr val="ffffff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mitation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仿跟读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Do group work according to what you’ve learnt in real situation.(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小组合作，运用所学知识创设情景，进行口语交际训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286000" y="137160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Times New Roman"/>
              </a:rPr>
              <a:t>Thank you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28640" y="2666880"/>
            <a:ext cx="7805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Have a good day</a:t>
            </a:r>
            <a:endParaRPr b="1" i="1" lang="en-US" sz="96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914400" y="457200"/>
            <a:ext cx="5638680" cy="5504040"/>
            <a:chOff x="914400" y="457200"/>
            <a:chExt cx="5638680" cy="5504040"/>
          </a:xfrm>
        </p:grpSpPr>
        <p:sp>
          <p:nvSpPr>
            <p:cNvPr id="49" name=""/>
            <p:cNvSpPr/>
            <p:nvPr/>
          </p:nvSpPr>
          <p:spPr>
            <a:xfrm>
              <a:off x="1523880" y="4952880"/>
              <a:ext cx="50292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clean the floor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914400" y="457200"/>
              <a:ext cx="548640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71800" y="441360"/>
            <a:ext cx="5105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85800" y="457200"/>
            <a:ext cx="6324480" cy="5183640"/>
            <a:chOff x="685800" y="457200"/>
            <a:chExt cx="6324480" cy="5183640"/>
          </a:xfrm>
        </p:grpSpPr>
        <p:sp>
          <p:nvSpPr>
            <p:cNvPr id="53" name=""/>
            <p:cNvSpPr/>
            <p:nvPr/>
          </p:nvSpPr>
          <p:spPr>
            <a:xfrm>
              <a:off x="685800" y="4632480"/>
              <a:ext cx="63244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ff"/>
                  </a:solidFill>
                  <a:latin typeface="Times New Roman"/>
                </a:rPr>
                <a:t>clean the windows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2"/>
            <a:stretch/>
          </p:blipFill>
          <p:spPr>
            <a:xfrm>
              <a:off x="1066680" y="457200"/>
              <a:ext cx="5486400" cy="411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914400" y="4191120"/>
            <a:ext cx="6324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I’m clean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</a:rPr>
              <a:t>ing</a:t>
            </a: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the windows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752480" y="228600"/>
            <a:ext cx="4038840" cy="39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94040" y="380880"/>
            <a:ext cx="666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Let’s say and do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边说一边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71680" y="3336840"/>
            <a:ext cx="25905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52280" y="1600200"/>
            <a:ext cx="3200400" cy="22701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971800" y="1523880"/>
            <a:ext cx="2743200" cy="2506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523880" y="5973840"/>
            <a:ext cx="3962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5562720" y="1420920"/>
            <a:ext cx="3276360" cy="2465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839160" y="4089240"/>
            <a:ext cx="388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 can clean…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I’m cleaning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711000" y="1332000"/>
            <a:ext cx="7671240" cy="5449320"/>
            <a:chOff x="711000" y="1332000"/>
            <a:chExt cx="7671240" cy="5449320"/>
          </a:xfrm>
        </p:grpSpPr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1244520" y="2327040"/>
              <a:ext cx="6400440" cy="44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711000" y="1332000"/>
              <a:ext cx="7671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ff"/>
                  </a:solidFill>
                  <a:latin typeface="Times New Roman"/>
                </a:rPr>
                <a:t>What are you doing, mum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700560" y="196920"/>
            <a:ext cx="776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Task1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任务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Watch and answer the questio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视频回答问题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304920" y="15228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Watch and liste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边看边听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ShockwaveFlash1"/>
          <p:cNvGraphicFramePr/>
          <p:nvPr/>
        </p:nvGraphicFramePr>
        <p:xfrm>
          <a:off x="380880" y="1219320"/>
          <a:ext cx="8458200" cy="5410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219320"/>
                    <a:ext cx="8458200" cy="5410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15200" y="1828800"/>
            <a:ext cx="131436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066680" y="2057400"/>
            <a:ext cx="1371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’m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209680" y="2057400"/>
            <a:ext cx="5257800" cy="3886200"/>
            <a:chOff x="2209680" y="2057400"/>
            <a:chExt cx="5257800" cy="3886200"/>
          </a:xfrm>
        </p:grpSpPr>
        <p:pic>
          <p:nvPicPr>
            <p:cNvPr id="74" name="" descr=""/>
            <p:cNvPicPr/>
            <p:nvPr/>
          </p:nvPicPr>
          <p:blipFill>
            <a:blip r:embed="rId3"/>
            <a:stretch/>
          </p:blipFill>
          <p:spPr>
            <a:xfrm>
              <a:off x="2895480" y="3124440"/>
              <a:ext cx="2062440" cy="28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" name=""/>
            <p:cNvSpPr/>
            <p:nvPr/>
          </p:nvSpPr>
          <p:spPr>
            <a:xfrm>
              <a:off x="2209680" y="2057400"/>
              <a:ext cx="52578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washing </a:t>
              </a: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clothes</a:t>
              </a:r>
              <a:r>
                <a:rPr b="0" lang="en-US" sz="4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646200" y="838080"/>
            <a:ext cx="683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Times New Roman"/>
              </a:rPr>
              <a:t>What are you doing, mu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 User</cp:lastModifiedBy>
  <dcterms:modified xsi:type="dcterms:W3CDTF">2017-07-28T15:59:17Z</dcterms:modified>
  <cp:revision>3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