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11.png" ContentType="image/pn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44E6-A6EC-4177-BA96-0FEB08E6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8487-E505-4519-902A-79BD9FE5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966C-EEB6-427E-BE87-C25B15D9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F12-8A5A-43AD-BDD7-A0421D88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F28-4AD6-4D0B-A737-65E7F21E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473-834D-4C41-A127-E2118089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976C-920E-40DA-B091-3FE6B405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E7A3-152C-414C-B902-71692FB5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025E-BFC3-40AC-BB05-157CC146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09DB-235F-4F88-8BB6-8D59C995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F69E-9860-4B2B-B3B0-70B6342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7003-EE50-4A2B-919E-500BB96F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cai.7cxk.ne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中小学课件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481D-2018-4A86-B706-1DC88C092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2L3_1.avi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990720" y="1447920"/>
            <a:ext cx="7010280" cy="31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2 Lesson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hat’s mum doing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990720" y="60948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What’s Li Ming doing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190512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He’s making a surprise for his mother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838080" y="106668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Are you playing computer game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838080" y="350532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-No, we aren’t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371600" y="24382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你在玩电脑游戏吗？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219320" y="464832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不，我没有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91440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appy birthday!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14400" y="320040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生日快乐！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4267080" y="0"/>
            <a:ext cx="4267440" cy="1295280"/>
          </a:xfrm>
          <a:prstGeom prst="cloudCallout">
            <a:avLst>
              <a:gd name="adj1" fmla="val 10453"/>
              <a:gd name="adj2" fmla="val 1072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dad do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0" y="762120"/>
            <a:ext cx="4724280" cy="1828800"/>
          </a:xfrm>
          <a:prstGeom prst="cloudCallout">
            <a:avLst>
              <a:gd name="adj1" fmla="val 24060"/>
              <a:gd name="adj2" fmla="val 5998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’s cleaning the kitche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/>
          <p:cNvSpPr/>
          <p:nvPr/>
        </p:nvSpPr>
        <p:spPr>
          <a:xfrm>
            <a:off x="2590920" y="0"/>
            <a:ext cx="5257800" cy="2057400"/>
          </a:xfrm>
          <a:prstGeom prst="cloudCallout">
            <a:avLst>
              <a:gd name="adj1" fmla="val -45652"/>
              <a:gd name="adj2" fmla="val 35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you playing computer gam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0" y="3581280"/>
            <a:ext cx="3733920" cy="1371600"/>
          </a:xfrm>
          <a:prstGeom prst="cloudCallout">
            <a:avLst>
              <a:gd name="adj1" fmla="val 29675"/>
              <a:gd name="adj2" fmla="val -63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, we aren’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0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-228600" y="0"/>
            <a:ext cx="5181480" cy="1295280"/>
          </a:xfrm>
          <a:prstGeom prst="cloudCallout">
            <a:avLst>
              <a:gd name="adj1" fmla="val 15439"/>
              <a:gd name="adj2" fmla="val 86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ppy birthday, mum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572000" y="-152280"/>
            <a:ext cx="3505320" cy="1676160"/>
          </a:xfrm>
          <a:prstGeom prst="cloudCallout">
            <a:avLst>
              <a:gd name="adj1" fmla="val 20106"/>
              <a:gd name="adj2" fmla="val 29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w! Thank you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33520" y="304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Magic boxes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838080" y="914400"/>
            <a:ext cx="7925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What’s ______do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She’s\He’s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No, No. What’s he\she do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: She’s\He’s__________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2" descr="QQ截图20170904093834.png"/>
          <p:cNvPicPr/>
          <p:nvPr/>
        </p:nvPicPr>
        <p:blipFill>
          <a:blip r:embed="rId1"/>
          <a:stretch/>
        </p:blipFill>
        <p:spPr>
          <a:xfrm>
            <a:off x="1066680" y="4114800"/>
            <a:ext cx="1648080" cy="1628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3" descr="QQ截图20170904093905.png"/>
          <p:cNvPicPr/>
          <p:nvPr/>
        </p:nvPicPr>
        <p:blipFill>
          <a:blip r:embed="rId2"/>
          <a:stretch/>
        </p:blipFill>
        <p:spPr>
          <a:xfrm>
            <a:off x="3429000" y="4114800"/>
            <a:ext cx="1571760" cy="16192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4" descr="QQ截图20170904094012.png"/>
          <p:cNvPicPr/>
          <p:nvPr/>
        </p:nvPicPr>
        <p:blipFill>
          <a:blip r:embed="rId3"/>
          <a:stretch/>
        </p:blipFill>
        <p:spPr>
          <a:xfrm>
            <a:off x="5638680" y="4114800"/>
            <a:ext cx="1600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IMG_09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8271360" y="3048120"/>
            <a:ext cx="12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﹒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8458200" y="5181480"/>
            <a:ext cx="104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﹒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2209680" y="1523880"/>
            <a:ext cx="4876920" cy="21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t's chant.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57200" y="106668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</a:rPr>
              <a:t>Be helpful to your mother</a:t>
            </a: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t01e8859be28cccccee"/>
          <p:cNvPicPr/>
          <p:nvPr/>
        </p:nvPicPr>
        <p:blipFill>
          <a:blip r:embed="rId1"/>
          <a:stretch/>
        </p:blipFill>
        <p:spPr>
          <a:xfrm>
            <a:off x="2438280" y="1752480"/>
            <a:ext cx="4191120" cy="28195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1219320" y="4648320"/>
            <a:ext cx="556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se birthday is toda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的生日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066680" y="685800"/>
            <a:ext cx="754380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 Imitate the dialogu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以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ther’s day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（妈妈的一天）为主题做一张手抄报，要求用到句子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um is________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066680" y="9907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atch and answer</a:t>
            </a:r>
            <a:r>
              <a:rPr b="1" lang="en-US" sz="4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.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219320" y="7621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What’s mum do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295280" y="2057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She’s_______________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523880" y="3048120"/>
            <a:ext cx="6477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washing the cloth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 washing the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is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42670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t0191a3064d8dda3a6c"/>
          <p:cNvPicPr/>
          <p:nvPr/>
        </p:nvPicPr>
        <p:blipFill>
          <a:blip r:embed="rId1"/>
          <a:stretch/>
        </p:blipFill>
        <p:spPr>
          <a:xfrm>
            <a:off x="380880" y="228600"/>
            <a:ext cx="3048120" cy="32083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990720" y="40384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ish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t01b54e873e9915f302"/>
          <p:cNvPicPr/>
          <p:nvPr/>
        </p:nvPicPr>
        <p:blipFill>
          <a:blip r:embed="rId2"/>
          <a:stretch/>
        </p:blipFill>
        <p:spPr>
          <a:xfrm>
            <a:off x="4419720" y="304920"/>
            <a:ext cx="4012920" cy="3047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5181480" y="419112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sh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t018de867b793652d84"/>
          <p:cNvPicPr/>
          <p:nvPr/>
        </p:nvPicPr>
        <p:blipFill>
          <a:blip r:embed="rId1"/>
          <a:stretch/>
        </p:blipFill>
        <p:spPr>
          <a:xfrm>
            <a:off x="380880" y="3049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572000" y="15238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sh the dish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838080" y="35812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e’s ______the_______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0" y="4572000"/>
            <a:ext cx="5029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washing, dis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 wash, dis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820960" y="3505320"/>
            <a:ext cx="131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38080" y="6858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What’s dad do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38080" y="1523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-He’s ____________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990720" y="2209680"/>
            <a:ext cx="6629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  cleaning the kitch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 cleaning the flo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cleaning the sh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429000" y="14479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14400" y="76212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Whose birthday is today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990720" y="16002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It’s _________ birth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143000" y="2971800"/>
            <a:ext cx="6705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Danny’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mum’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dad’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2819520" y="16002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838080" y="1676520"/>
            <a:ext cx="8534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ead and find.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219320" y="37339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找到你有疑问的地方。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09-04T01:41:08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