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type.wav" ContentType="audio/x-wav"/>
  <Override PartName="/ppt/media/image15.jpeg" ContentType="image/jpeg"/>
  <Override PartName="/ppt/media/image18.jpeg" ContentType="image/jpeg"/>
  <Override PartName="/ppt/media/image1.gif" ContentType="image/gi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31C-31B3-4C97-900D-143903FB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ADB-8AA3-4839-8EA7-8BD11EC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1042-92E7-4593-B10A-232F4EE8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325-14F6-41FE-A396-69C9FD72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5B54-020B-41E8-93DD-6D70A96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979-D03C-4BFF-BE9D-629270F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EF4-5965-427C-8E85-F238C846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F4C-56DC-42BF-AF30-05D66A5E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7FD-56C1-4708-88C0-9D41944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365-9B1C-4411-AD29-599FBC7F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0A1-6005-4D44-9D9E-42FD100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514-989D-44E1-B941-E6256F3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6BF-1735-44B1-BBE3-469258B9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file:///U3L1_1.swf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2503440" y="58428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Unit5 S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687320" y="228600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Lesson1   </a:t>
            </a:r>
            <a:r>
              <a:rPr b="1" i="1" lang="en-US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an I help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395280" y="260280"/>
            <a:ext cx="288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Let's act.</a:t>
            </a:r>
            <a:endParaRPr b="1" lang="en-US" sz="40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362320" y="1981080"/>
            <a:ext cx="4114800" cy="3751560"/>
          </a:xfrm>
          <a:prstGeom prst="rect">
            <a:avLst/>
          </a:prstGeom>
          <a:solidFill>
            <a:srgbClr val="ffffcc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规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组成员选出一名售货员，根据所选场景图片角色表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an I help yo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I’d like a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ow about this . . .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h, it’s . . . I’ll tak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ere you 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" descr="02.jpg"/>
          <p:cNvPicPr/>
          <p:nvPr/>
        </p:nvPicPr>
        <p:blipFill>
          <a:blip r:embed="rId1"/>
          <a:stretch/>
        </p:blipFill>
        <p:spPr>
          <a:xfrm>
            <a:off x="6553080" y="1295280"/>
            <a:ext cx="2590920" cy="243864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04.jpg"/>
          <p:cNvPicPr/>
          <p:nvPr/>
        </p:nvPicPr>
        <p:blipFill>
          <a:blip r:embed="rId2"/>
          <a:stretch/>
        </p:blipFill>
        <p:spPr>
          <a:xfrm>
            <a:off x="65530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5" descr="05.jpg"/>
          <p:cNvPicPr/>
          <p:nvPr/>
        </p:nvPicPr>
        <p:blipFill>
          <a:blip r:embed="rId3"/>
          <a:stretch/>
        </p:blipFill>
        <p:spPr>
          <a:xfrm>
            <a:off x="-609480" y="1447920"/>
            <a:ext cx="2895480" cy="2247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6" descr="talk3.jpg"/>
          <p:cNvPicPr/>
          <p:nvPr/>
        </p:nvPicPr>
        <p:blipFill>
          <a:blip r:embed="rId4"/>
          <a:stretch/>
        </p:blipFill>
        <p:spPr>
          <a:xfrm>
            <a:off x="-685800" y="40384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500"/>
                            </p:stCondLst>
                            <p:childTnLst>
                              <p:par>
                                <p:cTn id="3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1249920" y="2743200"/>
            <a:ext cx="66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hoose the right not expens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5" dur="3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3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2" descr="Lily.jpg"/>
          <p:cNvPicPr/>
          <p:nvPr/>
        </p:nvPicPr>
        <p:blipFill>
          <a:blip r:embed="rId1"/>
          <a:stretch/>
        </p:blipFill>
        <p:spPr>
          <a:xfrm>
            <a:off x="774720" y="1143000"/>
            <a:ext cx="311148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3" descr="Bob.jpg"/>
          <p:cNvPicPr/>
          <p:nvPr/>
        </p:nvPicPr>
        <p:blipFill>
          <a:blip r:embed="rId2"/>
          <a:stretch/>
        </p:blipFill>
        <p:spPr>
          <a:xfrm>
            <a:off x="5257800" y="114300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-76320" y="43434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i, I’m Joy .I like beautiful dress. Red is my favourite colour.Idon’t like black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495680" y="4419720"/>
            <a:ext cx="4724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i, I’m Jonny. I’m a boy. I can play tennis well. But my hobby is reading. I want a book about plants.(</a:t>
            </a:r>
            <a:r>
              <a:rPr b="0" i="1" lang="zh-CN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植物</a:t>
            </a:r>
            <a:r>
              <a:rPr b="0" i="1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7"/>
          <p:cNvSpPr txBox="1"/>
          <p:nvPr/>
        </p:nvSpPr>
        <p:spPr>
          <a:xfrm>
            <a:off x="304920" y="76320"/>
            <a:ext cx="28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Task time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服装.jpg"/>
          <p:cNvPicPr/>
          <p:nvPr/>
        </p:nvPicPr>
        <p:blipFill>
          <a:blip r:embed="rId1"/>
          <a:stretch/>
        </p:blipFill>
        <p:spPr>
          <a:xfrm>
            <a:off x="76320" y="228600"/>
            <a:ext cx="4370400" cy="32767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书店.jpg"/>
          <p:cNvPicPr/>
          <p:nvPr/>
        </p:nvPicPr>
        <p:blipFill>
          <a:blip r:embed="rId2"/>
          <a:stretch/>
        </p:blipFill>
        <p:spPr>
          <a:xfrm>
            <a:off x="4724280" y="22860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" descr="水果.jpg"/>
          <p:cNvPicPr/>
          <p:nvPr/>
        </p:nvPicPr>
        <p:blipFill>
          <a:blip r:embed="rId3"/>
          <a:stretch/>
        </p:blipFill>
        <p:spPr>
          <a:xfrm>
            <a:off x="76320" y="4118040"/>
            <a:ext cx="3998880" cy="2663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" descr="果汁.jpg"/>
          <p:cNvPicPr/>
          <p:nvPr/>
        </p:nvPicPr>
        <p:blipFill>
          <a:blip r:embed="rId4"/>
          <a:stretch/>
        </p:blipFill>
        <p:spPr>
          <a:xfrm>
            <a:off x="4724280" y="4114800"/>
            <a:ext cx="411480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5"/>
          <p:cNvSpPr/>
          <p:nvPr/>
        </p:nvSpPr>
        <p:spPr>
          <a:xfrm>
            <a:off x="2872080" y="3429000"/>
            <a:ext cx="26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pping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万达.jpg"/>
          <p:cNvPicPr/>
          <p:nvPr/>
        </p:nvPicPr>
        <p:blipFill>
          <a:blip r:embed="rId1"/>
          <a:stretch/>
        </p:blipFill>
        <p:spPr>
          <a:xfrm>
            <a:off x="685800" y="7430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3857400" y="15228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Unit 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477800" y="914400"/>
            <a:ext cx="56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Lesson 1 Can I help yo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"/>
          <p:cNvSpPr/>
          <p:nvPr/>
        </p:nvSpPr>
        <p:spPr>
          <a:xfrm>
            <a:off x="304920" y="190512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Can I help yo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I’d like a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How about this . . 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Oh, it’s . . . I’ll ta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Here you a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—</a:t>
            </a:r>
            <a:r>
              <a:rPr b="1" i="1" lang="en-US" sz="4000" spc="-1" strike="noStrike">
                <a:solidFill>
                  <a:srgbClr val="00b0f0"/>
                </a:solidFill>
                <a:latin typeface="Times New Roman"/>
              </a:rPr>
              <a:t>Thank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5" descr="toy car.jpg"/>
          <p:cNvPicPr/>
          <p:nvPr/>
        </p:nvPicPr>
        <p:blipFill>
          <a:blip r:embed="rId1"/>
          <a:stretch/>
        </p:blipFill>
        <p:spPr>
          <a:xfrm>
            <a:off x="6330960" y="3886200"/>
            <a:ext cx="189864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bus.jpeg"/>
          <p:cNvPicPr/>
          <p:nvPr/>
        </p:nvPicPr>
        <p:blipFill>
          <a:blip r:embed="rId2"/>
          <a:stretch/>
        </p:blipFill>
        <p:spPr>
          <a:xfrm>
            <a:off x="6324480" y="2209680"/>
            <a:ext cx="1873440" cy="1328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6710040" y="297180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6634440" y="45720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48" name="WordArt 7"/>
          <p:cNvSpPr txBox="1"/>
          <p:nvPr/>
        </p:nvSpPr>
        <p:spPr>
          <a:xfrm>
            <a:off x="412920" y="0"/>
            <a:ext cx="316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82080" y="1752480"/>
            <a:ext cx="595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Listen and repeat 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2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5 time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30240" y="2514600"/>
            <a:ext cx="81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Copy the words(toy, bus, car, fast)3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5640" y="3200400"/>
            <a:ext cx="68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Act go shopping with your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1547640" y="2205000"/>
            <a:ext cx="56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Thank you!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4" name="安妮的仙境.mp3" descr=""/>
          <p:cNvPicPr/>
          <p:nvPr/>
        </p:nvPicPr>
        <p:blipFill>
          <a:blip r:embed="rId2"/>
          <a:stretch/>
        </p:blipFill>
        <p:spPr>
          <a:xfrm>
            <a:off x="4724280" y="58672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20682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t01b1a67fa7f7883574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Lily.jpg"/>
          <p:cNvPicPr/>
          <p:nvPr/>
        </p:nvPicPr>
        <p:blipFill>
          <a:blip r:embed="rId2"/>
          <a:stretch/>
        </p:blipFill>
        <p:spPr>
          <a:xfrm>
            <a:off x="774720" y="1371600"/>
            <a:ext cx="31114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" descr="Bob.jpg"/>
          <p:cNvPicPr/>
          <p:nvPr/>
        </p:nvPicPr>
        <p:blipFill>
          <a:blip r:embed="rId3"/>
          <a:stretch/>
        </p:blipFill>
        <p:spPr>
          <a:xfrm>
            <a:off x="5257800" y="1371600"/>
            <a:ext cx="304812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681920" y="46483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J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103080" y="4572000"/>
            <a:ext cx="14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Jo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t01c6dcdb18065d3d02.jpg"/>
          <p:cNvPicPr/>
          <p:nvPr/>
        </p:nvPicPr>
        <p:blipFill>
          <a:blip r:embed="rId4"/>
          <a:stretch/>
        </p:blipFill>
        <p:spPr>
          <a:xfrm>
            <a:off x="14479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WordArt 15" descr=""/>
          <p:cNvPicPr/>
          <p:nvPr/>
        </p:nvPicPr>
        <p:blipFill>
          <a:blip r:embed="rId2"/>
          <a:stretch/>
        </p:blipFill>
        <p:spPr>
          <a:xfrm>
            <a:off x="0" y="249120"/>
            <a:ext cx="6315120" cy="622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28600" y="8460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000"/>
                </a:solidFill>
                <a:latin typeface="Times New Roman"/>
              </a:rPr>
              <a:t>What would Li Ming lik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4" descr="01.jpg"/>
          <p:cNvPicPr/>
          <p:nvPr/>
        </p:nvPicPr>
        <p:blipFill>
          <a:blip r:embed="rId3"/>
          <a:stretch/>
        </p:blipFill>
        <p:spPr>
          <a:xfrm>
            <a:off x="1015920" y="1905120"/>
            <a:ext cx="5918400" cy="4438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219320" y="846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000"/>
                </a:solidFill>
                <a:latin typeface="Times New Roman"/>
              </a:rPr>
              <a:t>He’d like a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toy </a:t>
            </a:r>
            <a:r>
              <a:rPr b="1" i="1" lang="en-US" sz="48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643720" y="1030320"/>
            <a:ext cx="9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f0"/>
                </a:solidFill>
                <a:latin typeface="Arial"/>
              </a:rPr>
              <a:t>b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1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9120"/>
            <a:ext cx="6261120" cy="628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02.jpg"/>
          <p:cNvPicPr/>
          <p:nvPr/>
        </p:nvPicPr>
        <p:blipFill>
          <a:blip r:embed="rId4"/>
          <a:stretch/>
        </p:blipFill>
        <p:spPr>
          <a:xfrm>
            <a:off x="1371600" y="1981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755640" y="9144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000"/>
                </a:solidFill>
                <a:latin typeface="Times New Roman"/>
              </a:rPr>
              <a:t>How about this toy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bus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c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8" descr="bus.jpeg"/>
          <p:cNvPicPr/>
          <p:nvPr/>
        </p:nvPicPr>
        <p:blipFill>
          <a:blip r:embed="rId5"/>
          <a:stretch/>
        </p:blipFill>
        <p:spPr>
          <a:xfrm>
            <a:off x="685800" y="1905120"/>
            <a:ext cx="7315200" cy="51861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747000" y="5791320"/>
            <a:ext cx="25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’s too b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3"/>
          <p:cNvSpPr txBox="1"/>
          <p:nvPr/>
        </p:nvSpPr>
        <p:spPr>
          <a:xfrm>
            <a:off x="304920" y="152280"/>
            <a:ext cx="43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Read and find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47960" y="1066680"/>
            <a:ext cx="63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um, may I have a to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1720" y="1600200"/>
            <a:ext cx="68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Ok! Let’s go and have a l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-49680" y="213372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Can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2400" y="2666880"/>
            <a:ext cx="59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’d like a toy  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34200" y="3200400"/>
            <a:ext cx="66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How about this toy bu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-17280" y="373392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t’s too big. I want a toy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-14760" y="4343400"/>
            <a:ext cx="64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Look ,mum ! It goes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d it’s che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43360" y="5638680"/>
            <a:ext cx="55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ll right! We’ll tak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0400" y="144360"/>
            <a:ext cx="56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ow about this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y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2"/>
          <p:cNvSpPr/>
          <p:nvPr/>
        </p:nvSpPr>
        <p:spPr>
          <a:xfrm flipV="1">
            <a:off x="4056120" y="4943520"/>
            <a:ext cx="2192400" cy="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1523880" y="556272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8"/>
          <p:cNvSpPr/>
          <p:nvPr/>
        </p:nvSpPr>
        <p:spPr>
          <a:xfrm>
            <a:off x="5410080" y="43434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U5W004fast.mp3" descr=""/>
          <p:cNvPicPr/>
          <p:nvPr/>
        </p:nvPicPr>
        <p:blipFill>
          <a:blip r:embed="rId1"/>
          <a:stretch/>
        </p:blipFill>
        <p:spPr>
          <a:xfrm>
            <a:off x="6781680" y="46483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76" name="矩形 20"/>
          <p:cNvSpPr/>
          <p:nvPr/>
        </p:nvSpPr>
        <p:spPr>
          <a:xfrm>
            <a:off x="2903040" y="4876920"/>
            <a:ext cx="12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U5W005 cheap.mp3" descr=""/>
          <p:cNvPicPr/>
          <p:nvPr/>
        </p:nvPicPr>
        <p:blipFill>
          <a:blip r:embed="rId2"/>
          <a:stretch/>
        </p:blipFill>
        <p:spPr>
          <a:xfrm>
            <a:off x="4572000" y="52578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2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202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黑色闪耀背景df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231480" y="144360"/>
            <a:ext cx="56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ow about this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y c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3" descr="toy car.jpg"/>
          <p:cNvPicPr/>
          <p:nvPr/>
        </p:nvPicPr>
        <p:blipFill>
          <a:blip r:embed="rId2"/>
          <a:stretch/>
        </p:blipFill>
        <p:spPr>
          <a:xfrm>
            <a:off x="0" y="4267080"/>
            <a:ext cx="2584440" cy="16192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" descr="yellow car.jpg"/>
          <p:cNvPicPr/>
          <p:nvPr/>
        </p:nvPicPr>
        <p:blipFill>
          <a:blip r:embed="rId3"/>
          <a:stretch/>
        </p:blipFill>
        <p:spPr>
          <a:xfrm>
            <a:off x="6737400" y="1523880"/>
            <a:ext cx="2635200" cy="1524240"/>
          </a:xfrm>
          <a:prstGeom prst="rect">
            <a:avLst/>
          </a:prstGeom>
          <a:ln w="0">
            <a:noFill/>
          </a:ln>
        </p:spPr>
      </p:pic>
      <p:sp>
        <p:nvSpPr>
          <p:cNvPr id="82" name="矩形 5"/>
          <p:cNvSpPr/>
          <p:nvPr/>
        </p:nvSpPr>
        <p:spPr>
          <a:xfrm>
            <a:off x="646920" y="39402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t goes fa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353520" y="47782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d it’s che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166760" y="2754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7262280" y="541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0 </a:t>
            </a:r>
            <a:r>
              <a:rPr b="0" i="1" lang="zh-CN" sz="1800" spc="-1" strike="noStrike">
                <a:solidFill>
                  <a:srgbClr val="ff0000"/>
                </a:solidFill>
                <a:latin typeface="Arial"/>
              </a:rPr>
              <a:t>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0.01111 L -0.76423 0.02221 E">
                                      <p:cBhvr>
                                        <p:cTn id="171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68 -0.01804 L 0.66701 -0.01804 E">
                                      <p:cBhvr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324000" y="189000"/>
            <a:ext cx="43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Listen and read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960" y="99072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Mum, may I have a to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81720" y="1600200"/>
            <a:ext cx="68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Ok! Let’s go and have a l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49680" y="213372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Can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32400" y="2666880"/>
            <a:ext cx="59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’d like a toy  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4200" y="3200400"/>
            <a:ext cx="66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How about this toy bu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-17280" y="373392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t’s too big. I want a toy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-14760" y="4343400"/>
            <a:ext cx="64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Look ,mum ! It goes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d it’s che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43360" y="5638680"/>
            <a:ext cx="55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ll right! We’ll tak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47960" y="990720"/>
            <a:ext cx="63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um, may I have a to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000"/>
                            </p:stCondLst>
                            <p:childTnLst>
                              <p:par>
                                <p:cTn id="212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5" nodeType="afterEffect" fill="hold" presetClass="emph" presetID="3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8" nodeType="afterEffect" fill="hold" presetClass="emph" presetID="3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1" nodeType="afterEffect" fill="hold" presetClass="emph" presetID="3" presetSubtype="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7" nodeType="afterEffect" fill="hold" presetClass="emph" presetID="3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3"/>
          <p:cNvSpPr txBox="1"/>
          <p:nvPr/>
        </p:nvSpPr>
        <p:spPr>
          <a:xfrm>
            <a:off x="324000" y="189000"/>
            <a:ext cx="43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Read and underlin.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81720" y="1600200"/>
            <a:ext cx="68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Ok! Let’s go and have a loo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-49680" y="2133720"/>
            <a:ext cx="502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Can I help y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2400" y="2666880"/>
            <a:ext cx="59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’d like a toy  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4200" y="3200400"/>
            <a:ext cx="66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ssistant: How about this toy bu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-17280" y="373392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t’s too big. I want a toy c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-14760" y="4343400"/>
            <a:ext cx="64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Look ,mum ! It goes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d it’s che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3360" y="5638680"/>
            <a:ext cx="55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um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ll right! We’ll take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47960" y="1066680"/>
            <a:ext cx="63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 Ming: </a:t>
            </a:r>
            <a:r>
              <a:rPr b="0" i="1" lang="en-US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Mum, may I have a to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22"/>
          <p:cNvSpPr/>
          <p:nvPr/>
        </p:nvSpPr>
        <p:spPr>
          <a:xfrm>
            <a:off x="1981080" y="274320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24"/>
          <p:cNvSpPr/>
          <p:nvPr/>
        </p:nvSpPr>
        <p:spPr>
          <a:xfrm>
            <a:off x="1752480" y="3276720"/>
            <a:ext cx="4038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27"/>
          <p:cNvSpPr/>
          <p:nvPr/>
        </p:nvSpPr>
        <p:spPr>
          <a:xfrm>
            <a:off x="1981080" y="3809880"/>
            <a:ext cx="4648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31"/>
          <p:cNvSpPr/>
          <p:nvPr/>
        </p:nvSpPr>
        <p:spPr>
          <a:xfrm>
            <a:off x="4038480" y="4343400"/>
            <a:ext cx="2819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33"/>
          <p:cNvSpPr/>
          <p:nvPr/>
        </p:nvSpPr>
        <p:spPr>
          <a:xfrm flipV="1">
            <a:off x="4114800" y="4943520"/>
            <a:ext cx="2192400" cy="9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37"/>
          <p:cNvSpPr/>
          <p:nvPr/>
        </p:nvSpPr>
        <p:spPr>
          <a:xfrm>
            <a:off x="1447920" y="556272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38"/>
          <p:cNvSpPr/>
          <p:nvPr/>
        </p:nvSpPr>
        <p:spPr>
          <a:xfrm>
            <a:off x="3200400" y="6324480"/>
            <a:ext cx="23623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WordArt 2" descr=""/>
          <p:cNvPicPr/>
          <p:nvPr/>
        </p:nvPicPr>
        <p:blipFill>
          <a:blip r:embed="rId1"/>
          <a:stretch/>
        </p:blipFill>
        <p:spPr>
          <a:xfrm>
            <a:off x="-146160" y="66600"/>
            <a:ext cx="3737160" cy="81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-304920" y="12952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- Can I help yo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-156960" y="195912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0" i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- I’d  like a toy, ple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9"/>
          <p:cNvSpPr/>
          <p:nvPr/>
        </p:nvSpPr>
        <p:spPr>
          <a:xfrm>
            <a:off x="71280" y="2666880"/>
            <a:ext cx="585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- How about this mon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-89640" y="3352680"/>
            <a:ext cx="61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--- Oh , it’s lovely. I’ll tak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2" descr="talk1.jpg"/>
          <p:cNvPicPr/>
          <p:nvPr/>
        </p:nvPicPr>
        <p:blipFill>
          <a:blip r:embed="rId2"/>
          <a:stretch/>
        </p:blipFill>
        <p:spPr>
          <a:xfrm>
            <a:off x="5029200" y="-3808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3" descr="talk2.jpg"/>
          <p:cNvPicPr/>
          <p:nvPr/>
        </p:nvPicPr>
        <p:blipFill>
          <a:blip r:embed="rId3"/>
          <a:stretch/>
        </p:blipFill>
        <p:spPr>
          <a:xfrm>
            <a:off x="5029200" y="3962520"/>
            <a:ext cx="4114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WordArt 2" descr=""/>
          <p:cNvPicPr/>
          <p:nvPr/>
        </p:nvPicPr>
        <p:blipFill>
          <a:blip r:embed="rId4"/>
          <a:stretch/>
        </p:blipFill>
        <p:spPr>
          <a:xfrm>
            <a:off x="-133200" y="60480"/>
            <a:ext cx="3803400" cy="817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92160" y="2666880"/>
            <a:ext cx="50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--How about this . . .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4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00:35:46Z</dcterms:created>
  <dc:creator>Administrator</dc:creator>
  <dc:description/>
  <dc:language>en-US</dc:language>
  <cp:lastModifiedBy>Administrator</cp:lastModifiedBy>
  <dcterms:modified xsi:type="dcterms:W3CDTF">2017-11-08T14:01:38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