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93D-18DB-4574-8DBC-3FEF423C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EF2-0576-47C8-B8C6-3461180E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0E0-8A8F-4493-A896-6908D0C5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BA2-8B1C-42D6-9BEB-2EA651FA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873-1E7E-418E-901A-BD6F86B1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0BDA-771D-4292-80CC-969E5DE7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564-C61E-4F11-A597-F1C8E248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A5F-EA6A-44FD-A12E-5F76312E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0B9-2A45-4E13-9796-0D9D122E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B71-FA10-467D-A28D-A3629C47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11B-1264-49B1-9EB7-A5BA22E8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16E-569A-4228-ABFF-D1142830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664B-AC01-4AA3-B6C5-757ABAB6F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www.jitu5.com/uploads/allimg/111018/2702-11101Q106349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1219320" y="2590920"/>
            <a:ext cx="657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I’m going to Mount Taish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"/>
          <p:cNvSpPr/>
          <p:nvPr/>
        </p:nvSpPr>
        <p:spPr>
          <a:xfrm>
            <a:off x="1981080" y="1523880"/>
            <a:ext cx="3714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Unit 6 Less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F:\DVD\山科\四下\SD4BJ_B (H)\Unit 6\image\bigpic\课文图片\032.jpg"/>
          <p:cNvPicPr/>
          <p:nvPr/>
        </p:nvPicPr>
        <p:blipFill>
          <a:blip r:embed="rId1"/>
          <a:stretch/>
        </p:blipFill>
        <p:spPr>
          <a:xfrm>
            <a:off x="571680" y="357120"/>
            <a:ext cx="8191440" cy="6143760"/>
          </a:xfrm>
          <a:prstGeom prst="rect">
            <a:avLst/>
          </a:prstGeom>
          <a:ln w="0">
            <a:noFill/>
          </a:ln>
        </p:spPr>
      </p:pic>
      <p:sp>
        <p:nvSpPr>
          <p:cNvPr id="79" name="圆角矩形标注 5"/>
          <p:cNvSpPr/>
          <p:nvPr/>
        </p:nvSpPr>
        <p:spPr>
          <a:xfrm>
            <a:off x="2195640" y="981000"/>
            <a:ext cx="4643280" cy="1000080"/>
          </a:xfrm>
          <a:prstGeom prst="wedgeRoundRectCallout">
            <a:avLst>
              <a:gd name="adj1" fmla="val 16805"/>
              <a:gd name="adj2" fmla="val 211268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e you going this summer, Li 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标注 6"/>
          <p:cNvSpPr/>
          <p:nvPr/>
        </p:nvSpPr>
        <p:spPr>
          <a:xfrm>
            <a:off x="642960" y="4929120"/>
            <a:ext cx="4429080" cy="1071720"/>
          </a:xfrm>
          <a:prstGeom prst="wedgeRoundRectCallout">
            <a:avLst>
              <a:gd name="adj1" fmla="val -4638"/>
              <a:gd name="adj2" fmla="val -187513"/>
              <a:gd name="adj3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m going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995040" y="5429160"/>
            <a:ext cx="33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aolin Te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hiphotos.baidu.com/lvpics/pic/item/9f2f070828381f30373d8414a9014c086e06f063.jpg"/>
          <p:cNvPicPr/>
          <p:nvPr/>
        </p:nvPicPr>
        <p:blipFill>
          <a:blip r:embed="rId1"/>
          <a:stretch/>
        </p:blipFill>
        <p:spPr>
          <a:xfrm>
            <a:off x="642960" y="1714680"/>
            <a:ext cx="7715160" cy="4643280"/>
          </a:xfrm>
          <a:prstGeom prst="rect">
            <a:avLst/>
          </a:prstGeom>
          <a:ln w="0">
            <a:noFill/>
          </a:ln>
        </p:spPr>
      </p:pic>
      <p:sp>
        <p:nvSpPr>
          <p:cNvPr id="84" name="矩形 5"/>
          <p:cNvSpPr/>
          <p:nvPr/>
        </p:nvSpPr>
        <p:spPr>
          <a:xfrm>
            <a:off x="813960" y="500040"/>
            <a:ext cx="78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m going to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3853080" y="500040"/>
            <a:ext cx="459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aolin Te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813960" y="500040"/>
            <a:ext cx="78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m going to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853080" y="500040"/>
            <a:ext cx="459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aolin Te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gb.cri.cn/mmsource/images/2011/07/13/2aa3472ca6e74d18a54cc956b13bf2fa.jpg"/>
          <p:cNvPicPr/>
          <p:nvPr/>
        </p:nvPicPr>
        <p:blipFill>
          <a:blip r:embed="rId1"/>
          <a:stretch/>
        </p:blipFill>
        <p:spPr>
          <a:xfrm>
            <a:off x="785880" y="1500120"/>
            <a:ext cx="76197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813960" y="500040"/>
            <a:ext cx="78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m going to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853080" y="500040"/>
            <a:ext cx="459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aolin Te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://blog.cz001.com.cn/attachments/2010/11/295_2010113012145311Fc6g.jpg"/>
          <p:cNvPicPr/>
          <p:nvPr/>
        </p:nvPicPr>
        <p:blipFill>
          <a:blip r:embed="rId1"/>
          <a:stretch/>
        </p:blipFill>
        <p:spPr>
          <a:xfrm>
            <a:off x="1143000" y="1643040"/>
            <a:ext cx="671508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F:\DVD\山科\四下\SD4BJ_B (H)\Unit 6\image\bigpic\课文图片\033.jpg"/>
          <p:cNvPicPr/>
          <p:nvPr/>
        </p:nvPicPr>
        <p:blipFill>
          <a:blip r:embed="rId1"/>
          <a:stretch/>
        </p:blipFill>
        <p:spPr>
          <a:xfrm>
            <a:off x="714240" y="10000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圆角矩形标注 2"/>
          <p:cNvSpPr/>
          <p:nvPr/>
        </p:nvSpPr>
        <p:spPr>
          <a:xfrm>
            <a:off x="2928960" y="642960"/>
            <a:ext cx="4643280" cy="857160"/>
          </a:xfrm>
          <a:prstGeom prst="wedgeRoundRectCallout">
            <a:avLst>
              <a:gd name="adj1" fmla="val 1023"/>
              <a:gd name="adj2" fmla="val 187921"/>
              <a:gd name="adj3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, too! I love Kung f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gongfu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gongfu2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gongfu3"/>
          <p:cNvPicPr/>
          <p:nvPr/>
        </p:nvPicPr>
        <p:blipFill>
          <a:blip r:embed="rId3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1332000" y="40464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ung fu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功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lvxing"/>
          <p:cNvPicPr/>
          <p:nvPr/>
        </p:nvPicPr>
        <p:blipFill>
          <a:blip r:embed="rId1"/>
          <a:stretch/>
        </p:blipFill>
        <p:spPr>
          <a:xfrm>
            <a:off x="971640" y="1557360"/>
            <a:ext cx="7632720" cy="5300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55640" y="549360"/>
            <a:ext cx="5184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ravel   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</a:rPr>
              <a:t>旅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qiyue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684360" y="260280"/>
            <a:ext cx="684036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July   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Arial"/>
              </a:rPr>
              <a:t>七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shujia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611280" y="428760"/>
            <a:ext cx="85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mmer vacations 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Arial"/>
              </a:rPr>
              <a:t>暑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1391040" y="357120"/>
            <a:ext cx="67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e you going this summ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2731680" y="1143000"/>
            <a:ext cx="32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m going to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F:\DVD\山科\四下\SD4BJ_B (H)\Unit 6\image\bigpic\课文图片\01.jpg"/>
          <p:cNvPicPr/>
          <p:nvPr/>
        </p:nvPicPr>
        <p:blipFill>
          <a:blip r:embed="rId1"/>
          <a:stretch/>
        </p:blipFill>
        <p:spPr>
          <a:xfrm>
            <a:off x="1500120" y="2071800"/>
            <a:ext cx="2643120" cy="1928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:\DVD\山科\四下\SD4BJ_B (H)\Unit 6\image\bigpic\课文图片\02.jpg"/>
          <p:cNvPicPr/>
          <p:nvPr/>
        </p:nvPicPr>
        <p:blipFill>
          <a:blip r:embed="rId2"/>
          <a:stretch/>
        </p:blipFill>
        <p:spPr>
          <a:xfrm>
            <a:off x="4857840" y="20718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:\DVD\山科\四下\SD4BJ_B (H)\Unit 6\image\bigpic\课文图片\03.jpg"/>
          <p:cNvPicPr/>
          <p:nvPr/>
        </p:nvPicPr>
        <p:blipFill>
          <a:blip r:embed="rId3"/>
          <a:stretch/>
        </p:blipFill>
        <p:spPr>
          <a:xfrm>
            <a:off x="714240" y="43578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F:\DVD\山科\四下\SD4BJ_B (H)\Unit 6\image\bigpic\课文图片\04.jpg"/>
          <p:cNvPicPr/>
          <p:nvPr/>
        </p:nvPicPr>
        <p:blipFill>
          <a:blip r:embed="rId4"/>
          <a:stretch/>
        </p:blipFill>
        <p:spPr>
          <a:xfrm>
            <a:off x="5357880" y="4357800"/>
            <a:ext cx="30002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20090813112402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矩形 1"/>
          <p:cNvSpPr/>
          <p:nvPr/>
        </p:nvSpPr>
        <p:spPr>
          <a:xfrm>
            <a:off x="0" y="1066680"/>
            <a:ext cx="6572160" cy="924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Do you like 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Comic Sans MS"/>
              </a:rPr>
              <a:t>travel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 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382752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Comic Sans MS"/>
              </a:rPr>
              <a:t>Let's talk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01"/>
          <p:cNvPicPr/>
          <p:nvPr/>
        </p:nvPicPr>
        <p:blipFill>
          <a:blip r:embed="rId1"/>
          <a:stretch/>
        </p:blipFill>
        <p:spPr>
          <a:xfrm>
            <a:off x="252360" y="1270080"/>
            <a:ext cx="1919520" cy="1439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2"/>
          <p:cNvPicPr/>
          <p:nvPr/>
        </p:nvPicPr>
        <p:blipFill>
          <a:blip r:embed="rId2"/>
          <a:stretch/>
        </p:blipFill>
        <p:spPr>
          <a:xfrm>
            <a:off x="2411280" y="1270080"/>
            <a:ext cx="2089440" cy="156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03"/>
          <p:cNvPicPr/>
          <p:nvPr/>
        </p:nvPicPr>
        <p:blipFill>
          <a:blip r:embed="rId3"/>
          <a:stretch/>
        </p:blipFill>
        <p:spPr>
          <a:xfrm>
            <a:off x="4716360" y="1270080"/>
            <a:ext cx="2111400" cy="158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04"/>
          <p:cNvPicPr/>
          <p:nvPr/>
        </p:nvPicPr>
        <p:blipFill>
          <a:blip r:embed="rId4"/>
          <a:stretch/>
        </p:blipFill>
        <p:spPr>
          <a:xfrm>
            <a:off x="7020000" y="1270080"/>
            <a:ext cx="2016000" cy="158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95280" y="299736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nt Tais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700360" y="3141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076720" y="314172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093080" y="30700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2738520" y="4527720"/>
            <a:ext cx="60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: Where are you go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B: I'm going to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达标检查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280" y="1125000"/>
            <a:ext cx="7777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连一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vel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假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k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泰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ne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旅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uly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cation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六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unt Taishan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七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mpl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庙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箭头 186"/>
          <p:cNvSpPr/>
          <p:nvPr/>
        </p:nvSpPr>
        <p:spPr>
          <a:xfrm>
            <a:off x="2195640" y="1989000"/>
            <a:ext cx="2305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箭头 187"/>
          <p:cNvSpPr/>
          <p:nvPr/>
        </p:nvSpPr>
        <p:spPr>
          <a:xfrm>
            <a:off x="1979640" y="2492280"/>
            <a:ext cx="259236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箭头 188"/>
          <p:cNvSpPr/>
          <p:nvPr/>
        </p:nvSpPr>
        <p:spPr>
          <a:xfrm>
            <a:off x="1835280" y="3070080"/>
            <a:ext cx="2809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箭头 189"/>
          <p:cNvSpPr/>
          <p:nvPr/>
        </p:nvSpPr>
        <p:spPr>
          <a:xfrm>
            <a:off x="1835280" y="3718080"/>
            <a:ext cx="302580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箭头 191"/>
          <p:cNvSpPr/>
          <p:nvPr/>
        </p:nvSpPr>
        <p:spPr>
          <a:xfrm flipV="1">
            <a:off x="1692360" y="1988640"/>
            <a:ext cx="280836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箭头 192"/>
          <p:cNvSpPr/>
          <p:nvPr/>
        </p:nvSpPr>
        <p:spPr>
          <a:xfrm flipV="1">
            <a:off x="2484360" y="2565360"/>
            <a:ext cx="208764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箭头 193"/>
          <p:cNvSpPr/>
          <p:nvPr/>
        </p:nvSpPr>
        <p:spPr>
          <a:xfrm>
            <a:off x="2411280" y="515772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Documents and Settings\Administrator\Application Data\Tencent\Users\178331978\QQ\WinTemp\RichOle\X~1C(V`YRO}3(@(6O7G~5WJ.jpg"/>
          <p:cNvPicPr/>
          <p:nvPr/>
        </p:nvPicPr>
        <p:blipFill>
          <a:blip r:embed="rId1"/>
          <a:stretch/>
        </p:blipFill>
        <p:spPr>
          <a:xfrm>
            <a:off x="0" y="538200"/>
            <a:ext cx="8429760" cy="6319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395280" y="26028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are they talking about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读课文思考，他们在谈论什么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Documents and Settings\Administrator\Application Data\Tencent\Users\178331978\QQ\WinTemp\RichOle\X~1C(V`YRO}3(@(6O7G~5WJ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319800"/>
          </a:xfrm>
          <a:prstGeom prst="rect">
            <a:avLst/>
          </a:prstGeom>
          <a:ln w="0">
            <a:noFill/>
          </a:ln>
        </p:spPr>
      </p:pic>
      <p:sp>
        <p:nvSpPr>
          <p:cNvPr id="53" name="圆角矩形标注 4"/>
          <p:cNvSpPr/>
          <p:nvPr/>
        </p:nvSpPr>
        <p:spPr>
          <a:xfrm>
            <a:off x="571680" y="642960"/>
            <a:ext cx="7745400" cy="1143000"/>
          </a:xfrm>
          <a:prstGeom prst="wedgeRoundRectCallout">
            <a:avLst>
              <a:gd name="adj1" fmla="val -13476"/>
              <a:gd name="adj2" fmla="val 105555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June now. Th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mmer vacatio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ming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336400" y="1197000"/>
            <a:ext cx="42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ing to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v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标注 6"/>
          <p:cNvSpPr/>
          <p:nvPr/>
        </p:nvSpPr>
        <p:spPr>
          <a:xfrm>
            <a:off x="2500200" y="5429160"/>
            <a:ext cx="3714840" cy="1143000"/>
          </a:xfrm>
          <a:prstGeom prst="wedgeRoundRectCallout">
            <a:avLst>
              <a:gd name="adj1" fmla="val -41462"/>
              <a:gd name="adj2" fmla="val -85675"/>
              <a:gd name="adj3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. 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ing to _____________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935080" y="6000840"/>
            <a:ext cx="27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nt Tais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ttp://hiphotos.baidu.com/lvpics/pic/item/a8ad9413fff21888f6039e0b.jpg"/>
          <p:cNvPicPr/>
          <p:nvPr/>
        </p:nvPicPr>
        <p:blipFill>
          <a:blip r:embed="rId1"/>
          <a:stretch/>
        </p:blipFill>
        <p:spPr>
          <a:xfrm>
            <a:off x="571680" y="985680"/>
            <a:ext cx="7858080" cy="5872320"/>
          </a:xfrm>
          <a:prstGeom prst="rect">
            <a:avLst/>
          </a:prstGeom>
          <a:ln w="0">
            <a:noFill/>
          </a:ln>
        </p:spPr>
      </p:pic>
      <p:sp>
        <p:nvSpPr>
          <p:cNvPr id="59" name="矩形 6"/>
          <p:cNvSpPr/>
          <p:nvPr/>
        </p:nvSpPr>
        <p:spPr>
          <a:xfrm>
            <a:off x="1029600" y="214200"/>
            <a:ext cx="63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ing to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852360" y="21420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nt Tais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http://hiphotos.baidu.com/lvpics/pic/item/aa64034f78f0f736743362f00b55b319eac41375.jpg"/>
          <p:cNvPicPr/>
          <p:nvPr/>
        </p:nvPicPr>
        <p:blipFill>
          <a:blip r:embed="rId1"/>
          <a:stretch/>
        </p:blipFill>
        <p:spPr>
          <a:xfrm>
            <a:off x="642960" y="1071720"/>
            <a:ext cx="7715160" cy="5786280"/>
          </a:xfrm>
          <a:prstGeom prst="rect">
            <a:avLst/>
          </a:prstGeom>
          <a:ln w="0">
            <a:noFill/>
          </a:ln>
        </p:spPr>
      </p:pic>
      <p:sp>
        <p:nvSpPr>
          <p:cNvPr id="63" name="矩形 5"/>
          <p:cNvSpPr/>
          <p:nvPr/>
        </p:nvSpPr>
        <p:spPr>
          <a:xfrm>
            <a:off x="1029600" y="214200"/>
            <a:ext cx="63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ing to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3852360" y="21420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nt Tais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http://storage.travel.sina.com.cn/jingdian/201309181007029387_20110411_104142_jdtupload_11758_0.jpg"/>
          <p:cNvPicPr/>
          <p:nvPr/>
        </p:nvPicPr>
        <p:blipFill>
          <a:blip r:embed="rId1"/>
          <a:stretch/>
        </p:blipFill>
        <p:spPr>
          <a:xfrm>
            <a:off x="1071720" y="1357200"/>
            <a:ext cx="6929280" cy="5160960"/>
          </a:xfrm>
          <a:prstGeom prst="rect">
            <a:avLst/>
          </a:prstGeom>
          <a:ln w="0">
            <a:noFill/>
          </a:ln>
        </p:spPr>
      </p:pic>
      <p:sp>
        <p:nvSpPr>
          <p:cNvPr id="67" name="矩形 5"/>
          <p:cNvSpPr/>
          <p:nvPr/>
        </p:nvSpPr>
        <p:spPr>
          <a:xfrm>
            <a:off x="1274040" y="291960"/>
            <a:ext cx="63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m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ing to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096800" y="291960"/>
            <a:ext cx="31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nt Tais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F:\DVD\山科\四下\SD4BJ_B (H)\Unit 6\image\bigpic\课文图片\031.jpg"/>
          <p:cNvPicPr/>
          <p:nvPr/>
        </p:nvPicPr>
        <p:blipFill>
          <a:blip r:embed="rId1"/>
          <a:stretch/>
        </p:blipFill>
        <p:spPr>
          <a:xfrm>
            <a:off x="468360" y="333360"/>
            <a:ext cx="8286840" cy="6215040"/>
          </a:xfrm>
          <a:prstGeom prst="rect">
            <a:avLst/>
          </a:prstGeom>
          <a:ln w="0">
            <a:noFill/>
          </a:ln>
        </p:spPr>
      </p:pic>
      <p:sp>
        <p:nvSpPr>
          <p:cNvPr id="71" name="圆角矩形标注 5"/>
          <p:cNvSpPr/>
          <p:nvPr/>
        </p:nvSpPr>
        <p:spPr>
          <a:xfrm>
            <a:off x="4643280" y="692280"/>
            <a:ext cx="3857760" cy="642960"/>
          </a:xfrm>
          <a:prstGeom prst="wedgeRoundRectCallout">
            <a:avLst>
              <a:gd name="adj1" fmla="val -1726"/>
              <a:gd name="adj2" fmla="val 144814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’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oing to  __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标注 6"/>
          <p:cNvSpPr/>
          <p:nvPr/>
        </p:nvSpPr>
        <p:spPr>
          <a:xfrm>
            <a:off x="2357280" y="5357880"/>
            <a:ext cx="3857760" cy="928800"/>
          </a:xfrm>
          <a:prstGeom prst="wedgeRoundRectCallout">
            <a:avLst>
              <a:gd name="adj1" fmla="val 16041"/>
              <a:gd name="adj2" fmla="val -123087"/>
              <a:gd name="adj3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’m going back to Canada 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</a:rPr>
              <a:t>Jul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7236000" y="76500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F:\DVD\山科\四下\SD4BJ_B (H)\Unit 6\image\bigpic\课文图片\032.jpg"/>
          <p:cNvPicPr/>
          <p:nvPr/>
        </p:nvPicPr>
        <p:blipFill>
          <a:blip r:embed="rId1"/>
          <a:stretch/>
        </p:blipFill>
        <p:spPr>
          <a:xfrm>
            <a:off x="468360" y="714240"/>
            <a:ext cx="8191440" cy="6143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395280" y="26028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they ask Liming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听音回答，他们是如何询问李明的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5T06:11:44Z</dcterms:created>
  <dc:creator/>
  <dc:description/>
  <cp:keywords/>
  <dc:language>en-US</dc:language>
  <cp:lastModifiedBy/>
  <dcterms:modified xsi:type="dcterms:W3CDTF">2017-11-17T15:58:34Z</dcterms:modified>
  <cp:revision>1</cp:revision>
  <dc:subject/>
  <dc:title/>
</cp:coreProperties>
</file>