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27F-F1C8-432A-B91C-462ED57D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979-4458-4D52-9F5E-EFB19C2D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383-9D4D-4B1E-A66C-0061C983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7A5-19FC-4D90-9026-252CC39F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76B-B15F-400B-9962-D8C69A82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768-9563-4E53-AE0B-00094C72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C38-B250-4DC3-87B4-9EC6F528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587-5993-49A5-96FD-C18782EB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61E-42D3-4034-A1F3-EAE2AE0F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D4A-B002-4B13-8502-248C14E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002-ADEA-4A1E-A992-40A70A25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EBA-A902-4FB9-B4E3-DFF524F1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0A29E-A59E-45B7-93D0-79120B1D51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495360" y="1271520"/>
            <a:ext cx="83851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3 A Travel 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五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5320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619360" y="4605480"/>
            <a:ext cx="664704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17"/>
          <p:cNvSpPr/>
          <p:nvPr/>
        </p:nvSpPr>
        <p:spPr>
          <a:xfrm>
            <a:off x="2600280" y="1389240"/>
            <a:ext cx="5956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 Ming and I are going on a trip to Beij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和李明将要去北京旅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2"/>
          <p:cNvGrpSpPr/>
          <p:nvPr/>
        </p:nvGrpSpPr>
        <p:grpSpPr>
          <a:xfrm>
            <a:off x="87480" y="1457280"/>
            <a:ext cx="2739960" cy="666720"/>
            <a:chOff x="87480" y="1457280"/>
            <a:chExt cx="2739960" cy="666720"/>
          </a:xfrm>
        </p:grpSpPr>
        <p:sp>
          <p:nvSpPr>
            <p:cNvPr id="144" name="圆角矩形 18"/>
            <p:cNvSpPr/>
            <p:nvPr/>
          </p:nvSpPr>
          <p:spPr>
            <a:xfrm>
              <a:off x="762120" y="1571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19"/>
            <p:cNvSpPr/>
            <p:nvPr/>
          </p:nvSpPr>
          <p:spPr>
            <a:xfrm>
              <a:off x="1122480" y="1538280"/>
              <a:ext cx="17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87480" y="145728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TextBox 8"/>
          <p:cNvSpPr/>
          <p:nvPr/>
        </p:nvSpPr>
        <p:spPr>
          <a:xfrm>
            <a:off x="2087640" y="4613400"/>
            <a:ext cx="49384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is going to Shanghai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打算明天去上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1187280" y="480708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7"/>
          <p:cNvSpPr/>
          <p:nvPr/>
        </p:nvSpPr>
        <p:spPr>
          <a:xfrm>
            <a:off x="1143000" y="2684520"/>
            <a:ext cx="664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型：主语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 be +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ng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形式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其他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1166760" y="352584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2079720" y="3344760"/>
            <a:ext cx="70675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来表示某人将要做某事。其中所用动词多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位置转移的动词，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2087640" y="2989440"/>
            <a:ext cx="515916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ve a good trip!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祝你旅途愉快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 go on a trip to Shangh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想要去上海旅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1187280" y="31827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7"/>
          <p:cNvSpPr/>
          <p:nvPr/>
        </p:nvSpPr>
        <p:spPr>
          <a:xfrm>
            <a:off x="1211400" y="159228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rip /trɪp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旅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1166760" y="243360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2079720" y="2254320"/>
            <a:ext cx="44434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on a trip /take a tri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去旅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6" descr=""/>
          <p:cNvPicPr/>
          <p:nvPr/>
        </p:nvPicPr>
        <p:blipFill>
          <a:blip r:embed="rId1"/>
          <a:stretch/>
        </p:blipFill>
        <p:spPr>
          <a:xfrm>
            <a:off x="3284640" y="2509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17"/>
          <p:cNvSpPr/>
          <p:nvPr/>
        </p:nvSpPr>
        <p:spPr>
          <a:xfrm>
            <a:off x="3213000" y="1400040"/>
            <a:ext cx="35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alk /tɔːk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交谈；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2646360" y="2644920"/>
            <a:ext cx="5021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lk to sb./talk with sb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某人交谈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lk abou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谈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"/>
          <p:cNvGrpSpPr/>
          <p:nvPr/>
        </p:nvGrpSpPr>
        <p:grpSpPr>
          <a:xfrm>
            <a:off x="654120" y="1467000"/>
            <a:ext cx="2577960" cy="666720"/>
            <a:chOff x="654120" y="1467000"/>
            <a:chExt cx="2577960" cy="666720"/>
          </a:xfrm>
        </p:grpSpPr>
        <p:sp>
          <p:nvSpPr>
            <p:cNvPr id="166" name="圆角矩形 18"/>
            <p:cNvSpPr/>
            <p:nvPr/>
          </p:nvSpPr>
          <p:spPr>
            <a:xfrm>
              <a:off x="1346040" y="155088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19"/>
            <p:cNvSpPr/>
            <p:nvPr/>
          </p:nvSpPr>
          <p:spPr>
            <a:xfrm>
              <a:off x="1712880" y="1512720"/>
              <a:ext cx="15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54120" y="1467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矩形 3"/>
          <p:cNvSpPr/>
          <p:nvPr/>
        </p:nvSpPr>
        <p:spPr>
          <a:xfrm>
            <a:off x="1606680" y="282564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2646360" y="3887640"/>
            <a:ext cx="5283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teacher wants to talk to my father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老师想要和我的爸爸交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talk about this story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咱们谈论一下这个故事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1631880" y="40654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3902040" y="2098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l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高的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l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步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1611360" y="2200320"/>
            <a:ext cx="22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17"/>
          <p:cNvSpPr/>
          <p:nvPr/>
        </p:nvSpPr>
        <p:spPr>
          <a:xfrm>
            <a:off x="3022560" y="1371600"/>
            <a:ext cx="58849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en will you go to Beij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你们将什么时候去北京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1"/>
          <p:cNvGrpSpPr/>
          <p:nvPr/>
        </p:nvGrpSpPr>
        <p:grpSpPr>
          <a:xfrm>
            <a:off x="392040" y="1433520"/>
            <a:ext cx="2579760" cy="666720"/>
            <a:chOff x="392040" y="1433520"/>
            <a:chExt cx="2579760" cy="666720"/>
          </a:xfrm>
        </p:grpSpPr>
        <p:sp>
          <p:nvSpPr>
            <p:cNvPr id="179" name="圆角矩形 18"/>
            <p:cNvSpPr/>
            <p:nvPr/>
          </p:nvSpPr>
          <p:spPr>
            <a:xfrm>
              <a:off x="1193760" y="154764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19"/>
            <p:cNvSpPr/>
            <p:nvPr/>
          </p:nvSpPr>
          <p:spPr>
            <a:xfrm>
              <a:off x="1452600" y="1514520"/>
              <a:ext cx="15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392040" y="143352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TextBox 8"/>
          <p:cNvSpPr/>
          <p:nvPr/>
        </p:nvSpPr>
        <p:spPr>
          <a:xfrm>
            <a:off x="2454120" y="2568600"/>
            <a:ext cx="5513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+ will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原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"/>
          <p:cNvSpPr/>
          <p:nvPr/>
        </p:nvSpPr>
        <p:spPr>
          <a:xfrm>
            <a:off x="1427040" y="27795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4"/>
          <p:cNvSpPr/>
          <p:nvPr/>
        </p:nvSpPr>
        <p:spPr>
          <a:xfrm>
            <a:off x="1434960" y="341964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2413080" y="3255840"/>
            <a:ext cx="5338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询问将来某个活动安排的具体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间的常用句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1442880" y="46371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2333520" y="4498920"/>
            <a:ext cx="469260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will she come her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将什么时候来这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 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0 tonight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今晚九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17"/>
          <p:cNvSpPr/>
          <p:nvPr/>
        </p:nvSpPr>
        <p:spPr>
          <a:xfrm>
            <a:off x="3022560" y="1584360"/>
            <a:ext cx="3841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n February 3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二月三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1"/>
          <p:cNvGrpSpPr/>
          <p:nvPr/>
        </p:nvGrpSpPr>
        <p:grpSpPr>
          <a:xfrm>
            <a:off x="392040" y="1650960"/>
            <a:ext cx="2579760" cy="666720"/>
            <a:chOff x="392040" y="1650960"/>
            <a:chExt cx="2579760" cy="666720"/>
          </a:xfrm>
        </p:grpSpPr>
        <p:sp>
          <p:nvSpPr>
            <p:cNvPr id="193" name="圆角矩形 18"/>
            <p:cNvSpPr/>
            <p:nvPr/>
          </p:nvSpPr>
          <p:spPr>
            <a:xfrm>
              <a:off x="1193760" y="176508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19"/>
            <p:cNvSpPr/>
            <p:nvPr/>
          </p:nvSpPr>
          <p:spPr>
            <a:xfrm>
              <a:off x="1452600" y="1731960"/>
              <a:ext cx="15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392040" y="165096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矩形 4"/>
          <p:cNvSpPr/>
          <p:nvPr/>
        </p:nvSpPr>
        <p:spPr>
          <a:xfrm>
            <a:off x="1434960" y="254628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2413080" y="2381400"/>
            <a:ext cx="46130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具体的几月几日前用介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1442880" y="328608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2428920" y="302436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ill go home on January 25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将在一月二十五日回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2095560" y="2538360"/>
            <a:ext cx="528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间名词前所用的介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月季前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日子前面却不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遇到几号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上午下午又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要说某日上下午，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才能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午夜黄昏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黎明用它也不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2"/>
          <p:cNvGrpSpPr/>
          <p:nvPr/>
        </p:nvGrpSpPr>
        <p:grpSpPr>
          <a:xfrm>
            <a:off x="2162160" y="2030400"/>
            <a:ext cx="2403360" cy="459720"/>
            <a:chOff x="2162160" y="2030400"/>
            <a:chExt cx="2403360" cy="459720"/>
          </a:xfrm>
        </p:grpSpPr>
        <p:sp>
          <p:nvSpPr>
            <p:cNvPr id="205" name="TextBox 10"/>
            <p:cNvSpPr/>
            <p:nvPr/>
          </p:nvSpPr>
          <p:spPr>
            <a:xfrm>
              <a:off x="2477880" y="203040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2162160" y="207792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文本框 8" descr=""/>
          <p:cNvPicPr/>
          <p:nvPr/>
        </p:nvPicPr>
        <p:blipFill>
          <a:blip r:embed="rId1"/>
          <a:stretch/>
        </p:blipFill>
        <p:spPr>
          <a:xfrm>
            <a:off x="2544840" y="95400"/>
            <a:ext cx="4186080" cy="1527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C:\Users\john\Desktop\1.png"/>
          <p:cNvPicPr/>
          <p:nvPr/>
        </p:nvPicPr>
        <p:blipFill>
          <a:blip r:embed="rId2"/>
          <a:stretch/>
        </p:blipFill>
        <p:spPr>
          <a:xfrm>
            <a:off x="585720" y="685800"/>
            <a:ext cx="7972560" cy="4714920"/>
          </a:xfrm>
          <a:prstGeom prst="rect">
            <a:avLst/>
          </a:prstGeom>
          <a:ln w="0">
            <a:noFill/>
          </a:ln>
        </p:spPr>
      </p:pic>
      <p:sp>
        <p:nvSpPr>
          <p:cNvPr id="209" name="矩形 4"/>
          <p:cNvSpPr/>
          <p:nvPr/>
        </p:nvSpPr>
        <p:spPr>
          <a:xfrm>
            <a:off x="517680" y="1133640"/>
            <a:ext cx="76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’s mother calls Danny’s mother. What do they s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814320" y="4132440"/>
            <a:ext cx="43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llo. This is Mrs. Smith.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speak to Danny’s mother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5394240" y="4199040"/>
            <a:ext cx="31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llo. This is Danny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oth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文本框 8" descr=""/>
          <p:cNvPicPr/>
          <p:nvPr/>
        </p:nvPicPr>
        <p:blipFill>
          <a:blip r:embed="rId1"/>
          <a:stretch/>
        </p:blipFill>
        <p:spPr>
          <a:xfrm>
            <a:off x="2544840" y="95400"/>
            <a:ext cx="4186080" cy="1527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C:\Users\john\Desktop\2.png"/>
          <p:cNvPicPr/>
          <p:nvPr/>
        </p:nvPicPr>
        <p:blipFill>
          <a:blip r:embed="rId2"/>
          <a:stretch/>
        </p:blipFill>
        <p:spPr>
          <a:xfrm>
            <a:off x="409680" y="1069920"/>
            <a:ext cx="8456400" cy="5162760"/>
          </a:xfrm>
          <a:prstGeom prst="rect">
            <a:avLst/>
          </a:prstGeom>
          <a:ln w="0">
            <a:noFill/>
          </a:ln>
        </p:spPr>
      </p:pic>
      <p:sp>
        <p:nvSpPr>
          <p:cNvPr id="214" name="矩形 4"/>
          <p:cNvSpPr/>
          <p:nvPr/>
        </p:nvSpPr>
        <p:spPr>
          <a:xfrm>
            <a:off x="369720" y="917640"/>
            <a:ext cx="31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air work. Make a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4"/>
          <p:cNvSpPr/>
          <p:nvPr/>
        </p:nvSpPr>
        <p:spPr>
          <a:xfrm>
            <a:off x="455760" y="2381400"/>
            <a:ext cx="84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o to the cinema     go to the park           go shopping     play ping-p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900000" y="2919240"/>
            <a:ext cx="321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llo. This is Jen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y I speak to Dan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5664240" y="2967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Dan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"/>
          <p:cNvSpPr/>
          <p:nvPr/>
        </p:nvSpPr>
        <p:spPr>
          <a:xfrm>
            <a:off x="654120" y="3963960"/>
            <a:ext cx="303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 you want to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cinema with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"/>
          <p:cNvSpPr/>
          <p:nvPr/>
        </p:nvSpPr>
        <p:spPr>
          <a:xfrm>
            <a:off x="1101600" y="5056200"/>
            <a:ext cx="21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 5: 00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6168960" y="3844800"/>
            <a:ext cx="244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kay. When wi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"/>
          <p:cNvSpPr/>
          <p:nvPr/>
        </p:nvSpPr>
        <p:spPr>
          <a:xfrm>
            <a:off x="5823000" y="530856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kay. See you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4"/>
          <p:cNvSpPr/>
          <p:nvPr/>
        </p:nvSpPr>
        <p:spPr>
          <a:xfrm>
            <a:off x="3692520" y="529416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e you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: 00. By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"/>
          <p:cNvSpPr/>
          <p:nvPr/>
        </p:nvSpPr>
        <p:spPr>
          <a:xfrm>
            <a:off x="479520" y="1479600"/>
            <a:ext cx="8418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y I invite ______ 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he       B. her     C.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约翰生病了，妈妈给怀特老师打电话请假，她应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怎样说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ello. This is John’s mother. May I speak to Miss Wh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Hello. I am John’s mother. May I speak to Miss Wh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Hello. This is John’s mother. I am looking for Miss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26" name="矩形 1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Box 2"/>
          <p:cNvSpPr/>
          <p:nvPr/>
        </p:nvSpPr>
        <p:spPr>
          <a:xfrm>
            <a:off x="2817720" y="2166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2085840" y="38037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"/>
          <p:cNvSpPr/>
          <p:nvPr/>
        </p:nvSpPr>
        <p:spPr>
          <a:xfrm>
            <a:off x="996840" y="1530360"/>
            <a:ext cx="755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—Hello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y I speak to Mrs. C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Mrs. Chen speaking.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Who are you, please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Are you Miss Wh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Who’s that, p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I’m going ____ a trip ____ Hangzh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on; on       B. for; on          C. on;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33" name="矩形 1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"/>
          <p:cNvSpPr/>
          <p:nvPr/>
        </p:nvSpPr>
        <p:spPr>
          <a:xfrm>
            <a:off x="5575320" y="2212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2839680" y="4967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243080" y="3755880"/>
            <a:ext cx="685008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7"/>
          <p:cNvSpPr/>
          <p:nvPr/>
        </p:nvSpPr>
        <p:spPr>
          <a:xfrm>
            <a:off x="2135160" y="3755880"/>
            <a:ext cx="624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打电话问对方是谁时要用句型：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ho is that (speaking)?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或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Is that...spea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274760" y="4708440"/>
            <a:ext cx="67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lo. This is Wang Hong. May I speak to Li M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https://ss0.bdstatic.com/70cFvHSh_Q1YnxGkpoWK1HF6hhy/it/u=401913723,4195029715&amp;fm=26&amp;gp=0.jpg"/>
          <p:cNvPicPr/>
          <p:nvPr/>
        </p:nvPicPr>
        <p:blipFill>
          <a:blip r:embed="rId2"/>
          <a:stretch/>
        </p:blipFill>
        <p:spPr>
          <a:xfrm>
            <a:off x="2116080" y="1577880"/>
            <a:ext cx="49910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"/>
          <p:cNvSpPr/>
          <p:nvPr/>
        </p:nvSpPr>
        <p:spPr>
          <a:xfrm>
            <a:off x="1496880" y="1574640"/>
            <a:ext cx="587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给下列句子选择合适的答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) 1. Hello, may I speak to Mr. Li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) 2. I’m going on a trip to Beij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n you go with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) 3. When will you go to Beij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8"/>
          <p:cNvSpPr/>
          <p:nvPr/>
        </p:nvSpPr>
        <p:spPr>
          <a:xfrm>
            <a:off x="3213000" y="4770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2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43" name="矩形 2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3"/>
          <p:cNvSpPr/>
          <p:nvPr/>
        </p:nvSpPr>
        <p:spPr>
          <a:xfrm>
            <a:off x="1785960" y="2241720"/>
            <a:ext cx="4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658960" y="4557600"/>
          <a:ext cx="4765680" cy="1738440"/>
        </p:xfrm>
        <a:graphic>
          <a:graphicData uri="http://schemas.openxmlformats.org/drawingml/2006/table">
            <a:tbl>
              <a:tblPr/>
              <a:tblGrid>
                <a:gridCol w="4765680"/>
              </a:tblGrid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This is Mr. Liu.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We will go to Beijing on May 20.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. Yes, I can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Box 3"/>
          <p:cNvSpPr/>
          <p:nvPr/>
        </p:nvSpPr>
        <p:spPr>
          <a:xfrm>
            <a:off x="1800360" y="2822400"/>
            <a:ext cx="4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1816200" y="3905280"/>
            <a:ext cx="4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1"/>
          <p:cNvSpPr/>
          <p:nvPr/>
        </p:nvSpPr>
        <p:spPr>
          <a:xfrm>
            <a:off x="1577880" y="1847880"/>
            <a:ext cx="7104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选词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May I speak _____ Mrs. Smi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will go to Dalian _____ February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y go home ______ 5:00 in the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3213000" y="4770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2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53" name="矩形 2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Box 3"/>
          <p:cNvSpPr/>
          <p:nvPr/>
        </p:nvSpPr>
        <p:spPr>
          <a:xfrm>
            <a:off x="3827520" y="363996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17560" y="2655720"/>
          <a:ext cx="2793960" cy="641520"/>
        </p:xfrm>
        <a:graphic>
          <a:graphicData uri="http://schemas.openxmlformats.org/drawingml/2006/table">
            <a:tbl>
              <a:tblPr/>
              <a:tblGrid>
                <a:gridCol w="2793960"/>
              </a:tblGrid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o          on             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TextBox 3"/>
          <p:cNvSpPr/>
          <p:nvPr/>
        </p:nvSpPr>
        <p:spPr>
          <a:xfrm>
            <a:off x="4835520" y="41720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4094280" y="47116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930240" y="1062000"/>
            <a:ext cx="7131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855720" y="2408400"/>
            <a:ext cx="78706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17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ll  Mrs.  trip  tal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7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 Februar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7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ill call Mrs. Smi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7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Mrs. Li. May I speak to Mrs. Smi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7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 and I are going on a trip to Beij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7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will you go to Beijing?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4"/>
          <p:cNvSpPr/>
          <p:nvPr/>
        </p:nvSpPr>
        <p:spPr>
          <a:xfrm>
            <a:off x="-874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6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67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文本框 25" descr=""/>
          <p:cNvPicPr/>
          <p:nvPr/>
        </p:nvPicPr>
        <p:blipFill>
          <a:blip r:embed="rId1"/>
          <a:stretch/>
        </p:blipFill>
        <p:spPr>
          <a:xfrm>
            <a:off x="2212920" y="73080"/>
            <a:ext cx="4734000" cy="1527120"/>
          </a:xfrm>
          <a:prstGeom prst="rect">
            <a:avLst/>
          </a:prstGeom>
          <a:ln w="0">
            <a:noFill/>
          </a:ln>
        </p:spPr>
      </p:pic>
      <p:grpSp>
        <p:nvGrpSpPr>
          <p:cNvPr id="65" name="组 19"/>
          <p:cNvGrpSpPr/>
          <p:nvPr/>
        </p:nvGrpSpPr>
        <p:grpSpPr>
          <a:xfrm>
            <a:off x="-272880" y="4641840"/>
            <a:ext cx="1660320" cy="2216160"/>
            <a:chOff x="-272880" y="4641840"/>
            <a:chExt cx="1660320" cy="2216160"/>
          </a:xfrm>
        </p:grpSpPr>
        <p:pic>
          <p:nvPicPr>
            <p:cNvPr id="6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51840" y="464184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72880" y="525492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557280" y="1400040"/>
            <a:ext cx="781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I want Danny and Jenny to come on our trip to Beijing. May I invite them, M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Li: Okay, Li Ming. I will call Mrs. Sm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Li: Hello. This is Mrs. Li. May I speak to Mrs. Smi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Smith: This is Mrs. Sm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Li: Li Ming and I are going on a trip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ijing. Can Jenny and Danny 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: Please, Mum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! Plea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6838920" y="3935520"/>
            <a:ext cx="1717560" cy="12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6" descr="C:\Users\john\Desktop\1.png"/>
          <p:cNvPicPr/>
          <p:nvPr/>
        </p:nvPicPr>
        <p:blipFill>
          <a:blip r:embed="rId7"/>
          <a:stretch/>
        </p:blipFill>
        <p:spPr>
          <a:xfrm>
            <a:off x="6897600" y="3984480"/>
            <a:ext cx="16002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文本框 25" descr=""/>
          <p:cNvPicPr/>
          <p:nvPr/>
        </p:nvPicPr>
        <p:blipFill>
          <a:blip r:embed="rId1"/>
          <a:stretch/>
        </p:blipFill>
        <p:spPr>
          <a:xfrm>
            <a:off x="2212920" y="73080"/>
            <a:ext cx="4734000" cy="1527120"/>
          </a:xfrm>
          <a:prstGeom prst="rect">
            <a:avLst/>
          </a:prstGeom>
          <a:ln w="0">
            <a:noFill/>
          </a:ln>
        </p:spPr>
      </p:pic>
      <p:grpSp>
        <p:nvGrpSpPr>
          <p:cNvPr id="75" name="组 19"/>
          <p:cNvGrpSpPr/>
          <p:nvPr/>
        </p:nvGrpSpPr>
        <p:grpSpPr>
          <a:xfrm>
            <a:off x="-208080" y="4583160"/>
            <a:ext cx="1660680" cy="2216160"/>
            <a:chOff x="-208080" y="4583160"/>
            <a:chExt cx="1660680" cy="2216160"/>
          </a:xfrm>
        </p:grpSpPr>
        <p:pic>
          <p:nvPicPr>
            <p:cNvPr id="7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16640" y="458316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08080" y="519624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147680" y="1111320"/>
            <a:ext cx="691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Smith: That’s wonderful, Mrs. Li! Yes, Jenny can go. I can talk to Danny’s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Li: Thank you, Mrs. Sm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Smith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will you go to Beij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Li: We will go to Beijing in the morning on Februar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Smith: Ok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Hoor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: Hoor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7"/>
          <p:cNvSpPr/>
          <p:nvPr/>
        </p:nvSpPr>
        <p:spPr>
          <a:xfrm>
            <a:off x="3384720" y="1469880"/>
            <a:ext cx="3855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will call Mrs. Smi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会给史密斯太太打电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1"/>
          <p:cNvGrpSpPr/>
          <p:nvPr/>
        </p:nvGrpSpPr>
        <p:grpSpPr>
          <a:xfrm>
            <a:off x="741240" y="1542960"/>
            <a:ext cx="2549520" cy="666720"/>
            <a:chOff x="741240" y="1542960"/>
            <a:chExt cx="2549520" cy="666720"/>
          </a:xfrm>
        </p:grpSpPr>
        <p:sp>
          <p:nvSpPr>
            <p:cNvPr id="87" name="圆角矩形 18"/>
            <p:cNvSpPr/>
            <p:nvPr/>
          </p:nvSpPr>
          <p:spPr>
            <a:xfrm>
              <a:off x="1512720" y="16207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19"/>
            <p:cNvSpPr/>
            <p:nvPr/>
          </p:nvSpPr>
          <p:spPr>
            <a:xfrm>
              <a:off x="1793880" y="160164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41240" y="154296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TextBox 5"/>
          <p:cNvSpPr/>
          <p:nvPr/>
        </p:nvSpPr>
        <p:spPr>
          <a:xfrm>
            <a:off x="1859040" y="487980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828800" y="36082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2967120" y="4716360"/>
            <a:ext cx="28065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ke a cal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打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1"/>
          <p:cNvSpPr/>
          <p:nvPr/>
        </p:nvSpPr>
        <p:spPr>
          <a:xfrm>
            <a:off x="2967120" y="3443400"/>
            <a:ext cx="43624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y I call my teacher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可以给我的老师打电话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7"/>
          <p:cNvSpPr/>
          <p:nvPr/>
        </p:nvSpPr>
        <p:spPr>
          <a:xfrm>
            <a:off x="1793880" y="2759040"/>
            <a:ext cx="52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all /kɔːl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打电话；通话，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1816200" y="55450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意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3400560" y="5408640"/>
            <a:ext cx="21128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l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喊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9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20"/>
          <p:cNvGrpSpPr/>
          <p:nvPr/>
        </p:nvGrpSpPr>
        <p:grpSpPr>
          <a:xfrm>
            <a:off x="1273320" y="3728880"/>
            <a:ext cx="1244520" cy="459720"/>
            <a:chOff x="1273320" y="3728880"/>
            <a:chExt cx="1244520" cy="459720"/>
          </a:xfrm>
        </p:grpSpPr>
        <p:sp>
          <p:nvSpPr>
            <p:cNvPr id="101" name="TextBox 3"/>
            <p:cNvSpPr/>
            <p:nvPr/>
          </p:nvSpPr>
          <p:spPr>
            <a:xfrm>
              <a:off x="1526040" y="372888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273320" y="377136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矩形 23"/>
          <p:cNvSpPr/>
          <p:nvPr/>
        </p:nvSpPr>
        <p:spPr>
          <a:xfrm>
            <a:off x="2487600" y="3627360"/>
            <a:ext cx="56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所给单词的正确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 ______ (call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riend Li 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3932280" y="4313160"/>
            <a:ext cx="7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657600" y="1530360"/>
            <a:ext cx="234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l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全部；所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238400" y="177624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谱系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直接箭头连接符 2"/>
          <p:cNvCxnSpPr/>
          <p:nvPr/>
        </p:nvCxnSpPr>
        <p:spPr>
          <a:xfrm flipH="1">
            <a:off x="3125520" y="2204640"/>
            <a:ext cx="1475280" cy="6087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8" name="直接箭头连接符 26"/>
          <p:cNvCxnSpPr/>
          <p:nvPr/>
        </p:nvCxnSpPr>
        <p:spPr>
          <a:xfrm>
            <a:off x="4600080" y="2244240"/>
            <a:ext cx="1080" cy="5688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9" name="直接箭头连接符 27"/>
          <p:cNvCxnSpPr/>
          <p:nvPr/>
        </p:nvCxnSpPr>
        <p:spPr>
          <a:xfrm>
            <a:off x="4600080" y="2204640"/>
            <a:ext cx="1855080" cy="6087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10" name="TextBox 8"/>
          <p:cNvSpPr/>
          <p:nvPr/>
        </p:nvSpPr>
        <p:spPr>
          <a:xfrm>
            <a:off x="2408400" y="258768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l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高的  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al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球  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l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秋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448000" y="5322960"/>
            <a:ext cx="396720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5"/>
          <p:cNvSpPr/>
          <p:nvPr/>
        </p:nvSpPr>
        <p:spPr>
          <a:xfrm>
            <a:off x="3340080" y="5322960"/>
            <a:ext cx="32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all sb.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给某人打电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17"/>
          <p:cNvSpPr/>
          <p:nvPr/>
        </p:nvSpPr>
        <p:spPr>
          <a:xfrm>
            <a:off x="1368360" y="1467000"/>
            <a:ext cx="549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rs. /mɪsɪz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太太；夫人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在已婚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子的夫姓或夫的姓名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400040" y="3222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2379600" y="2975040"/>
            <a:ext cx="461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Mrs. Li. Li Ming’s mother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是李夫人。李明的妈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940120" y="4429080"/>
            <a:ext cx="573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先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r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女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r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少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先生比女士少个辫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2"/>
          <p:cNvGrpSpPr/>
          <p:nvPr/>
        </p:nvGrpSpPr>
        <p:grpSpPr>
          <a:xfrm>
            <a:off x="1031760" y="4687920"/>
            <a:ext cx="2403720" cy="459720"/>
            <a:chOff x="1031760" y="4687920"/>
            <a:chExt cx="2403720" cy="459720"/>
          </a:xfrm>
        </p:grpSpPr>
        <p:sp>
          <p:nvSpPr>
            <p:cNvPr id="121" name="TextBox 10"/>
            <p:cNvSpPr/>
            <p:nvPr/>
          </p:nvSpPr>
          <p:spPr>
            <a:xfrm>
              <a:off x="1347480" y="468792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031760" y="473544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17"/>
          <p:cNvSpPr/>
          <p:nvPr/>
        </p:nvSpPr>
        <p:spPr>
          <a:xfrm>
            <a:off x="2554200" y="1428840"/>
            <a:ext cx="604512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is is Mrs. Li. May I speak to Mrs. Smith?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是李夫人。我可以和史密斯太太说话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2"/>
          <p:cNvGrpSpPr/>
          <p:nvPr/>
        </p:nvGrpSpPr>
        <p:grpSpPr>
          <a:xfrm>
            <a:off x="216000" y="1498680"/>
            <a:ext cx="2309760" cy="666720"/>
            <a:chOff x="216000" y="1498680"/>
            <a:chExt cx="2309760" cy="666720"/>
          </a:xfrm>
        </p:grpSpPr>
        <p:sp>
          <p:nvSpPr>
            <p:cNvPr id="128" name="圆角矩形 18"/>
            <p:cNvSpPr/>
            <p:nvPr/>
          </p:nvSpPr>
          <p:spPr>
            <a:xfrm>
              <a:off x="695160" y="1608120"/>
              <a:ext cx="1776600" cy="44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19"/>
            <p:cNvSpPr/>
            <p:nvPr/>
          </p:nvSpPr>
          <p:spPr>
            <a:xfrm>
              <a:off x="1080720" y="1581840"/>
              <a:ext cx="14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216000" y="1498680"/>
              <a:ext cx="9216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Box 8"/>
          <p:cNvSpPr/>
          <p:nvPr/>
        </p:nvSpPr>
        <p:spPr>
          <a:xfrm>
            <a:off x="1022400" y="3263760"/>
            <a:ext cx="814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... (speaking).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电话中介绍自己 的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候，一般不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am..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 Is that...speaking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吗？”不能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 ... 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y I speak to... 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可以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说话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7"/>
          <p:cNvSpPr/>
          <p:nvPr/>
        </p:nvSpPr>
        <p:spPr>
          <a:xfrm>
            <a:off x="1033560" y="2705040"/>
            <a:ext cx="18986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打电话用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3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1022400" y="2730600"/>
            <a:ext cx="495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o is that (speaking)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是谁？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ld on.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别挂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speaking.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的，请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7"/>
          <p:cNvSpPr/>
          <p:nvPr/>
        </p:nvSpPr>
        <p:spPr>
          <a:xfrm>
            <a:off x="1033560" y="2173320"/>
            <a:ext cx="18986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接电话用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6210360" y="2268360"/>
            <a:ext cx="2388960" cy="23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3:07:29Z</dcterms:modified>
  <cp:revision>7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