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9.gif" ContentType="image/gif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8FD1-D1B1-4BCD-AB0B-8A28B2DA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E4D4-7AAF-4F5A-8D97-CD22826B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8E9D-4B2A-473A-A279-A933A951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FCE3-1D32-4E0F-A244-2E28C554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A42E-64EB-4395-92BF-FEDFBE07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04C4-C527-4693-893D-56C20D45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0F84-5CE6-4411-AAF0-861C18D3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8229-175D-4EC5-9957-2BEB81CE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F590-54D5-42FF-A235-E228FBB3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703C-019A-4E06-AD0D-931E25DF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F8BE-3041-41B1-933D-E8A10251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7C14-B672-42EE-B605-D7A6F4A1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06E900-00E0-4254-8E2D-DC4CBB6CE7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-95400" y="17640"/>
            <a:ext cx="927576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495360" y="1271520"/>
            <a:ext cx="83851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3 A Travel Pl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五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9800" y="355320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854440" y="4605480"/>
            <a:ext cx="602748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5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2782800" y="4108320"/>
            <a:ext cx="18986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ke a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1187280" y="4287960"/>
            <a:ext cx="16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同义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7"/>
          <p:cNvSpPr/>
          <p:nvPr/>
        </p:nvSpPr>
        <p:spPr>
          <a:xfrm>
            <a:off x="1197000" y="2165400"/>
            <a:ext cx="248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y plane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乘飞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1166760" y="3006720"/>
            <a:ext cx="9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0"/>
          <p:cNvSpPr/>
          <p:nvPr/>
        </p:nvSpPr>
        <p:spPr>
          <a:xfrm>
            <a:off x="2079720" y="2854440"/>
            <a:ext cx="46656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want to go to Beijing by pl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想要乘飞机去北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5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2782800" y="3098880"/>
            <a:ext cx="12016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y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3"/>
          <p:cNvSpPr/>
          <p:nvPr/>
        </p:nvSpPr>
        <p:spPr>
          <a:xfrm>
            <a:off x="1187280" y="3278160"/>
            <a:ext cx="16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同义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7"/>
          <p:cNvSpPr/>
          <p:nvPr/>
        </p:nvSpPr>
        <p:spPr>
          <a:xfrm>
            <a:off x="1197000" y="1285920"/>
            <a:ext cx="32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ake a bus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乘公共汽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1166760" y="1996920"/>
            <a:ext cx="9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0"/>
          <p:cNvSpPr/>
          <p:nvPr/>
        </p:nvSpPr>
        <p:spPr>
          <a:xfrm>
            <a:off x="2079720" y="1843200"/>
            <a:ext cx="43750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take a bus to go to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乘公共汽车去上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1"/>
          <p:cNvGrpSpPr/>
          <p:nvPr/>
        </p:nvGrpSpPr>
        <p:grpSpPr>
          <a:xfrm>
            <a:off x="1063800" y="3900600"/>
            <a:ext cx="1807920" cy="1220760"/>
            <a:chOff x="1063800" y="3900600"/>
            <a:chExt cx="1807920" cy="1220760"/>
          </a:xfrm>
        </p:grpSpPr>
        <p:pic>
          <p:nvPicPr>
            <p:cNvPr id="167" name="图片 3" descr="泡泡1.png"/>
            <p:cNvPicPr/>
            <p:nvPr/>
          </p:nvPicPr>
          <p:blipFill>
            <a:blip r:embed="rId2"/>
            <a:stretch/>
          </p:blipFill>
          <p:spPr>
            <a:xfrm>
              <a:off x="1063800" y="3900600"/>
              <a:ext cx="1807920" cy="12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文本框 2"/>
            <p:cNvSpPr/>
            <p:nvPr/>
          </p:nvSpPr>
          <p:spPr>
            <a:xfrm>
              <a:off x="1608840" y="402048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"/>
          <p:cNvSpPr/>
          <p:nvPr/>
        </p:nvSpPr>
        <p:spPr>
          <a:xfrm>
            <a:off x="2489040" y="4840200"/>
            <a:ext cx="60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y+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交通工具名词单数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take a+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交通工具名词单数，都表示“乘坐某种交通工具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17"/>
          <p:cNvSpPr/>
          <p:nvPr/>
        </p:nvSpPr>
        <p:spPr>
          <a:xfrm>
            <a:off x="2600280" y="1389240"/>
            <a:ext cx="595620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ow far is it from Shijiazhuang to Beijing?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从石家庄到北京有多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t’s 278 kilometres. 278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2"/>
          <p:cNvGrpSpPr/>
          <p:nvPr/>
        </p:nvGrpSpPr>
        <p:grpSpPr>
          <a:xfrm>
            <a:off x="87480" y="1457280"/>
            <a:ext cx="2739960" cy="666720"/>
            <a:chOff x="87480" y="1457280"/>
            <a:chExt cx="2739960" cy="666720"/>
          </a:xfrm>
        </p:grpSpPr>
        <p:sp>
          <p:nvSpPr>
            <p:cNvPr id="175" name="圆角矩形 18"/>
            <p:cNvSpPr/>
            <p:nvPr/>
          </p:nvSpPr>
          <p:spPr>
            <a:xfrm>
              <a:off x="762120" y="1571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19"/>
            <p:cNvSpPr/>
            <p:nvPr/>
          </p:nvSpPr>
          <p:spPr>
            <a:xfrm>
              <a:off x="1122480" y="1538280"/>
              <a:ext cx="17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87480" y="145728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Box 8"/>
          <p:cNvSpPr/>
          <p:nvPr/>
        </p:nvSpPr>
        <p:spPr>
          <a:xfrm>
            <a:off x="2114640" y="4695840"/>
            <a:ext cx="594684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 is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数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里程单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中里程单位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ilometr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etr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1173240" y="486108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答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7"/>
          <p:cNvSpPr/>
          <p:nvPr/>
        </p:nvSpPr>
        <p:spPr>
          <a:xfrm>
            <a:off x="1128600" y="3367080"/>
            <a:ext cx="66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句式：用来问答两地之间的距离、路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1152360" y="4140360"/>
            <a:ext cx="9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问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0"/>
          <p:cNvSpPr/>
          <p:nvPr/>
        </p:nvSpPr>
        <p:spPr>
          <a:xfrm>
            <a:off x="2106720" y="3986280"/>
            <a:ext cx="61624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far is it from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地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to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另一地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2" descr=""/>
          <p:cNvPicPr/>
          <p:nvPr/>
        </p:nvPicPr>
        <p:blipFill>
          <a:blip r:embed="rId3"/>
          <a:stretch/>
        </p:blipFill>
        <p:spPr>
          <a:xfrm>
            <a:off x="7099200" y="2000160"/>
            <a:ext cx="1143000" cy="66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8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1290600" y="3498840"/>
            <a:ext cx="9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2203560" y="3344760"/>
            <a:ext cx="613548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far is it from here to the library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从这里到图书馆有多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 is about 2 km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大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1"/>
          <p:cNvGrpSpPr/>
          <p:nvPr/>
        </p:nvGrpSpPr>
        <p:grpSpPr>
          <a:xfrm>
            <a:off x="879480" y="1697040"/>
            <a:ext cx="1808280" cy="1220760"/>
            <a:chOff x="879480" y="1697040"/>
            <a:chExt cx="1808280" cy="1220760"/>
          </a:xfrm>
        </p:grpSpPr>
        <p:pic>
          <p:nvPicPr>
            <p:cNvPr id="190" name="图片 3" descr="泡泡1.png"/>
            <p:cNvPicPr/>
            <p:nvPr/>
          </p:nvPicPr>
          <p:blipFill>
            <a:blip r:embed="rId2"/>
            <a:stretch/>
          </p:blipFill>
          <p:spPr>
            <a:xfrm>
              <a:off x="879480" y="1697040"/>
              <a:ext cx="1808280" cy="12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文本框 2"/>
            <p:cNvSpPr/>
            <p:nvPr/>
          </p:nvSpPr>
          <p:spPr>
            <a:xfrm>
              <a:off x="1424880" y="181692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Box 2"/>
          <p:cNvSpPr/>
          <p:nvPr/>
        </p:nvSpPr>
        <p:spPr>
          <a:xfrm>
            <a:off x="2305080" y="2637000"/>
            <a:ext cx="642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当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ilometr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缩写形式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无复数形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9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2073240" y="3152880"/>
            <a:ext cx="663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rom one to te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从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rom eight o’clock to ten o’clock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从八点到十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3"/>
          <p:cNvSpPr/>
          <p:nvPr/>
        </p:nvSpPr>
        <p:spPr>
          <a:xfrm>
            <a:off x="1173240" y="340200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7"/>
          <p:cNvSpPr/>
          <p:nvPr/>
        </p:nvSpPr>
        <p:spPr>
          <a:xfrm>
            <a:off x="1211400" y="1797120"/>
            <a:ext cx="37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rom...to...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1166760" y="2652840"/>
            <a:ext cx="9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33"/>
          <p:cNvSpPr/>
          <p:nvPr/>
        </p:nvSpPr>
        <p:spPr>
          <a:xfrm>
            <a:off x="2079720" y="2486160"/>
            <a:ext cx="60544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连接不同的内容，表达不同的起点与终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20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20"/>
          <p:cNvGrpSpPr/>
          <p:nvPr/>
        </p:nvGrpSpPr>
        <p:grpSpPr>
          <a:xfrm>
            <a:off x="932040" y="1914480"/>
            <a:ext cx="1244520" cy="459720"/>
            <a:chOff x="932040" y="1914480"/>
            <a:chExt cx="1244520" cy="459720"/>
          </a:xfrm>
        </p:grpSpPr>
        <p:sp>
          <p:nvSpPr>
            <p:cNvPr id="205" name="TextBox 3"/>
            <p:cNvSpPr/>
            <p:nvPr/>
          </p:nvSpPr>
          <p:spPr>
            <a:xfrm>
              <a:off x="1184760" y="191448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932040" y="1956960"/>
              <a:ext cx="32400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矩形 23"/>
          <p:cNvSpPr/>
          <p:nvPr/>
        </p:nvSpPr>
        <p:spPr>
          <a:xfrm>
            <a:off x="2146320" y="1812960"/>
            <a:ext cx="79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画线部分提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about ten hundred kilometr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city to our city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 ____ is it from this city to your c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"/>
          <p:cNvSpPr/>
          <p:nvPr/>
        </p:nvSpPr>
        <p:spPr>
          <a:xfrm>
            <a:off x="2171880" y="3591000"/>
            <a:ext cx="16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ow 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2106720" y="4313160"/>
            <a:ext cx="568620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35"/>
          <p:cNvSpPr/>
          <p:nvPr/>
        </p:nvSpPr>
        <p:spPr>
          <a:xfrm>
            <a:off x="2998800" y="4313160"/>
            <a:ext cx="46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对距离提问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how far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，注意句首单词首字母大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文本框 8" descr=""/>
          <p:cNvPicPr/>
          <p:nvPr/>
        </p:nvPicPr>
        <p:blipFill>
          <a:blip r:embed="rId1"/>
          <a:stretch/>
        </p:blipFill>
        <p:spPr>
          <a:xfrm>
            <a:off x="2544840" y="95400"/>
            <a:ext cx="4186080" cy="1527120"/>
          </a:xfrm>
          <a:prstGeom prst="rect">
            <a:avLst/>
          </a:prstGeom>
          <a:ln w="0">
            <a:noFill/>
          </a:ln>
        </p:spPr>
      </p:pic>
      <p:sp>
        <p:nvSpPr>
          <p:cNvPr id="212" name="矩形 4"/>
          <p:cNvSpPr/>
          <p:nvPr/>
        </p:nvSpPr>
        <p:spPr>
          <a:xfrm>
            <a:off x="1646280" y="1251000"/>
            <a:ext cx="361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plane is f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bus is s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take a plane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at is how I want to g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plane is not che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train is just r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can take a tra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n our trip to Beij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5"/>
          <p:cNvSpPr/>
          <p:nvPr/>
        </p:nvSpPr>
        <p:spPr>
          <a:xfrm>
            <a:off x="5707080" y="2496960"/>
            <a:ext cx="2085840" cy="148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4" descr="C:\Users\john\Desktop\1.png"/>
          <p:cNvPicPr/>
          <p:nvPr/>
        </p:nvPicPr>
        <p:blipFill>
          <a:blip r:embed="rId2"/>
          <a:stretch/>
        </p:blipFill>
        <p:spPr>
          <a:xfrm>
            <a:off x="5780160" y="2565360"/>
            <a:ext cx="1939680" cy="13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组 23"/>
          <p:cNvGrpSpPr/>
          <p:nvPr/>
        </p:nvGrpSpPr>
        <p:grpSpPr>
          <a:xfrm>
            <a:off x="-369720" y="4761000"/>
            <a:ext cx="1660320" cy="2087640"/>
            <a:chOff x="-369720" y="4761000"/>
            <a:chExt cx="1660320" cy="2087640"/>
          </a:xfrm>
        </p:grpSpPr>
        <p:pic>
          <p:nvPicPr>
            <p:cNvPr id="216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187200" y="4761000"/>
              <a:ext cx="505080" cy="20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245920"/>
              <a:ext cx="1660320" cy="1602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8" name="文本框 8" descr=""/>
          <p:cNvPicPr/>
          <p:nvPr/>
        </p:nvPicPr>
        <p:blipFill>
          <a:blip r:embed="rId3"/>
          <a:stretch/>
        </p:blipFill>
        <p:spPr>
          <a:xfrm>
            <a:off x="2544840" y="95400"/>
            <a:ext cx="4186080" cy="1527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0" descr="C:\Users\john\Desktop\1.png"/>
          <p:cNvPicPr/>
          <p:nvPr/>
        </p:nvPicPr>
        <p:blipFill>
          <a:blip r:embed="rId4"/>
          <a:stretch/>
        </p:blipFill>
        <p:spPr>
          <a:xfrm>
            <a:off x="692280" y="1208160"/>
            <a:ext cx="6960960" cy="4502160"/>
          </a:xfrm>
          <a:prstGeom prst="rect">
            <a:avLst/>
          </a:prstGeom>
          <a:ln w="0">
            <a:noFill/>
          </a:ln>
        </p:spPr>
      </p:pic>
      <p:sp>
        <p:nvSpPr>
          <p:cNvPr id="220" name="矩形 4"/>
          <p:cNvSpPr/>
          <p:nvPr/>
        </p:nvSpPr>
        <p:spPr>
          <a:xfrm>
            <a:off x="1065240" y="985680"/>
            <a:ext cx="45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air work. Look, ask and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4"/>
          <p:cNvSpPr/>
          <p:nvPr/>
        </p:nvSpPr>
        <p:spPr>
          <a:xfrm>
            <a:off x="2892600" y="4197240"/>
            <a:ext cx="256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far is it from Xi’an to Lanzh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4"/>
          <p:cNvSpPr/>
          <p:nvPr/>
        </p:nvSpPr>
        <p:spPr>
          <a:xfrm>
            <a:off x="3551400" y="50846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676 kilomet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8"/>
          <p:cNvSpPr/>
          <p:nvPr/>
        </p:nvSpPr>
        <p:spPr>
          <a:xfrm>
            <a:off x="450720" y="1251000"/>
            <a:ext cx="8294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手、动口能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当小导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人一小组，先制作一张图表，显示从自己的城市到中国其他城市的距离，还要写下你认为最佳的交通方式，然后进行问答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参考问答方式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far is it from...to...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ould we go by train, plane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us or c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go to...by... It’s fast/che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图片 14" descr=""/>
          <p:cNvPicPr/>
          <p:nvPr/>
        </p:nvPicPr>
        <p:blipFill>
          <a:blip r:embed="rId1"/>
          <a:stretch/>
        </p:blipFill>
        <p:spPr>
          <a:xfrm>
            <a:off x="3284640" y="189000"/>
            <a:ext cx="25858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6" name="TextBox 1"/>
          <p:cNvSpPr/>
          <p:nvPr/>
        </p:nvSpPr>
        <p:spPr>
          <a:xfrm>
            <a:off x="1452600" y="1465200"/>
            <a:ext cx="665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go to Beijing ____ t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on                   B. by                    C.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We are going ____ Beijing ____ pl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t; by                B. to; by              C. to;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—_____ can we go to Shanghai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By t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How many     B. How much     C.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1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228" name="矩形 1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Box 2"/>
          <p:cNvSpPr/>
          <p:nvPr/>
        </p:nvSpPr>
        <p:spPr>
          <a:xfrm>
            <a:off x="4384800" y="2138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3747960" y="32259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1693800" y="5388120"/>
            <a:ext cx="584856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7"/>
          <p:cNvSpPr/>
          <p:nvPr/>
        </p:nvSpPr>
        <p:spPr>
          <a:xfrm>
            <a:off x="2585880" y="5388120"/>
            <a:ext cx="49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对交通方式提问，应用疑问词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how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2332080" y="4341960"/>
            <a:ext cx="5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1346040" y="4599000"/>
            <a:ext cx="612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you go to school? By bike or by b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9" descr="C:\Users\john\Desktop\1.jpg"/>
          <p:cNvPicPr/>
          <p:nvPr/>
        </p:nvPicPr>
        <p:blipFill>
          <a:blip r:embed="rId2"/>
          <a:stretch/>
        </p:blipFill>
        <p:spPr>
          <a:xfrm>
            <a:off x="4984920" y="1841400"/>
            <a:ext cx="2901960" cy="2295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" descr="C:\Users\john\Desktop\u=344438303,4082792970&amp;fm=26&amp;gp=0[1].jpg"/>
          <p:cNvPicPr/>
          <p:nvPr/>
        </p:nvPicPr>
        <p:blipFill>
          <a:blip r:embed="rId3"/>
          <a:stretch/>
        </p:blipFill>
        <p:spPr>
          <a:xfrm>
            <a:off x="1287360" y="203688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1322280" y="2152800"/>
            <a:ext cx="6562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_____ a plane to C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take                B. to take               C.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 — ______ is it from Shijiazhuang to Beij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 is 278 kilomet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How long       B. How man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How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1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238" name="矩形 1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Box 2"/>
          <p:cNvSpPr/>
          <p:nvPr/>
        </p:nvSpPr>
        <p:spPr>
          <a:xfrm>
            <a:off x="2629080" y="22701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"/>
          <p:cNvSpPr/>
          <p:nvPr/>
        </p:nvSpPr>
        <p:spPr>
          <a:xfrm>
            <a:off x="2354040" y="3368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2109960" y="1816200"/>
            <a:ext cx="525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选词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Let’s go to school _____ b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How far is it from A _____ 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I don’t want to take _____ t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We will go _____ a trip to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8"/>
          <p:cNvSpPr/>
          <p:nvPr/>
        </p:nvSpPr>
        <p:spPr>
          <a:xfrm>
            <a:off x="3213000" y="4770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2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246" name="矩形 2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Box 3"/>
          <p:cNvSpPr/>
          <p:nvPr/>
        </p:nvSpPr>
        <p:spPr>
          <a:xfrm>
            <a:off x="5008680" y="302904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249640" y="2465280"/>
          <a:ext cx="3632040" cy="482760"/>
        </p:xfrm>
        <a:graphic>
          <a:graphicData uri="http://schemas.openxmlformats.org/drawingml/2006/table">
            <a:tbl>
              <a:tblPr/>
              <a:tblGrid>
                <a:gridCol w="3632040"/>
              </a:tblGrid>
              <a:tr h="48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o         by          a            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TextBox 3"/>
          <p:cNvSpPr/>
          <p:nvPr/>
        </p:nvSpPr>
        <p:spPr>
          <a:xfrm>
            <a:off x="5338800" y="356544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5359320" y="4137120"/>
            <a:ext cx="4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4059360" y="46702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54" name="TextBox 3"/>
          <p:cNvSpPr/>
          <p:nvPr/>
        </p:nvSpPr>
        <p:spPr>
          <a:xfrm>
            <a:off x="930240" y="1062000"/>
            <a:ext cx="71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855720" y="2722680"/>
            <a:ext cx="7870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low  plane  fas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ke a train   by plane take a bus   from...t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far is it from Shijiazhuang to Beijing?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278 kilomet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4"/>
          <p:cNvSpPr/>
          <p:nvPr/>
        </p:nvSpPr>
        <p:spPr>
          <a:xfrm>
            <a:off x="-87480" y="0"/>
            <a:ext cx="925992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59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61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文本框 25" descr=""/>
          <p:cNvPicPr/>
          <p:nvPr/>
        </p:nvPicPr>
        <p:blipFill>
          <a:blip r:embed="rId1"/>
          <a:stretch/>
        </p:blipFill>
        <p:spPr>
          <a:xfrm>
            <a:off x="2212920" y="73080"/>
            <a:ext cx="5102280" cy="1568520"/>
          </a:xfrm>
          <a:prstGeom prst="rect">
            <a:avLst/>
          </a:prstGeom>
          <a:ln w="0">
            <a:noFill/>
          </a:ln>
        </p:spPr>
      </p:pic>
      <p:grpSp>
        <p:nvGrpSpPr>
          <p:cNvPr id="66" name="组 19"/>
          <p:cNvGrpSpPr/>
          <p:nvPr/>
        </p:nvGrpSpPr>
        <p:grpSpPr>
          <a:xfrm>
            <a:off x="-282600" y="4619520"/>
            <a:ext cx="1660680" cy="2216160"/>
            <a:chOff x="-282600" y="4619520"/>
            <a:chExt cx="1660680" cy="2216160"/>
          </a:xfrm>
        </p:grpSpPr>
        <p:pic>
          <p:nvPicPr>
            <p:cNvPr id="6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42120" y="461952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282600" y="523260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Picture 14" descr=""/>
          <p:cNvPicPr/>
          <p:nvPr/>
        </p:nvPicPr>
        <p:blipFill>
          <a:blip r:embed="rId4"/>
          <a:stretch/>
        </p:blipFill>
        <p:spPr>
          <a:xfrm>
            <a:off x="8139240" y="140508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"/>
          <p:cNvPicPr/>
          <p:nvPr/>
        </p:nvPicPr>
        <p:blipFill>
          <a:blip r:embed="rId5"/>
          <a:stretch/>
        </p:blipFill>
        <p:spPr>
          <a:xfrm>
            <a:off x="8402760" y="175752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6"/>
          <a:stretch/>
        </p:blipFill>
        <p:spPr>
          <a:xfrm>
            <a:off x="7918560" y="140508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C:\Users\john\Desktop\1.png"/>
          <p:cNvPicPr/>
          <p:nvPr/>
        </p:nvPicPr>
        <p:blipFill>
          <a:blip r:embed="rId7"/>
          <a:stretch/>
        </p:blipFill>
        <p:spPr>
          <a:xfrm>
            <a:off x="1298520" y="1420920"/>
            <a:ext cx="6620040" cy="428148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2212920" y="2884320"/>
            <a:ext cx="524340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a bus. A bus is s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a plane. A plane is f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17"/>
          <p:cNvSpPr/>
          <p:nvPr/>
        </p:nvSpPr>
        <p:spPr>
          <a:xfrm>
            <a:off x="3384720" y="1743120"/>
            <a:ext cx="42624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low /sləʊ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j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慢的；缓慢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1"/>
          <p:cNvGrpSpPr/>
          <p:nvPr/>
        </p:nvGrpSpPr>
        <p:grpSpPr>
          <a:xfrm>
            <a:off x="741240" y="1816200"/>
            <a:ext cx="2549520" cy="666720"/>
            <a:chOff x="741240" y="1816200"/>
            <a:chExt cx="2549520" cy="666720"/>
          </a:xfrm>
        </p:grpSpPr>
        <p:sp>
          <p:nvSpPr>
            <p:cNvPr id="79" name="圆角矩形 18"/>
            <p:cNvSpPr/>
            <p:nvPr/>
          </p:nvSpPr>
          <p:spPr>
            <a:xfrm>
              <a:off x="1512720" y="189396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文本框 19"/>
            <p:cNvSpPr/>
            <p:nvPr/>
          </p:nvSpPr>
          <p:spPr>
            <a:xfrm>
              <a:off x="1793880" y="187488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41240" y="181620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TextBox 5"/>
          <p:cNvSpPr/>
          <p:nvPr/>
        </p:nvSpPr>
        <p:spPr>
          <a:xfrm>
            <a:off x="1859040" y="333864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1828800" y="26528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0"/>
          <p:cNvSpPr/>
          <p:nvPr/>
        </p:nvSpPr>
        <p:spPr>
          <a:xfrm>
            <a:off x="2898720" y="3174840"/>
            <a:ext cx="46800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bicycle is very slow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自行车很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1"/>
          <p:cNvSpPr/>
          <p:nvPr/>
        </p:nvSpPr>
        <p:spPr>
          <a:xfrm>
            <a:off x="2898720" y="2487600"/>
            <a:ext cx="3679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组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əʊ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830240" y="4794120"/>
            <a:ext cx="16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词形变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3"/>
          <p:cNvSpPr/>
          <p:nvPr/>
        </p:nvSpPr>
        <p:spPr>
          <a:xfrm>
            <a:off x="3483000" y="4657680"/>
            <a:ext cx="45673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low → slowly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缓慢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"/>
          <p:cNvSpPr/>
          <p:nvPr/>
        </p:nvSpPr>
        <p:spPr>
          <a:xfrm>
            <a:off x="2292840" y="40752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对应词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"/>
          <p:cNvSpPr/>
          <p:nvPr/>
        </p:nvSpPr>
        <p:spPr>
          <a:xfrm>
            <a:off x="4116240" y="3971880"/>
            <a:ext cx="32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s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快的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quic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快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7"/>
          <p:cNvSpPr/>
          <p:nvPr/>
        </p:nvSpPr>
        <p:spPr>
          <a:xfrm>
            <a:off x="3301920" y="1743120"/>
            <a:ext cx="30304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lane /pleɪn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飞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1"/>
          <p:cNvGrpSpPr/>
          <p:nvPr/>
        </p:nvGrpSpPr>
        <p:grpSpPr>
          <a:xfrm>
            <a:off x="658800" y="1816200"/>
            <a:ext cx="2549520" cy="666720"/>
            <a:chOff x="658800" y="1816200"/>
            <a:chExt cx="2549520" cy="666720"/>
          </a:xfrm>
        </p:grpSpPr>
        <p:sp>
          <p:nvSpPr>
            <p:cNvPr id="95" name="圆角矩形 18"/>
            <p:cNvSpPr/>
            <p:nvPr/>
          </p:nvSpPr>
          <p:spPr>
            <a:xfrm>
              <a:off x="1430280" y="189396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文本框 19"/>
            <p:cNvSpPr/>
            <p:nvPr/>
          </p:nvSpPr>
          <p:spPr>
            <a:xfrm>
              <a:off x="1711440" y="187488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58800" y="181620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TextBox 5"/>
          <p:cNvSpPr/>
          <p:nvPr/>
        </p:nvSpPr>
        <p:spPr>
          <a:xfrm>
            <a:off x="1776240" y="333864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1746360" y="26528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0"/>
          <p:cNvSpPr/>
          <p:nvPr/>
        </p:nvSpPr>
        <p:spPr>
          <a:xfrm>
            <a:off x="2747880" y="3174840"/>
            <a:ext cx="42163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a plane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架飞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1"/>
          <p:cNvSpPr/>
          <p:nvPr/>
        </p:nvSpPr>
        <p:spPr>
          <a:xfrm>
            <a:off x="2747880" y="2487600"/>
            <a:ext cx="25542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eɪ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747800" y="479412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语辨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3332160" y="4645080"/>
            <a:ext cx="50482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计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plan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坐飞机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plane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去旅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"/>
          <p:cNvSpPr/>
          <p:nvPr/>
        </p:nvSpPr>
        <p:spPr>
          <a:xfrm>
            <a:off x="2211120" y="40752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同义词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"/>
          <p:cNvSpPr/>
          <p:nvPr/>
        </p:nvSpPr>
        <p:spPr>
          <a:xfrm>
            <a:off x="3967200" y="3959280"/>
            <a:ext cx="21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irplan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飞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0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3181320" y="2495520"/>
            <a:ext cx="485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an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飞机，火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rai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记心里，公共汽车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u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汽车真美丽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icycl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自行车最便宜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2"/>
          <p:cNvGrpSpPr/>
          <p:nvPr/>
        </p:nvGrpSpPr>
        <p:grpSpPr>
          <a:xfrm>
            <a:off x="1273320" y="2754360"/>
            <a:ext cx="2403360" cy="459720"/>
            <a:chOff x="1273320" y="2754360"/>
            <a:chExt cx="2403360" cy="459720"/>
          </a:xfrm>
        </p:grpSpPr>
        <p:sp>
          <p:nvSpPr>
            <p:cNvPr id="111" name="TextBox 10"/>
            <p:cNvSpPr/>
            <p:nvPr/>
          </p:nvSpPr>
          <p:spPr>
            <a:xfrm>
              <a:off x="1589040" y="275436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273320" y="280188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17"/>
          <p:cNvSpPr/>
          <p:nvPr/>
        </p:nvSpPr>
        <p:spPr>
          <a:xfrm>
            <a:off x="3057480" y="1770120"/>
            <a:ext cx="40114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ast /fɑːst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j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快的；迅速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1"/>
          <p:cNvGrpSpPr/>
          <p:nvPr/>
        </p:nvGrpSpPr>
        <p:grpSpPr>
          <a:xfrm>
            <a:off x="414360" y="1843200"/>
            <a:ext cx="2549520" cy="666720"/>
            <a:chOff x="414360" y="1843200"/>
            <a:chExt cx="2549520" cy="666720"/>
          </a:xfrm>
        </p:grpSpPr>
        <p:sp>
          <p:nvSpPr>
            <p:cNvPr id="118" name="圆角矩形 18"/>
            <p:cNvSpPr/>
            <p:nvPr/>
          </p:nvSpPr>
          <p:spPr>
            <a:xfrm>
              <a:off x="1185840" y="192096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文本框 19"/>
            <p:cNvSpPr/>
            <p:nvPr/>
          </p:nvSpPr>
          <p:spPr>
            <a:xfrm>
              <a:off x="1467000" y="190188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414360" y="184320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extBox 5"/>
          <p:cNvSpPr/>
          <p:nvPr/>
        </p:nvSpPr>
        <p:spPr>
          <a:xfrm>
            <a:off x="1531800" y="336564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近义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501920" y="2679840"/>
            <a:ext cx="9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0"/>
          <p:cNvSpPr/>
          <p:nvPr/>
        </p:nvSpPr>
        <p:spPr>
          <a:xfrm>
            <a:off x="2857680" y="3201840"/>
            <a:ext cx="1672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quic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快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1"/>
          <p:cNvSpPr/>
          <p:nvPr/>
        </p:nvSpPr>
        <p:spPr>
          <a:xfrm>
            <a:off x="2571840" y="2514600"/>
            <a:ext cx="5479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new car is very fast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辆新车很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1912680" y="4102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形近词记忆法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"/>
          <p:cNvSpPr/>
          <p:nvPr/>
        </p:nvSpPr>
        <p:spPr>
          <a:xfrm>
            <a:off x="3789360" y="3998880"/>
            <a:ext cx="332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as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一个的；最后的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as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东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文本框 25" descr=""/>
          <p:cNvPicPr/>
          <p:nvPr/>
        </p:nvPicPr>
        <p:blipFill>
          <a:blip r:embed="rId1"/>
          <a:stretch/>
        </p:blipFill>
        <p:spPr>
          <a:xfrm>
            <a:off x="1886040" y="17640"/>
            <a:ext cx="5964120" cy="1527120"/>
          </a:xfrm>
          <a:prstGeom prst="rect">
            <a:avLst/>
          </a:prstGeom>
          <a:ln w="0">
            <a:noFill/>
          </a:ln>
        </p:spPr>
      </p:pic>
      <p:grpSp>
        <p:nvGrpSpPr>
          <p:cNvPr id="128" name="组 19"/>
          <p:cNvGrpSpPr/>
          <p:nvPr/>
        </p:nvGrpSpPr>
        <p:grpSpPr>
          <a:xfrm>
            <a:off x="-244440" y="4687920"/>
            <a:ext cx="1660320" cy="2185920"/>
            <a:chOff x="-244440" y="4687920"/>
            <a:chExt cx="1660320" cy="2185920"/>
          </a:xfrm>
        </p:grpSpPr>
        <p:pic>
          <p:nvPicPr>
            <p:cNvPr id="129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237960" y="468792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43" descr="꽃"/>
            <p:cNvPicPr/>
            <p:nvPr/>
          </p:nvPicPr>
          <p:blipFill>
            <a:blip r:embed="rId3"/>
            <a:stretch/>
          </p:blipFill>
          <p:spPr>
            <a:xfrm>
              <a:off x="-244440" y="527076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Picture 14" descr=""/>
          <p:cNvPicPr/>
          <p:nvPr/>
        </p:nvPicPr>
        <p:blipFill>
          <a:blip r:embed="rId4"/>
          <a:stretch/>
        </p:blipFill>
        <p:spPr>
          <a:xfrm>
            <a:off x="8402760" y="175752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"/>
          <p:cNvPicPr/>
          <p:nvPr/>
        </p:nvPicPr>
        <p:blipFill>
          <a:blip r:embed="rId5"/>
          <a:stretch/>
        </p:blipFill>
        <p:spPr>
          <a:xfrm>
            <a:off x="7918560" y="1405080"/>
            <a:ext cx="527040" cy="3618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809640" y="1278000"/>
            <a:ext cx="75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 M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go to Beijing by plane Mum! A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fa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s. L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, Li Ming. It’s not far. I want to take a 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 M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far is it from Shijiazhuang to Beijing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s. L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278 kilomet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 M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us is slow. I don’t want to take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. Let’s take a train. A train is f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s. L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9"/>
          <p:cNvSpPr/>
          <p:nvPr/>
        </p:nvSpPr>
        <p:spPr>
          <a:xfrm>
            <a:off x="7251840" y="3551400"/>
            <a:ext cx="1577880" cy="115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C:\Users\john\Desktop\1.png"/>
          <p:cNvPicPr/>
          <p:nvPr/>
        </p:nvPicPr>
        <p:blipFill>
          <a:blip r:embed="rId6"/>
          <a:stretch/>
        </p:blipFill>
        <p:spPr>
          <a:xfrm>
            <a:off x="7304040" y="3600360"/>
            <a:ext cx="1470240" cy="10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17"/>
          <p:cNvSpPr/>
          <p:nvPr/>
        </p:nvSpPr>
        <p:spPr>
          <a:xfrm>
            <a:off x="2600280" y="1389240"/>
            <a:ext cx="30132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表示交通方式的短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2"/>
          <p:cNvGrpSpPr/>
          <p:nvPr/>
        </p:nvGrpSpPr>
        <p:grpSpPr>
          <a:xfrm>
            <a:off x="87480" y="1457280"/>
            <a:ext cx="2739960" cy="666720"/>
            <a:chOff x="87480" y="1457280"/>
            <a:chExt cx="2739960" cy="666720"/>
          </a:xfrm>
        </p:grpSpPr>
        <p:sp>
          <p:nvSpPr>
            <p:cNvPr id="141" name="圆角矩形 18"/>
            <p:cNvSpPr/>
            <p:nvPr/>
          </p:nvSpPr>
          <p:spPr>
            <a:xfrm>
              <a:off x="762120" y="1571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文本框 19"/>
            <p:cNvSpPr/>
            <p:nvPr/>
          </p:nvSpPr>
          <p:spPr>
            <a:xfrm>
              <a:off x="1122480" y="1538280"/>
              <a:ext cx="17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87480" y="145728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TextBox 8"/>
          <p:cNvSpPr/>
          <p:nvPr/>
        </p:nvSpPr>
        <p:spPr>
          <a:xfrm>
            <a:off x="2782800" y="4108320"/>
            <a:ext cx="13240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y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"/>
          <p:cNvSpPr/>
          <p:nvPr/>
        </p:nvSpPr>
        <p:spPr>
          <a:xfrm>
            <a:off x="1187280" y="4287960"/>
            <a:ext cx="16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同义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17"/>
          <p:cNvSpPr/>
          <p:nvPr/>
        </p:nvSpPr>
        <p:spPr>
          <a:xfrm>
            <a:off x="1143000" y="2165400"/>
            <a:ext cx="27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ake a train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乘火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1166760" y="3006720"/>
            <a:ext cx="9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2079720" y="2854440"/>
            <a:ext cx="437508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will take a train to Shangh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将乘火车去上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2" descr=""/>
          <p:cNvPicPr/>
          <p:nvPr/>
        </p:nvPicPr>
        <p:blipFill>
          <a:blip r:embed="rId3"/>
          <a:stretch/>
        </p:blipFill>
        <p:spPr>
          <a:xfrm>
            <a:off x="5557680" y="1465200"/>
            <a:ext cx="1143000" cy="66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3:02:42Z</dcterms:modified>
  <cp:revision>78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