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A94-245B-4E46-9487-2913800A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E51-13A1-4C88-A955-E212FF3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C8D-582F-4232-ADCD-B0EA39F4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1AF-043B-46AA-93FC-BB6433C4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2A8-7FC0-44C0-A41E-99988267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66EC-4807-4681-97B3-EF9D94BA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48B-C3EF-4F4E-98E5-CF9EB9FA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799-5411-480C-89C6-4C0C384D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ABD4-66F7-40F5-BC0B-F6455AB6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D602-07F2-4696-961B-BF615B31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FD7-CBB4-45D8-94C0-000668EE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C75-C0B1-40D2-B117-9E78A3BB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F6D3-C70E-467A-9AF4-2D79462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AB00-1E30-4214-9AC0-68C29EE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F5AE-B63E-4E1E-8DC4-8317CB93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1DC5-A0FF-4E71-8CD3-7AC56E9E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4BBF-00A0-444F-82C5-CD1D4419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E0F8-7763-4F2E-B568-C1D80C67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BCE2-F184-4997-83F4-4AC72C3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1D58-35B0-48D3-831B-675E89D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D742-A394-41AB-98CB-CB5E80AB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EA9F-B41C-4343-ABBA-0110BB75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A5C-E2D8-4529-828A-42B71D3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2D24-1018-476B-8BA9-0C512BC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831C-09EE-4779-BBB7-2FF4FBC9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CCBF-95C8-41F3-9562-72F1541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E153-9065-4FF7-A161-E2A7174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BEE8-55BD-4AD8-9451-01D99238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0247-2CC6-48CD-B2FF-761D259B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815C-7EAF-40E9-A5BB-9C316621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745AA-A81E-48F8-8639-48CC8D45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414A-EF5B-47B1-B110-6298354A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A857-4B2A-42FE-A03F-C707911E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44E-DB96-4678-ABB3-30736F4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E9C7-2964-4CA9-8B30-BBC438A6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6A26-C4B1-4948-A656-5B1D1848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AB57-BDBB-4E09-8694-93B5406D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1BE3-E07F-4775-9A88-21D62788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6EFA-0F09-4180-8F41-C5BB86FF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9DC4-B495-4E8F-8E97-07D02983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5D646-68B0-4851-A7E5-420566C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9483-1E32-448F-888B-EC06F4E3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4DAA-9760-46F3-BB8C-354D7328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582FE-8808-4A95-B475-420B73D6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CE1-9F6D-41B5-809E-10C252CB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4985-D6D7-44D8-91D7-D4CD6693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E716-63CA-4E90-8D10-7BB04027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1B88-68BE-4DE7-AD86-AA99D182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5607-5766-4B8A-80BF-7C93435C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EBB9E-4EC8-4D84-AAE5-D7730508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AA0B0-2377-4D78-8C8A-69AA31B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2AF1-5F1F-43F6-9BC3-65C0FF8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949A-4E5F-4BFA-B8A5-3F888BC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C1146-34E2-478D-8E3B-E386B67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AB86-448F-4D04-9CBD-CDB78BE9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2FD-518C-48DB-965D-07DC3DDE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2F1B-22AB-487A-81D7-BA28FEEC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D4DB0-C7AA-4068-9504-07E6F442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C5E79-1849-451C-B25D-46AE5128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ACB3C-48DF-45F9-8850-9BB15D8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6E77F-A340-4090-A362-B3C6FB8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8B7D6-760D-48CB-B47B-417B0383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AF705-E058-4D8C-9A1F-C9FE52BF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7B6D-0A61-44C9-8946-40B037D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CC24-FD99-4D4F-BD6A-2C5F00AF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AB19-B2EB-4403-82D4-B35217F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9B0-BA8F-493B-8DC2-8B26B72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5A46-6BAE-4C27-8D4E-F97CBD65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9488D-EC7E-4E5A-9783-72220542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4F878-3EC8-4CC9-9C3C-153E75E2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497-9E1E-498E-A05A-407175B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2E5-35F4-48CE-BEE8-D2196ABB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10048D-64E3-4327-B8D6-125C76AD14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FDB0DF-8728-4FAB-BB40-1A89C63292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20FF16-2874-4B1D-91BF-CE4533F86D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826FCA-7F45-4FE2-8EB7-2D4F1A92FF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584D49-58BC-4158-8542-988DC22597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5CD85C-AE49-41D3-868F-4023013BB1B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17971" t="6019" r="17852" b="16663"/>
          <a:stretch/>
        </p:blipFill>
        <p:spPr>
          <a:xfrm>
            <a:off x="127440" y="1571760"/>
            <a:ext cx="8836560" cy="5313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875520" y="415440"/>
            <a:ext cx="828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sson2 What Do They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976720" cy="5627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3276720" y="4653000"/>
            <a:ext cx="1150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547640" y="4508640"/>
            <a:ext cx="11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7100640" cy="68590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3348000" y="6165720"/>
            <a:ext cx="165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ou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468360" y="692280"/>
            <a:ext cx="835164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连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father’s father                                                                grand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father’s wife                                                                  un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mother’s brother                                                            cou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 mother’s sister                                                              a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mother’s husband                                                          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grandfather’s wife                                                          f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uncle’s son                                                                    grandf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y aunt’s 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3132000" y="1915920"/>
            <a:ext cx="3887640" cy="266544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3058920" y="2492280"/>
            <a:ext cx="4105440" cy="129708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3132000" y="2492280"/>
            <a:ext cx="3960720" cy="35856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Line 6"/>
          <p:cNvSpPr/>
          <p:nvPr/>
        </p:nvSpPr>
        <p:spPr>
          <a:xfrm flipV="1">
            <a:off x="3058920" y="3357360"/>
            <a:ext cx="4033800" cy="71640"/>
          </a:xfrm>
          <a:prstGeom prst="line">
            <a:avLst/>
          </a:prstGeom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276360" y="3860640"/>
            <a:ext cx="3816360" cy="43164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1" name="Line 8"/>
          <p:cNvSpPr/>
          <p:nvPr/>
        </p:nvSpPr>
        <p:spPr>
          <a:xfrm flipV="1">
            <a:off x="3276360" y="2060280"/>
            <a:ext cx="3743280" cy="223200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2700000" y="2997000"/>
            <a:ext cx="4464360" cy="180036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3" name="Line 10"/>
          <p:cNvSpPr/>
          <p:nvPr/>
        </p:nvSpPr>
        <p:spPr>
          <a:xfrm flipV="1">
            <a:off x="2987640" y="2997000"/>
            <a:ext cx="4321080" cy="216072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rcRect l="17971" t="2662" r="17852" b="16663"/>
          <a:stretch/>
        </p:blipFill>
        <p:spPr>
          <a:xfrm>
            <a:off x="127440" y="188640"/>
            <a:ext cx="8836560" cy="65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表格 4"/>
          <p:cNvGraphicFramePr/>
          <p:nvPr/>
        </p:nvGraphicFramePr>
        <p:xfrm>
          <a:off x="45720" y="5721840"/>
          <a:ext cx="9097920" cy="992880"/>
        </p:xfrm>
        <a:graphic>
          <a:graphicData uri="http://schemas.openxmlformats.org/drawingml/2006/table">
            <a:tbl>
              <a:tblPr/>
              <a:tblGrid>
                <a:gridCol w="1819440"/>
                <a:gridCol w="1819440"/>
                <a:gridCol w="1819440"/>
                <a:gridCol w="1819440"/>
                <a:gridCol w="1819440"/>
              </a:tblGrid>
              <a:tr h="49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49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i 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表格 14"/>
          <p:cNvGraphicFramePr/>
          <p:nvPr/>
        </p:nvGraphicFramePr>
        <p:xfrm>
          <a:off x="0" y="43560"/>
          <a:ext cx="9208440" cy="5949360"/>
        </p:xfrm>
        <a:graphic>
          <a:graphicData uri="http://schemas.openxmlformats.org/drawingml/2006/table">
            <a:tbl>
              <a:tblPr/>
              <a:tblGrid>
                <a:gridCol w="1841400"/>
                <a:gridCol w="1841400"/>
                <a:gridCol w="1841400"/>
                <a:gridCol w="1841400"/>
                <a:gridCol w="1841400"/>
              </a:tblGrid>
              <a:tr h="83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ook 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ami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color/ long or 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colo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all or shor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at or 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2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f4e7"/>
                    </a:solidFill>
                  </a:tcPr>
                </a:tc>
              </a:tr>
              <a:tr h="5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9cc"/>
                    </a:solidFill>
                  </a:tcPr>
                </a:tc>
              </a:tr>
            </a:tbl>
          </a:graphicData>
        </a:graphic>
      </p:graphicFrame>
      <p:cxnSp>
        <p:nvCxnSpPr>
          <p:cNvPr id="267" name="直接连接符 5"/>
          <p:cNvCxnSpPr/>
          <p:nvPr/>
        </p:nvCxnSpPr>
        <p:spPr>
          <a:xfrm>
            <a:off x="-36360" y="59040"/>
            <a:ext cx="1827000" cy="11379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268" name="TextBox 6"/>
          <p:cNvSpPr/>
          <p:nvPr/>
        </p:nvSpPr>
        <p:spPr>
          <a:xfrm>
            <a:off x="0" y="1321560"/>
            <a:ext cx="204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-36360" y="2185560"/>
            <a:ext cx="2207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45720" y="2847960"/>
            <a:ext cx="204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12960" y="3389760"/>
            <a:ext cx="2207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-59400" y="4149000"/>
            <a:ext cx="280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le Dach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-36360" y="4988160"/>
            <a:ext cx="2836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nt  Mei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-36360" y="5721840"/>
            <a:ext cx="204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sin 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2078640" y="119772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2078640" y="192420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2068920" y="276120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099520" y="343656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2181240" y="411624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2221200" y="498816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835640" y="5703480"/>
            <a:ext cx="2168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ack and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3706560" y="119772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3717720" y="195408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3"/>
          <p:cNvSpPr/>
          <p:nvPr/>
        </p:nvSpPr>
        <p:spPr>
          <a:xfrm>
            <a:off x="3749760" y="276120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3762720" y="343656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5"/>
          <p:cNvSpPr/>
          <p:nvPr/>
        </p:nvSpPr>
        <p:spPr>
          <a:xfrm>
            <a:off x="3762720" y="414972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3746520" y="498816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3788640" y="562392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3780000" y="624492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5508000" y="276912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0"/>
          <p:cNvSpPr/>
          <p:nvPr/>
        </p:nvSpPr>
        <p:spPr>
          <a:xfrm>
            <a:off x="5508000" y="343728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1"/>
          <p:cNvSpPr/>
          <p:nvPr/>
        </p:nvSpPr>
        <p:spPr>
          <a:xfrm>
            <a:off x="5508000" y="410364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2"/>
          <p:cNvSpPr/>
          <p:nvPr/>
        </p:nvSpPr>
        <p:spPr>
          <a:xfrm>
            <a:off x="5535360" y="486900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3"/>
          <p:cNvSpPr/>
          <p:nvPr/>
        </p:nvSpPr>
        <p:spPr>
          <a:xfrm>
            <a:off x="7380360" y="417528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4"/>
          <p:cNvSpPr/>
          <p:nvPr/>
        </p:nvSpPr>
        <p:spPr>
          <a:xfrm>
            <a:off x="2196360" y="6244920"/>
            <a:ext cx="14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640" y="476640"/>
            <a:ext cx="8229240" cy="13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/ You/ We/They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复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/ He / It 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基本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基本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  <Words>120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11-06T07:28:38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