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429-7906-4D75-A435-EACD71C6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3346-AE7A-4807-AC31-B262B9AB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285-4521-471F-910E-076D6CCD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D19-C054-4F7F-8826-029F8C0E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916-6A82-4E2C-8BEF-7215C018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7B16-9043-4773-BE77-28E87CEC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0A1-CAEF-4C38-A0AD-98DCD376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FC3-A2D9-47DB-B5D1-45CAB365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4913-3457-44C7-86EC-34A0CB0E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A9C0-A41D-4A9F-BFA0-FAD5CEA1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6E2-6DB2-403D-ABD6-56BB5798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BE6-7F9F-44BF-871E-97617221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A7618C34-BC36-476C-8CA9-567AA15868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5373720"/>
            <a:ext cx="3889440" cy="719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aunt and</a:t>
            </a:r>
            <a:r>
              <a:rPr b="0" lang="zh-CN" sz="2000" spc="-1" strike="noStrike">
                <a:solidFill>
                  <a:srgbClr val="ff0066"/>
                </a:solidFill>
                <a:latin typeface="Arial"/>
              </a:rPr>
              <a:t> a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un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2720" y="5445000"/>
            <a:ext cx="8137440" cy="1006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y have two children . The boy's name is Mik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 girl's name is 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8720" y="5518080"/>
            <a:ext cx="7056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y aunt and uncle like to go for a wa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5445000"/>
            <a:ext cx="8351640" cy="9367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y cousins like to jump-on-uncle. They have f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2360" y="5373720"/>
            <a:ext cx="856944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family likes to have fun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like to have dinner in a restaur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8720" y="5518080"/>
            <a:ext cx="7416720" cy="1008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 like to watch a film. We are a big, happy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Maddy's mother is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Maddy's father works in a park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Maddy's brother likes to sit and c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□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Maddy's cousins like to play with their                                      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74840" y="233280"/>
            <a:ext cx="44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ad and 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177336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8720" y="234936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8720" y="2925720"/>
            <a:ext cx="3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8720" y="350208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29080" y="1844640"/>
            <a:ext cx="4464000" cy="1800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llo agai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00000" y="5445000"/>
            <a:ext cx="712944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 have a brother and a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4920" y="-2556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318920" y="323856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☺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4581360"/>
            <a:ext cx="1800360" cy="2016360"/>
          </a:xfrm>
          <a:custGeom>
            <a:avLst/>
            <a:gdLst>
              <a:gd name="textAreaLeft" fmla="*/ 741960 w 1800360"/>
              <a:gd name="textAreaRight" fmla="*/ 1058400 w 1800360"/>
              <a:gd name="textAreaTop" fmla="*/ 830880 h 2016360"/>
              <a:gd name="textAreaBottom" fmla="*/ 11854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03280" y="5445000"/>
            <a:ext cx="684072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y father works , to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01:58:58Z</dcterms:created>
  <dc:creator>a</dc:creator>
  <dc:description/>
  <dc:language>en-US</dc:language>
  <cp:lastModifiedBy>acer1</cp:lastModifiedBy>
  <dcterms:modified xsi:type="dcterms:W3CDTF">2015-09-17T08:47:4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