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441-3E27-4A31-ABB6-338BAA3A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C38-77BB-4C28-8680-0C9931B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56A-DAB5-4F3E-A596-D38A4211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C9D-80CD-4AAB-8976-9F83B694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448-7242-4EB0-AB25-378A3208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DE8-E5D1-4FE0-B21F-9064617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357-97C7-465F-ADA6-B92F229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1B9-0F4A-4780-AB62-9AE466E6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7D4-6D6C-4F3B-B077-CFB7F616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4FA-D208-467B-BC49-8129C97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382-62C0-4DA0-B212-6275FD1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C69-2209-4E98-947B-7BEFB0D9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FF5A66EA-22C0-4782-87C2-65E95D9A734B}" type="slidenum">
              <a:rPr b="0" lang="zh-CN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333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Lesson 7    China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" name="" descr="China"/>
          <p:cNvPicPr/>
          <p:nvPr/>
        </p:nvPicPr>
        <p:blipFill>
          <a:blip r:embed="rId1"/>
          <a:srcRect l="4667" t="0" r="4667" b="0"/>
          <a:stretch/>
        </p:blipFill>
        <p:spPr>
          <a:xfrm>
            <a:off x="1332000" y="1628640"/>
            <a:ext cx="61196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012"/>
          <p:cNvPicPr/>
          <p:nvPr/>
        </p:nvPicPr>
        <p:blipFill>
          <a:blip r:embed="rId1"/>
          <a:srcRect l="4630" t="19753" r="4630" b="19753"/>
          <a:stretch/>
        </p:blipFill>
        <p:spPr>
          <a:xfrm>
            <a:off x="0" y="0"/>
            <a:ext cx="7524720" cy="414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149720"/>
            <a:ext cx="712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 Great  Wall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长 城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兵马俑"/>
          <p:cNvPicPr/>
          <p:nvPr/>
        </p:nvPicPr>
        <p:blipFill>
          <a:blip r:embed="rId1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布达拉宫"/>
          <p:cNvPicPr/>
          <p:nvPr/>
        </p:nvPicPr>
        <p:blipFill>
          <a:blip r:embed="rId2"/>
          <a:srcRect l="0" t="17552" r="0" b="0"/>
          <a:stretch/>
        </p:blipFill>
        <p:spPr>
          <a:xfrm>
            <a:off x="0" y="3933720"/>
            <a:ext cx="450072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00720" y="141300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erra Cotta Warrio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1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otala  Palac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东方明珠"/>
          <p:cNvPicPr/>
          <p:nvPr/>
        </p:nvPicPr>
        <p:blipFill>
          <a:blip r:embed="rId1"/>
          <a:srcRect l="0" t="0" r="21445" b="840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莫高窟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1484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und,Shangha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653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ogao  Cav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1908000" y="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76640"/>
            <a:ext cx="93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is is a ______ of China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e live in _____.We _____Chinese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4076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501336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30840" y="501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speak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国旗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365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436572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is is the flag of China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t has five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 _____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tars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537372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yellow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xercise book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图，填空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" descr="国旗"/>
          <p:cNvPicPr/>
          <p:nvPr/>
        </p:nvPicPr>
        <p:blipFill>
          <a:blip r:embed="rId1"/>
          <a:stretch/>
        </p:blipFill>
        <p:spPr>
          <a:xfrm>
            <a:off x="0" y="692280"/>
            <a:ext cx="4319640" cy="280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78936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a 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__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ijing is the capital city of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_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peak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765000"/>
            <a:ext cx="2160720" cy="2803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Chines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Chin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DotumChe"/>
              </a:rPr>
              <a:t>fla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37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4437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157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950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ines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24360" y="476280"/>
            <a:ext cx="273708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8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图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58136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a map of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</a:rPr>
              <a:t>world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661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一张……地图             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世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7080" y="695160"/>
            <a:ext cx="441828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64000" y="692280"/>
            <a:ext cx="331164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cc0099"/>
                </a:solidFill>
                <a:latin typeface="Arial"/>
              </a:rPr>
              <a:t>China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933720"/>
            <a:ext cx="74170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Arial"/>
              </a:rPr>
              <a:t>a map of</a:t>
            </a:r>
            <a:r>
              <a:rPr b="1" lang="zh-CN" sz="6600" spc="-1" strike="noStrike">
                <a:solidFill>
                  <a:srgbClr val="cc00ff"/>
                </a:solidFill>
                <a:latin typeface="Arial"/>
              </a:rPr>
              <a:t> China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张中国地图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中国地图1"/>
          <p:cNvPicPr/>
          <p:nvPr/>
        </p:nvPicPr>
        <p:blipFill>
          <a:blip r:embed="rId1"/>
          <a:srcRect l="0" t="1263" r="0" b="5525"/>
          <a:stretch/>
        </p:blipFill>
        <p:spPr>
          <a:xfrm>
            <a:off x="0" y="765000"/>
            <a:ext cx="5796000" cy="37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7080" y="431172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e live in </a:t>
            </a: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Chin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speak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Chinese.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6216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6156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汉语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508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中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hina"/>
          <p:cNvPicPr/>
          <p:nvPr/>
        </p:nvPicPr>
        <p:blipFill>
          <a:blip r:embed="rId1"/>
          <a:srcRect l="6595" t="3603" r="10998" b="3603"/>
          <a:stretch/>
        </p:blipFill>
        <p:spPr>
          <a:xfrm>
            <a:off x="0" y="0"/>
            <a:ext cx="540072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484280"/>
            <a:ext cx="289080" cy="216000"/>
          </a:xfrm>
          <a:custGeom>
            <a:avLst/>
            <a:gdLst/>
            <a:ahLst/>
            <a:rect l="l" t="t" r="r" b="b"/>
            <a:pathLst>
              <a:path w="455" h="339">
                <a:moveTo>
                  <a:pt x="0" y="129"/>
                </a:moveTo>
                <a:lnTo>
                  <a:pt x="173" y="129"/>
                </a:lnTo>
                <a:lnTo>
                  <a:pt x="227" y="0"/>
                </a:lnTo>
                <a:lnTo>
                  <a:pt x="281" y="129"/>
                </a:lnTo>
                <a:lnTo>
                  <a:pt x="455" y="129"/>
                </a:lnTo>
                <a:lnTo>
                  <a:pt x="314" y="210"/>
                </a:lnTo>
                <a:lnTo>
                  <a:pt x="368" y="339"/>
                </a:lnTo>
                <a:lnTo>
                  <a:pt x="227" y="259"/>
                </a:lnTo>
                <a:lnTo>
                  <a:pt x="86" y="339"/>
                </a:lnTo>
                <a:lnTo>
                  <a:pt x="140" y="210"/>
                </a:lnTo>
                <a:lnTo>
                  <a:pt x="0" y="1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700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1268280"/>
            <a:ext cx="2952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capita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首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60640"/>
            <a:ext cx="86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hat  is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the  capital  city  o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China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5086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首都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3320"/>
            <a:ext cx="860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eijing is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the capital city of Chin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中国的首都）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国旗"/>
          <p:cNvPicPr/>
          <p:nvPr/>
        </p:nvPicPr>
        <p:blipFill>
          <a:blip r:embed="rId1"/>
          <a:stretch/>
        </p:blipFill>
        <p:spPr>
          <a:xfrm>
            <a:off x="0" y="0"/>
            <a:ext cx="5435640" cy="335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404640"/>
            <a:ext cx="287964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flag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旗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429000"/>
            <a:ext cx="662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flag of China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中国国旗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229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t has five yellow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star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s.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5877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2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Famous  places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n China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492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著名的          地方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0536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ian’anmen   Square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天安门广场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5320" y="552600"/>
            <a:ext cx="590868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002"/>
          <p:cNvPicPr/>
          <p:nvPr/>
        </p:nvPicPr>
        <p:blipFill>
          <a:blip r:embed="rId1"/>
          <a:srcRect l="4630" t="17939" r="4271" b="18393"/>
          <a:stretch/>
        </p:blipFill>
        <p:spPr>
          <a:xfrm>
            <a:off x="0" y="0"/>
            <a:ext cx="6443640" cy="458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479840"/>
            <a:ext cx="828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the Palace Museum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故 宫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1:23:31Z</dcterms:created>
  <dc:creator/>
  <dc:description/>
  <dc:language>en-US</dc:language>
  <cp:lastModifiedBy/>
  <dcterms:modified xsi:type="dcterms:W3CDTF">2017-09-15T04:11:41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