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EC9F-0396-4615-BCF0-ED2C04904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F883-1AA2-4920-A037-01E41490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64E2-F00E-4AA6-80E3-6C5378834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B93B-3EF9-4CB8-B33D-025BD6925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F7B5-C917-4261-AE56-B2C28D1A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A30F-5D8D-4B1C-B46C-D7699BE3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BFA5-C747-4DD6-A58D-D86194A5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DA8E-BD81-4C45-A4E6-F9B1021C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D12D-C021-4D92-8024-5169F6EB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34E2-880B-41A9-A0C9-60D57397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A576-167B-4612-B280-A6B3F3F2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E17C-3196-485E-90DD-CFA9F738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79055E63-B39E-4032-B361-1A779F938F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33336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Arial"/>
              </a:rPr>
              <a:t>Lesson 8    Cana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1322164131441531541595"/>
          <p:cNvPicPr/>
          <p:nvPr/>
        </p:nvPicPr>
        <p:blipFill>
          <a:blip r:embed="rId1"/>
          <a:stretch/>
        </p:blipFill>
        <p:spPr>
          <a:xfrm>
            <a:off x="1332000" y="1413000"/>
            <a:ext cx="64087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41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Exercise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49720"/>
            <a:ext cx="8964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This is the flag of Canad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t is ______ and 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t has a ______ on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7771439051441531541590"/>
          <p:cNvPicPr/>
          <p:nvPr/>
        </p:nvPicPr>
        <p:blipFill>
          <a:blip r:embed="rId1"/>
          <a:stretch/>
        </p:blipFill>
        <p:spPr>
          <a:xfrm>
            <a:off x="0" y="692280"/>
            <a:ext cx="4859280" cy="3298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258920" y="5013360"/>
            <a:ext cx="16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3280" y="501336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wh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68360" y="595008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lea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2874728191441531541639"/>
          <p:cNvPicPr/>
          <p:nvPr/>
        </p:nvPicPr>
        <p:blipFill>
          <a:blip r:embed="rId1"/>
          <a:stretch/>
        </p:blipFill>
        <p:spPr>
          <a:xfrm>
            <a:off x="0" y="0"/>
            <a:ext cx="4932360" cy="3295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79280" y="3789360"/>
            <a:ext cx="7848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This is the flag of Chi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t is 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t has five  ______     ______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65300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32000" y="551664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yellow       st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333360"/>
            <a:ext cx="91440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 ______ about 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 ______ they _____ _____ and French in Canad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 also ______ the ______ _____ of Canada.  It’s Ottaw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4724280"/>
            <a:ext cx="7848720" cy="13129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speak        English        capital    city            Canada        kn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333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k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27640" y="476280"/>
            <a:ext cx="1918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90920" y="33336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Can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11970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k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8320" y="119700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spea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9440" y="126828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5280" y="2781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k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4040" y="263844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capital     cit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89000"/>
            <a:ext cx="91440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1. know           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知道；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2. about           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关于；大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3. know about 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了解关于……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4. city               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城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5. English         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英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6. French          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法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7. the capital city of……            ……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的首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8. Ottawa         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渥太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9. leaf               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树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1322164131441531541595"/>
          <p:cNvPicPr/>
          <p:nvPr/>
        </p:nvPicPr>
        <p:blipFill>
          <a:blip r:embed="rId1"/>
          <a:srcRect l="8995" t="4485" r="8995" b="4485"/>
          <a:stretch/>
        </p:blipFill>
        <p:spPr>
          <a:xfrm>
            <a:off x="0" y="907920"/>
            <a:ext cx="5256360" cy="4392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6753008531441531541600"/>
          <p:cNvPicPr/>
          <p:nvPr/>
        </p:nvPicPr>
        <p:blipFill>
          <a:blip r:embed="rId2"/>
          <a:srcRect l="19822" t="3754" r="17819" b="5493"/>
          <a:stretch/>
        </p:blipFill>
        <p:spPr>
          <a:xfrm>
            <a:off x="5796000" y="1341360"/>
            <a:ext cx="2448000" cy="3240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30208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My friends Jenny and Danny live in </a:t>
            </a: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Canada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5920"/>
            <a:ext cx="82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This is a map of </a:t>
            </a: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Canada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9863774151441531541619"/>
          <p:cNvPicPr/>
          <p:nvPr/>
        </p:nvPicPr>
        <p:blipFill>
          <a:blip r:embed="rId1"/>
          <a:srcRect l="0" t="5115" r="0" b="0"/>
          <a:stretch/>
        </p:blipFill>
        <p:spPr>
          <a:xfrm>
            <a:off x="0" y="333360"/>
            <a:ext cx="5076720" cy="6264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96000" y="981000"/>
            <a:ext cx="273528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Arial"/>
              </a:rPr>
              <a:t>English   </a:t>
            </a:r>
            <a:r>
              <a:rPr b="1" lang="zh-CN" sz="4800" spc="-1" strike="noStrike">
                <a:solidFill>
                  <a:srgbClr val="3333cc"/>
                </a:solidFill>
                <a:latin typeface="Arial"/>
              </a:rPr>
              <a:t>英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Arial"/>
              </a:rPr>
              <a:t>French    </a:t>
            </a:r>
            <a:r>
              <a:rPr b="1" lang="zh-CN" sz="4800" spc="-1" strike="noStrike">
                <a:solidFill>
                  <a:srgbClr val="3333cc"/>
                </a:solidFill>
                <a:latin typeface="Arial"/>
              </a:rPr>
              <a:t>法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1322164131441531541595"/>
          <p:cNvPicPr/>
          <p:nvPr/>
        </p:nvPicPr>
        <p:blipFill>
          <a:blip r:embed="rId1"/>
          <a:srcRect l="8995" t="5946" r="8995" b="4485"/>
          <a:stretch/>
        </p:blipFill>
        <p:spPr>
          <a:xfrm>
            <a:off x="0" y="115920"/>
            <a:ext cx="5256360" cy="4321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932360" y="335772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Arial"/>
              </a:rPr>
              <a:t>Ottawa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渥太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4437000"/>
            <a:ext cx="81374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I also know 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the capital city of</a:t>
            </a: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 Can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It’s  Ottaw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3429000"/>
            <a:ext cx="503280" cy="433440"/>
          </a:xfrm>
          <a:custGeom>
            <a:avLst/>
            <a:gdLst/>
            <a:ahLst/>
            <a:rect l="l" t="t" r="r" b="b"/>
            <a:pathLst>
              <a:path w="792" h="682">
                <a:moveTo>
                  <a:pt x="0" y="260"/>
                </a:moveTo>
                <a:lnTo>
                  <a:pt x="302" y="260"/>
                </a:lnTo>
                <a:lnTo>
                  <a:pt x="396" y="0"/>
                </a:lnTo>
                <a:lnTo>
                  <a:pt x="489" y="260"/>
                </a:lnTo>
                <a:lnTo>
                  <a:pt x="792" y="260"/>
                </a:lnTo>
                <a:lnTo>
                  <a:pt x="547" y="421"/>
                </a:lnTo>
                <a:lnTo>
                  <a:pt x="641" y="682"/>
                </a:lnTo>
                <a:lnTo>
                  <a:pt x="396" y="521"/>
                </a:lnTo>
                <a:lnTo>
                  <a:pt x="151" y="682"/>
                </a:lnTo>
                <a:lnTo>
                  <a:pt x="244" y="421"/>
                </a:lnTo>
                <a:lnTo>
                  <a:pt x="0" y="2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7771439051441531541590"/>
          <p:cNvPicPr/>
          <p:nvPr/>
        </p:nvPicPr>
        <p:blipFill>
          <a:blip r:embed="rId1"/>
          <a:stretch/>
        </p:blipFill>
        <p:spPr>
          <a:xfrm>
            <a:off x="0" y="189000"/>
            <a:ext cx="5580000" cy="3789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4581360"/>
            <a:ext cx="939636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The flag of Canad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is red and whi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t has </a:t>
            </a: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a red leaf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on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8000" y="177336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Famous places in Canad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63700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著名的      地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5688" t="18922" r="6444" b="20585"/>
          <a:stretch/>
        </p:blipFill>
        <p:spPr>
          <a:xfrm>
            <a:off x="0" y="0"/>
            <a:ext cx="3851280" cy="2827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4630" t="15999" r="4630" b="15999"/>
          <a:stretch/>
        </p:blipFill>
        <p:spPr>
          <a:xfrm>
            <a:off x="0" y="4005360"/>
            <a:ext cx="3924360" cy="2708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51280" y="836640"/>
            <a:ext cx="5113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is is Niagara Fa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t is a famous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waterfal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in Can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260280"/>
            <a:ext cx="38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尼亚加拉瀑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869000"/>
            <a:ext cx="496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is is the CN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Tow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t is very t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84720" y="400536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加拿大国家电视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835280" y="0"/>
            <a:ext cx="51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About Can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052640"/>
            <a:ext cx="9144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1.It is famous waterfall.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2.It is a very tall tower.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3.They speak _____ and 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4.The flag of Canada has a ____ on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5.It is the capital city.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300640"/>
            <a:ext cx="867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French                 ②Ottawa              ③leaf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④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Niagara Falls      ⑤CN Tower         ⑥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2000" y="90792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9600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256536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84720" y="256536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43640" y="335772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22100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2T02:24:16Z</dcterms:created>
  <dc:creator/>
  <dc:description/>
  <dc:language>en-US</dc:language>
  <cp:lastModifiedBy/>
  <dcterms:modified xsi:type="dcterms:W3CDTF">2017-09-15T04:15:37Z</dcterms:modified>
  <cp:revision>3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