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390A-5578-4136-AB9D-6460BCCB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D00-B8E7-4627-BD5D-0577D390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B0B4-3474-4076-8286-C1E67172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586-CA99-4643-9E5B-E1980A36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F3D-0374-4582-BFBE-283959F5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C29-8C4B-4D49-A5AD-6977A5AF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C9C-C412-4A24-87CA-78B0295B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087-52D2-41E6-A914-35822E2D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9D28-C60E-4A23-A3FA-2C6A90C7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A05-6A88-4968-9E20-B9DE4656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18B-CAF3-4FFF-B33C-A956E614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FA7-F531-40C5-8194-07414C25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26DD-8CF4-40B7-B41F-8F3D26B5C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57,3,Words and phrases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258,4,the U.S." TargetMode="External"/><Relationship Id="rId3" Type="http://schemas.openxmlformats.org/officeDocument/2006/relationships/hyperlink" Target="259,5,country" TargetMode="External"/><Relationship Id="rId4" Type="http://schemas.openxmlformats.org/officeDocument/2006/relationships/hyperlink" Target="260,6,speak" TargetMode="External"/><Relationship Id="rId5" Type="http://schemas.openxmlformats.org/officeDocument/2006/relationships/hyperlink" Target="262,8,stripe" TargetMode="External"/><Relationship Id="rId6" Type="http://schemas.openxmlformats.org/officeDocument/2006/relationships/hyperlink" Target="263,9,next to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57,3,Words and phrases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57,3,Words and phrases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257,3,Words and phrases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57,3,Words and phrases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257,3,Words and phrases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257,3,Words and phrases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sson 9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238_120905155322_1"/>
          <p:cNvPicPr/>
          <p:nvPr/>
        </p:nvPicPr>
        <p:blipFill>
          <a:blip r:embed="rId2"/>
          <a:stretch/>
        </p:blipFill>
        <p:spPr>
          <a:xfrm>
            <a:off x="0" y="1219320"/>
            <a:ext cx="5181480" cy="3848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20078775625424_2"/>
          <p:cNvPicPr/>
          <p:nvPr/>
        </p:nvPicPr>
        <p:blipFill>
          <a:blip r:embed="rId3"/>
          <a:stretch/>
        </p:blipFill>
        <p:spPr>
          <a:xfrm>
            <a:off x="3809880" y="3735360"/>
            <a:ext cx="51436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’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’s…=here is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就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法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似，用来介绍人或事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 Here’s the capital city of the U.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006013014035632687"/>
          <p:cNvPicPr/>
          <p:nvPr/>
        </p:nvPicPr>
        <p:blipFill>
          <a:blip r:embed="rId3"/>
          <a:stretch/>
        </p:blipFill>
        <p:spPr>
          <a:xfrm>
            <a:off x="304920" y="2819520"/>
            <a:ext cx="6400800" cy="38163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5"/>
          <p:cNvSpPr/>
          <p:nvPr/>
        </p:nvSpPr>
        <p:spPr>
          <a:xfrm flipH="1" rot="17776200">
            <a:off x="6024240" y="3500280"/>
            <a:ext cx="1584360" cy="222480"/>
          </a:xfrm>
          <a:prstGeom prst="leftRightArrow">
            <a:avLst>
              <a:gd name="adj1" fmla="val 50000"/>
              <a:gd name="adj2" fmla="val 14239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导学二、看图片，小组讨论，组织语言，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’s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句型来描述图片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’s the flag of the U.S.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has stars and strip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078775625424_2"/>
          <p:cNvPicPr/>
          <p:nvPr/>
        </p:nvPicPr>
        <p:blipFill>
          <a:blip r:embed="rId2"/>
          <a:stretch/>
        </p:blipFill>
        <p:spPr>
          <a:xfrm>
            <a:off x="533520" y="1752480"/>
            <a:ext cx="745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’s the map of the U.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1257478822NgHwuPLG"/>
          <p:cNvPicPr/>
          <p:nvPr/>
        </p:nvPicPr>
        <p:blipFill>
          <a:blip r:embed="rId2"/>
          <a:stretch/>
        </p:blipFill>
        <p:spPr>
          <a:xfrm>
            <a:off x="380880" y="1411200"/>
            <a:ext cx="754380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’s the capital city of the U.S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UI{4OA)]JMZ{AY0YVFK5APG"/>
          <p:cNvPicPr/>
          <p:nvPr/>
        </p:nvPicPr>
        <p:blipFill>
          <a:blip r:embed="rId2"/>
          <a:stretch/>
        </p:blipFill>
        <p:spPr>
          <a:xfrm>
            <a:off x="533520" y="1600200"/>
            <a:ext cx="6476760" cy="46432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5"/>
          <p:cNvSpPr/>
          <p:nvPr/>
        </p:nvSpPr>
        <p:spPr>
          <a:xfrm rot="19376400">
            <a:off x="4647960" y="990720"/>
            <a:ext cx="287280" cy="2286000"/>
          </a:xfrm>
          <a:prstGeom prst="upArrow">
            <a:avLst>
              <a:gd name="adj1" fmla="val 50000"/>
              <a:gd name="adj2" fmla="val 1988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强化训练，巩固兼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is is a map ____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anada is 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紧挨着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.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n the U.S., they speak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___________is the capital city of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The flag of the U.S. 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有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s and 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条纹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58128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048120" y="21337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x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181480" y="2743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838080" y="3429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ashington, D.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4572000" y="3886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1981080" y="4419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ri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ous plac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导学一、同学们了解并掌握美国的著名景点和城市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hite House, the Statue of Liberty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导学二、同学们可以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介绍美国的著名景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White Hou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2010928151909"/>
          <p:cNvPicPr/>
          <p:nvPr/>
        </p:nvPicPr>
        <p:blipFill>
          <a:blip r:embed="rId2"/>
          <a:stretch/>
        </p:blipFill>
        <p:spPr>
          <a:xfrm>
            <a:off x="457200" y="16002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esident of the U.S. lives in the White Ho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1334046232924"/>
          <p:cNvPicPr/>
          <p:nvPr/>
        </p:nvPicPr>
        <p:blipFill>
          <a:blip r:embed="rId1"/>
          <a:stretch/>
        </p:blipFill>
        <p:spPr>
          <a:xfrm>
            <a:off x="457200" y="1828800"/>
            <a:ext cx="5276880" cy="4062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20090707175802421"/>
          <p:cNvPicPr/>
          <p:nvPr/>
        </p:nvPicPr>
        <p:blipFill>
          <a:blip r:embed="rId2"/>
          <a:srcRect l="0" t="0" r="7500" b="15997"/>
          <a:stretch/>
        </p:blipFill>
        <p:spPr>
          <a:xfrm>
            <a:off x="5867280" y="2057400"/>
            <a:ext cx="2819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, Li M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01300000030421122183160976960"/>
          <p:cNvPicPr/>
          <p:nvPr/>
        </p:nvPicPr>
        <p:blipFill>
          <a:blip r:embed="rId1"/>
          <a:stretch/>
        </p:blipFill>
        <p:spPr>
          <a:xfrm>
            <a:off x="457200" y="1371600"/>
            <a:ext cx="4206960" cy="5257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5105520" y="19051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724280" y="3200400"/>
            <a:ext cx="44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atue of Libe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952880" y="4419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in New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目标导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导学一、读课文，划出新单词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.S., country, Washington, D.C., stripe, next to, a map of…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组讨论其发音与中文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nside of the Statue of Lib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938J4O3O4T8F0001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强化训练，巩固兼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这就是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ue of Liberty. It is in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总统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U.S. 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住在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hit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 know the 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著名景点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U.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2952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er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05120" y="2133720"/>
            <a:ext cx="30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057400" y="2743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838080" y="32767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ve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200400" y="3733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amous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and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U.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un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国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pea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, D.C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华盛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星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tri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条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ext to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邻，紧挨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U.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38_120905155322_1"/>
          <p:cNvPicPr/>
          <p:nvPr/>
        </p:nvPicPr>
        <p:blipFill>
          <a:blip r:embed="rId3"/>
          <a:stretch/>
        </p:blipFill>
        <p:spPr>
          <a:xfrm>
            <a:off x="152280" y="2514600"/>
            <a:ext cx="5181840" cy="38480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191120" y="62485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map of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 rot="2710800">
            <a:off x="5005440" y="5125680"/>
            <a:ext cx="1295280" cy="184320"/>
          </a:xfrm>
          <a:prstGeom prst="rightArrow">
            <a:avLst>
              <a:gd name="adj1" fmla="val 50000"/>
              <a:gd name="adj2" fmla="val 17565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u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国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复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ntry is next to the U.S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什么国家紧挨着美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know. It’s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知道。是加拿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: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，讲（后跟某种语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U.S., they spea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美国，他们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英语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77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77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ashington, D.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’s the capital city of the U.S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就是美国的首都城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Washington, D.C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是华盛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ri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lag of the U.S. has stars and stri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国的国旗有星星和条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red, white and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是红白蓝相间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20078775625424_2"/>
          <p:cNvPicPr/>
          <p:nvPr/>
        </p:nvPicPr>
        <p:blipFill>
          <a:blip r:embed="rId3"/>
          <a:stretch/>
        </p:blipFill>
        <p:spPr>
          <a:xfrm>
            <a:off x="4191120" y="3505320"/>
            <a:ext cx="49528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ext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邻，紧挨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 is next to the U.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(UH1G}YSELUYEEMJHZ(L83K"/>
          <p:cNvPicPr/>
          <p:nvPr/>
        </p:nvPicPr>
        <p:blipFill>
          <a:blip r:embed="rId3"/>
          <a:stretch/>
        </p:blipFill>
        <p:spPr>
          <a:xfrm>
            <a:off x="31680" y="1981080"/>
            <a:ext cx="91346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4T10:07:33Z</dcterms:created>
  <dc:creator/>
  <dc:description/>
  <dc:language>en-US</dc:language>
  <cp:lastModifiedBy/>
  <dcterms:modified xsi:type="dcterms:W3CDTF">2016-07-24T10:11:4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