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D9AB-F90B-42C0-8C7F-B0F09A8AE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38CE-5519-4113-ACE8-334D3EA7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D7DB-5ADD-486B-816F-FAB6E5768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55A4-7128-4F00-8710-983049B5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B012-AB50-4F43-B81E-DCCC6869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DF9D-543E-4252-B560-4521023F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67B3-8415-4363-BEF6-1C0A8016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35B8-2D12-439C-BD82-D07F0FE3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E5A0-07B5-47DD-8CCA-754E68DF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E79F-8F82-4C3D-A220-AF5FEF48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65F1-9F9B-44B1-8409-E173900A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C794-897B-4D53-A904-A6C4B9EF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4B2A-D65E-459B-B1F5-E08E5E7E9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Lesson  19</a:t>
            </a:r>
            <a:br>
              <a:rPr sz="5000"/>
            </a:b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et Li Ming’s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743400" y="4291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黑体"/>
              </a:rPr>
              <a:t>冀教版 五年级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882360" y="1143000"/>
            <a:ext cx="68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a study plan on your holi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380880" y="152280"/>
            <a:ext cx="4496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Group  work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828800"/>
          <a:ext cx="8153280" cy="4038480"/>
        </p:xfrm>
        <a:graphic>
          <a:graphicData uri="http://schemas.openxmlformats.org/drawingml/2006/table">
            <a:tbl>
              <a:tblPr/>
              <a:tblGrid>
                <a:gridCol w="2038320"/>
                <a:gridCol w="2038320"/>
                <a:gridCol w="2038320"/>
                <a:gridCol w="2038320"/>
              </a:tblGrid>
              <a:tr h="685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e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1905120" y="762120"/>
            <a:ext cx="4647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ad and Answ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0" y="1752480"/>
            <a:ext cx="914400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it a long trip from Canada to Shijiazhua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 How many days will Danny and Jenny have for the Spring Festival in Shijiazhua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 When will they go to Beij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. How will they go to Beij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2"/>
          <a:srcRect l="0" t="1348" r="0" b="0"/>
          <a:stretch/>
        </p:blipFill>
        <p:spPr>
          <a:xfrm>
            <a:off x="-149400" y="914400"/>
            <a:ext cx="9141120" cy="55627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627840" y="151560"/>
            <a:ext cx="76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llow the model and make sentenc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4876920" y="533520"/>
            <a:ext cx="3581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ole Pl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914400" y="533520"/>
            <a:ext cx="4648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04920" y="1676520"/>
            <a:ext cx="85341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Retell the story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Write a travel plan on your holi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 rot="685200">
            <a:off x="203040" y="1681200"/>
            <a:ext cx="8763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 lo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travel. It is fun! I want to go to ______. I want ____ and ____to come, too. We will go there by ___. _____ is a big city. There are many ____  ____ in______. It is gr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 rot="737400">
            <a:off x="4205160" y="380880"/>
            <a:ext cx="197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ee 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2209680" y="0"/>
            <a:ext cx="4648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onth of the y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04920" y="1523880"/>
            <a:ext cx="2514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Janua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2819520" y="1523880"/>
            <a:ext cx="2514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ebru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5181480" y="1523880"/>
            <a:ext cx="2514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M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380880" y="2590920"/>
            <a:ext cx="21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Comic Sans MS"/>
              </a:rPr>
              <a:t>Apr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2590920" y="2590920"/>
            <a:ext cx="2514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4952880" y="2590920"/>
            <a:ext cx="2514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Comic Sans MS"/>
              </a:rPr>
              <a:t>Ju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304920" y="3581280"/>
            <a:ext cx="1981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Ju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2743200" y="365760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Comic Sans MS"/>
              </a:rPr>
              <a:t>Augu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5029200" y="3657600"/>
            <a:ext cx="3276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Septe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152280" y="4724280"/>
            <a:ext cx="2514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Comic Sans MS"/>
              </a:rPr>
              <a:t>Octo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2514600" y="4724280"/>
            <a:ext cx="3048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Comic Sans MS"/>
              </a:rPr>
              <a:t>Nove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5257800" y="4724280"/>
            <a:ext cx="3429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Dece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838080" y="17524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n is your birthday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y birthday is </a:t>
            </a: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o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Jan. 16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603360" y="913320"/>
            <a:ext cx="797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do you do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i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he                 ?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5769000" y="151560"/>
            <a:ext cx="230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ornin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5704920" y="913680"/>
            <a:ext cx="262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fterno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5873760" y="1599480"/>
            <a:ext cx="214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venin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971280" y="2666160"/>
            <a:ext cx="428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 the ___, I _____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0" y="838080"/>
            <a:ext cx="91440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: Hello, I want to go to Shanghai. Do you 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go with me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: Great. _______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: It is 1000 km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: ________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: By trai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: ________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: We will go to Beijing at 11:58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 February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649800" y="5484960"/>
            <a:ext cx="8210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1. When will they go to Shangha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2. How long is it from Shijiazhuang to Shangha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3. How can we go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2133720" y="0"/>
            <a:ext cx="4647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ll in the blank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228600" y="1143000"/>
            <a:ext cx="5486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will you go to 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774360" y="2286000"/>
            <a:ext cx="643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ill go to ____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____ in the 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 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will he/she go to 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779400" y="2286000"/>
            <a:ext cx="768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/She will go to ____ at ____ in the 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 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2590920" y="1295280"/>
            <a:ext cx="3352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air 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762120" y="236232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k and answer with your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6T01:18:26Z</dcterms:created>
  <dc:creator>dell</dc:creator>
  <dc:description/>
  <dc:language>en-US</dc:language>
  <cp:lastModifiedBy>LiuYanhua</cp:lastModifiedBy>
  <dcterms:modified xsi:type="dcterms:W3CDTF">2015-09-11T07:48:48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88</vt:lpwstr>
  </property>
  <property fmtid="{D5CDD505-2E9C-101B-9397-08002B2CF9AE}" pid="3" name="Version">
    <vt:r8>1</vt:r8>
  </property>
</Properties>
</file>