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gif" ContentType="image/gif"/>
  <Override PartName="/ppt/media/image9.png" ContentType="image/pn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2CC3-3E28-4926-8C84-E14438CA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517-1499-450B-A8DE-FEA0B8BA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AECC-FC0C-4CC2-9D1A-93FABA3C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A61A-6ABC-4AF1-A121-F11B55FE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CFF0-16BB-4AF8-9C2D-B0B56B56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695-0A02-4F76-9359-DD384822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C1C-E886-4C45-842C-86C80109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7B56-C8B1-4CCE-B1EF-B811BF90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F94D-0E00-47DF-A1C4-68268D7D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D7E9-0F5F-4EAF-BB48-6E39788D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9FB-342C-46E6-B9B3-DE0A9599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60B-AE16-4996-A9B3-4A00DCFE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CD51-F82D-4FBB-B88B-AA85BA6AC1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12.png"/><Relationship Id="rId4" Type="http://schemas.openxmlformats.org/officeDocument/2006/relationships/image" Target="../media/image7.gi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12.png"/><Relationship Id="rId4" Type="http://schemas.openxmlformats.org/officeDocument/2006/relationships/image" Target="../media/image7.gi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toread_img_L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24000" y="1197000"/>
            <a:ext cx="88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Calibri"/>
              </a:rPr>
              <a:t>3A Unit 2  I’m Liu Ta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116000" y="2924280"/>
            <a:ext cx="64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alibri"/>
              </a:rPr>
              <a:t>      </a:t>
            </a:r>
            <a:r>
              <a:rPr b="1" lang="en-US" sz="5400" spc="-1" strike="noStrike">
                <a:solidFill>
                  <a:srgbClr val="0000ff"/>
                </a:solidFill>
                <a:latin typeface="Calibri"/>
              </a:rPr>
              <a:t>Hello, clas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"/>
          <p:cNvSpPr/>
          <p:nvPr/>
        </p:nvSpPr>
        <p:spPr>
          <a:xfrm>
            <a:off x="826920" y="3141720"/>
            <a:ext cx="1657440" cy="172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3995640" y="3357720"/>
            <a:ext cx="1513080" cy="18716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 flipV="1">
            <a:off x="4714920" y="3502080"/>
            <a:ext cx="0" cy="79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 flipH="1">
            <a:off x="4427640" y="4294080"/>
            <a:ext cx="28728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498920" y="328608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5291280" y="4149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643280" y="494172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922560" y="4149720"/>
            <a:ext cx="5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4211640" y="4797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1403280" y="1700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晚饭后，你们相遇，该怎么打招呼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2"/>
          <p:cNvSpPr txBox="1"/>
          <p:nvPr/>
        </p:nvSpPr>
        <p:spPr>
          <a:xfrm>
            <a:off x="250920" y="189000"/>
            <a:ext cx="3200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想一想 演一演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"/>
          <p:cNvSpPr/>
          <p:nvPr/>
        </p:nvSpPr>
        <p:spPr>
          <a:xfrm>
            <a:off x="826920" y="3141720"/>
            <a:ext cx="1657440" cy="172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4067280" y="3500280"/>
            <a:ext cx="1512720" cy="18720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 flipV="1">
            <a:off x="4786200" y="3645000"/>
            <a:ext cx="0" cy="79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 flipH="1">
            <a:off x="4211280" y="443700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572000" y="342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362560" y="4292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43280" y="508464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994200" y="42926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195640" y="198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在学校操场，你们相遇，该怎么打招呼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11"/>
          <p:cNvSpPr txBox="1"/>
          <p:nvPr/>
        </p:nvSpPr>
        <p:spPr>
          <a:xfrm>
            <a:off x="250920" y="189000"/>
            <a:ext cx="3200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想一想 演一演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2"/>
          <p:cNvSpPr txBox="1"/>
          <p:nvPr/>
        </p:nvSpPr>
        <p:spPr>
          <a:xfrm>
            <a:off x="324000" y="189000"/>
            <a:ext cx="2514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Checkout time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0" name="WordArt 3"/>
          <p:cNvSpPr txBox="1"/>
          <p:nvPr/>
        </p:nvSpPr>
        <p:spPr>
          <a:xfrm>
            <a:off x="1908000" y="2492280"/>
            <a:ext cx="5256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Listen and respon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2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39528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sun flower"/>
          <p:cNvPicPr/>
          <p:nvPr/>
        </p:nvPicPr>
        <p:blipFill>
          <a:blip r:embed="rId2"/>
          <a:stretch/>
        </p:blipFill>
        <p:spPr>
          <a:xfrm>
            <a:off x="1116000" y="1989000"/>
            <a:ext cx="719280" cy="6573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2514600" y="1916280"/>
            <a:ext cx="5181480" cy="12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438280" y="3124080"/>
            <a:ext cx="5257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sun flower"/>
          <p:cNvPicPr/>
          <p:nvPr/>
        </p:nvPicPr>
        <p:blipFill>
          <a:blip r:embed="rId3"/>
          <a:stretch/>
        </p:blipFill>
        <p:spPr>
          <a:xfrm>
            <a:off x="1187280" y="3860640"/>
            <a:ext cx="719280" cy="6573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8"/>
          <p:cNvSpPr/>
          <p:nvPr/>
        </p:nvSpPr>
        <p:spPr>
          <a:xfrm>
            <a:off x="1547640" y="3933720"/>
            <a:ext cx="23749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1908000" y="4508640"/>
            <a:ext cx="60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4"/>
          <a:stretch/>
        </p:blipFill>
        <p:spPr>
          <a:xfrm>
            <a:off x="3124080" y="19810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1981080" y="11430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Calibri"/>
              </a:rPr>
              <a:t>Let’s guess!   </a:t>
            </a:r>
            <a:r>
              <a:rPr b="1" lang="zh-CN" sz="3200" spc="-1" strike="noStrike">
                <a:solidFill>
                  <a:srgbClr val="cc00ff"/>
                </a:solidFill>
                <a:latin typeface="Calibri"/>
              </a:rPr>
              <a:t>猜猜我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1600200" y="48006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re you……? Yes, I am./ No, I’m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3200400" y="2362320"/>
            <a:ext cx="2895480" cy="243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2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39528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sun flower"/>
          <p:cNvPicPr/>
          <p:nvPr/>
        </p:nvPicPr>
        <p:blipFill>
          <a:blip r:embed="rId2"/>
          <a:stretch/>
        </p:blipFill>
        <p:spPr>
          <a:xfrm>
            <a:off x="1116000" y="1989000"/>
            <a:ext cx="719280" cy="657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2514600" y="1916280"/>
            <a:ext cx="5181480" cy="12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438280" y="3124080"/>
            <a:ext cx="5257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sun flower"/>
          <p:cNvPicPr/>
          <p:nvPr/>
        </p:nvPicPr>
        <p:blipFill>
          <a:blip r:embed="rId3"/>
          <a:stretch/>
        </p:blipFill>
        <p:spPr>
          <a:xfrm>
            <a:off x="1187280" y="3860640"/>
            <a:ext cx="719280" cy="6573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1547640" y="3933720"/>
            <a:ext cx="23749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908000" y="4508640"/>
            <a:ext cx="60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"/>
          <p:cNvPicPr/>
          <p:nvPr/>
        </p:nvPicPr>
        <p:blipFill>
          <a:blip r:embed="rId4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1"/>
          <p:cNvSpPr/>
          <p:nvPr/>
        </p:nvSpPr>
        <p:spPr>
          <a:xfrm>
            <a:off x="3124080" y="2666880"/>
            <a:ext cx="2133720" cy="2057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1981080" y="11430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Calibri"/>
              </a:rPr>
              <a:t>Let’s guess!   </a:t>
            </a:r>
            <a:r>
              <a:rPr b="1" lang="zh-CN" sz="3200" spc="-1" strike="noStrike">
                <a:solidFill>
                  <a:srgbClr val="cc00ff"/>
                </a:solidFill>
                <a:latin typeface="Calibri"/>
              </a:rPr>
              <a:t>猜猜我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1600200" y="48006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re you……? Yes, I am./ No, I’m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2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"/>
          <p:cNvSpPr/>
          <p:nvPr/>
        </p:nvSpPr>
        <p:spPr>
          <a:xfrm>
            <a:off x="39528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sun flower"/>
          <p:cNvPicPr/>
          <p:nvPr/>
        </p:nvPicPr>
        <p:blipFill>
          <a:blip r:embed="rId2"/>
          <a:stretch/>
        </p:blipFill>
        <p:spPr>
          <a:xfrm>
            <a:off x="1116000" y="1989000"/>
            <a:ext cx="719280" cy="657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2514600" y="1916280"/>
            <a:ext cx="5181480" cy="12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438280" y="3124080"/>
            <a:ext cx="5257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sun flower"/>
          <p:cNvPicPr/>
          <p:nvPr/>
        </p:nvPicPr>
        <p:blipFill>
          <a:blip r:embed="rId3"/>
          <a:stretch/>
        </p:blipFill>
        <p:spPr>
          <a:xfrm>
            <a:off x="1187280" y="3860640"/>
            <a:ext cx="719280" cy="6573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1547640" y="3933720"/>
            <a:ext cx="23749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1908000" y="4508640"/>
            <a:ext cx="60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3095640" y="195264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2"/>
          <p:cNvSpPr/>
          <p:nvPr/>
        </p:nvSpPr>
        <p:spPr>
          <a:xfrm>
            <a:off x="1981080" y="11430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Calibri"/>
              </a:rPr>
              <a:t>Let’s guess!   </a:t>
            </a:r>
            <a:r>
              <a:rPr b="1" lang="zh-CN" sz="3200" spc="-1" strike="noStrike">
                <a:solidFill>
                  <a:srgbClr val="cc00ff"/>
                </a:solidFill>
                <a:latin typeface="Calibri"/>
              </a:rPr>
              <a:t>猜猜我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3429000" y="2209680"/>
            <a:ext cx="2057400" cy="228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2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39528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sun flower"/>
          <p:cNvPicPr/>
          <p:nvPr/>
        </p:nvPicPr>
        <p:blipFill>
          <a:blip r:embed="rId2"/>
          <a:stretch/>
        </p:blipFill>
        <p:spPr>
          <a:xfrm>
            <a:off x="1116000" y="1989000"/>
            <a:ext cx="719280" cy="657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2514600" y="1916280"/>
            <a:ext cx="5181480" cy="12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438280" y="3124080"/>
            <a:ext cx="5257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sun flower"/>
          <p:cNvPicPr/>
          <p:nvPr/>
        </p:nvPicPr>
        <p:blipFill>
          <a:blip r:embed="rId3"/>
          <a:stretch/>
        </p:blipFill>
        <p:spPr>
          <a:xfrm>
            <a:off x="1187280" y="3860640"/>
            <a:ext cx="719280" cy="6573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8"/>
          <p:cNvSpPr/>
          <p:nvPr/>
        </p:nvSpPr>
        <p:spPr>
          <a:xfrm>
            <a:off x="1547640" y="3933720"/>
            <a:ext cx="23749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1908000" y="4508640"/>
            <a:ext cx="60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1981080" y="11430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Calibri"/>
              </a:rPr>
              <a:t>Let’s guess!   </a:t>
            </a:r>
            <a:r>
              <a:rPr b="1" lang="zh-CN" sz="3200" spc="-1" strike="noStrike">
                <a:solidFill>
                  <a:srgbClr val="cc00ff"/>
                </a:solidFill>
                <a:latin typeface="Calibri"/>
              </a:rPr>
              <a:t>猜猜我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4" descr="u=665637479,2908702111&amp;fm=21&amp;gp=0"/>
          <p:cNvPicPr/>
          <p:nvPr/>
        </p:nvPicPr>
        <p:blipFill>
          <a:blip r:embed="rId4"/>
          <a:stretch/>
        </p:blipFill>
        <p:spPr>
          <a:xfrm>
            <a:off x="3124080" y="1828800"/>
            <a:ext cx="2698920" cy="40384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5"/>
          <p:cNvSpPr/>
          <p:nvPr/>
        </p:nvSpPr>
        <p:spPr>
          <a:xfrm>
            <a:off x="3505320" y="2133720"/>
            <a:ext cx="1676160" cy="3352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2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39528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n-US" sz="3600" spc="-1" strike="noStrike">
                <a:solidFill>
                  <a:srgbClr val="cc00ff"/>
                </a:solidFill>
                <a:latin typeface="Arial Black"/>
              </a:rPr>
              <a:t>Let’s say!  </a:t>
            </a:r>
            <a:r>
              <a:rPr b="1" lang="zh-CN" sz="2800" spc="-1" strike="noStrike">
                <a:solidFill>
                  <a:srgbClr val="cc00ff"/>
                </a:solidFill>
                <a:latin typeface="Arial Black"/>
                <a:ea typeface="黑体"/>
              </a:rPr>
              <a:t>大家一起说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sun flower"/>
          <p:cNvPicPr/>
          <p:nvPr/>
        </p:nvPicPr>
        <p:blipFill>
          <a:blip r:embed="rId2"/>
          <a:stretch/>
        </p:blipFill>
        <p:spPr>
          <a:xfrm>
            <a:off x="1116000" y="1989000"/>
            <a:ext cx="719280" cy="6573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2514600" y="1916280"/>
            <a:ext cx="5181480" cy="12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2438280" y="3124080"/>
            <a:ext cx="5257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sun flower"/>
          <p:cNvPicPr/>
          <p:nvPr/>
        </p:nvPicPr>
        <p:blipFill>
          <a:blip r:embed="rId3"/>
          <a:stretch/>
        </p:blipFill>
        <p:spPr>
          <a:xfrm>
            <a:off x="1187280" y="3860640"/>
            <a:ext cx="719280" cy="6573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8"/>
          <p:cNvSpPr/>
          <p:nvPr/>
        </p:nvSpPr>
        <p:spPr>
          <a:xfrm>
            <a:off x="1547640" y="3933720"/>
            <a:ext cx="23749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1908000" y="4508640"/>
            <a:ext cx="60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2362320" y="2286000"/>
            <a:ext cx="541008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i.     Hi. Are you Mike?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es. Yes.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You’re r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你说对了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i.     Hi. Are you Sam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o.    No. I’m Bobb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2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39528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Let’s learn!  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黑体"/>
              </a:rPr>
              <a:t>大家一起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sun flower"/>
          <p:cNvPicPr/>
          <p:nvPr/>
        </p:nvPicPr>
        <p:blipFill>
          <a:blip r:embed="rId2"/>
          <a:stretch/>
        </p:blipFill>
        <p:spPr>
          <a:xfrm>
            <a:off x="1116000" y="1989000"/>
            <a:ext cx="719280" cy="6573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1547640" y="1916280"/>
            <a:ext cx="73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Black"/>
                <a:ea typeface="黑体"/>
              </a:rPr>
              <a:t>当我们想知道别人是不是某人时可以说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403280" y="2781360"/>
            <a:ext cx="37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Are you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…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sun flower"/>
          <p:cNvPicPr/>
          <p:nvPr/>
        </p:nvPicPr>
        <p:blipFill>
          <a:blip r:embed="rId3"/>
          <a:stretch/>
        </p:blipFill>
        <p:spPr>
          <a:xfrm>
            <a:off x="1187280" y="3860640"/>
            <a:ext cx="719280" cy="6573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8"/>
          <p:cNvSpPr/>
          <p:nvPr/>
        </p:nvSpPr>
        <p:spPr>
          <a:xfrm>
            <a:off x="1547640" y="3933720"/>
            <a:ext cx="23749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Black"/>
                <a:ea typeface="黑体"/>
              </a:rPr>
              <a:t>回答是</a:t>
            </a:r>
            <a:r>
              <a:rPr b="1" lang="zh-CN" sz="3000" spc="-1" strike="noStrike">
                <a:solidFill>
                  <a:srgbClr val="000000"/>
                </a:solidFill>
                <a:latin typeface="Arial Black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908000" y="4508640"/>
            <a:ext cx="60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Yes, I am. / No, I’m not. I’m  …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2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9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et’s practise.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练一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023560" y="1918800"/>
            <a:ext cx="604836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黑体"/>
              </a:rPr>
              <a:t>你是杨琳吗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5" descr="sun flower"/>
          <p:cNvPicPr/>
          <p:nvPr/>
        </p:nvPicPr>
        <p:blipFill>
          <a:blip r:embed="rId2"/>
          <a:stretch/>
        </p:blipFill>
        <p:spPr>
          <a:xfrm>
            <a:off x="1231920" y="1905120"/>
            <a:ext cx="719280" cy="65700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6"/>
          <p:cNvGrpSpPr/>
          <p:nvPr/>
        </p:nvGrpSpPr>
        <p:grpSpPr>
          <a:xfrm>
            <a:off x="1908000" y="2708280"/>
            <a:ext cx="5759640" cy="792000"/>
            <a:chOff x="1908000" y="2708280"/>
            <a:chExt cx="5759640" cy="792000"/>
          </a:xfrm>
        </p:grpSpPr>
        <p:sp>
          <p:nvSpPr>
            <p:cNvPr id="216" name="Rectangle 7"/>
            <p:cNvSpPr/>
            <p:nvPr/>
          </p:nvSpPr>
          <p:spPr>
            <a:xfrm>
              <a:off x="1908000" y="2708280"/>
              <a:ext cx="5759640" cy="792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2354400" y="2838240"/>
              <a:ext cx="3175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Calibri"/>
                </a:rPr>
                <a:t>Are you</a:t>
              </a:r>
              <a:r>
                <a:rPr b="1" lang="en-US" sz="3000" spc="-1" strike="noStrike">
                  <a:solidFill>
                    <a:srgbClr val="000000"/>
                  </a:solidFill>
                  <a:latin typeface="Calibri"/>
                </a:rPr>
                <a:t> Yang Ling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9" descr="sun flower"/>
          <p:cNvPicPr/>
          <p:nvPr/>
        </p:nvPicPr>
        <p:blipFill>
          <a:blip r:embed="rId4"/>
          <a:stretch/>
        </p:blipFill>
        <p:spPr>
          <a:xfrm>
            <a:off x="1258920" y="3708360"/>
            <a:ext cx="719280" cy="6573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0"/>
          <p:cNvSpPr/>
          <p:nvPr/>
        </p:nvSpPr>
        <p:spPr>
          <a:xfrm>
            <a:off x="1979640" y="3790800"/>
            <a:ext cx="6048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黑体"/>
              </a:rPr>
              <a:t>是的，我是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1979640" y="4653000"/>
            <a:ext cx="5759280" cy="792000"/>
            <a:chOff x="1979640" y="4653000"/>
            <a:chExt cx="5759280" cy="792000"/>
          </a:xfrm>
        </p:grpSpPr>
        <p:sp>
          <p:nvSpPr>
            <p:cNvPr id="221" name="Rectangle 12"/>
            <p:cNvSpPr/>
            <p:nvPr/>
          </p:nvSpPr>
          <p:spPr>
            <a:xfrm>
              <a:off x="1979640" y="4653000"/>
              <a:ext cx="5759280" cy="792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3"/>
            <p:cNvSpPr/>
            <p:nvPr/>
          </p:nvSpPr>
          <p:spPr>
            <a:xfrm>
              <a:off x="2243160" y="4782960"/>
              <a:ext cx="1695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</a:rPr>
                <a:t>Yes, I am.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2"/>
          <p:cNvSpPr txBox="1"/>
          <p:nvPr/>
        </p:nvSpPr>
        <p:spPr>
          <a:xfrm>
            <a:off x="250920" y="189000"/>
            <a:ext cx="3200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你掌握了吗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50920" y="162864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od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468360" y="429264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od ev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7928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od aftern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867280" y="4292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晚饭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睡觉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867280" y="1700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起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午饭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796000" y="2997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午饭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晚饭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708360" y="1628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早晨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3780000" y="4221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Calibri"/>
                <a:ea typeface="楷体_GB2312"/>
              </a:rPr>
              <a:t>晚上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708360" y="2924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楷体_GB2312"/>
              </a:rPr>
              <a:t>下午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2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9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et’s practise.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练一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023560" y="1918800"/>
            <a:ext cx="604836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你是王兵吗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5" descr="sun flower"/>
          <p:cNvPicPr/>
          <p:nvPr/>
        </p:nvPicPr>
        <p:blipFill>
          <a:blip r:embed="rId2"/>
          <a:stretch/>
        </p:blipFill>
        <p:spPr>
          <a:xfrm>
            <a:off x="1231920" y="1905120"/>
            <a:ext cx="719280" cy="65700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6"/>
          <p:cNvGrpSpPr/>
          <p:nvPr/>
        </p:nvGrpSpPr>
        <p:grpSpPr>
          <a:xfrm>
            <a:off x="1908000" y="2492280"/>
            <a:ext cx="5759640" cy="792000"/>
            <a:chOff x="1908000" y="2492280"/>
            <a:chExt cx="5759640" cy="792000"/>
          </a:xfrm>
        </p:grpSpPr>
        <p:sp>
          <p:nvSpPr>
            <p:cNvPr id="229" name="Rectangle 7"/>
            <p:cNvSpPr/>
            <p:nvPr/>
          </p:nvSpPr>
          <p:spPr>
            <a:xfrm>
              <a:off x="1908000" y="2492280"/>
              <a:ext cx="5759640" cy="792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2328120" y="2622240"/>
              <a:ext cx="3375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Calibri"/>
                </a:rPr>
                <a:t>Are you</a:t>
              </a:r>
              <a:r>
                <a:rPr b="1" lang="en-US" sz="3000" spc="-1" strike="noStrike">
                  <a:solidFill>
                    <a:srgbClr val="000000"/>
                  </a:solidFill>
                  <a:latin typeface="Calibri"/>
                </a:rPr>
                <a:t> Wang Bing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Picture 9" descr="sun flower"/>
          <p:cNvPicPr/>
          <p:nvPr/>
        </p:nvPicPr>
        <p:blipFill>
          <a:blip r:embed="rId4"/>
          <a:stretch/>
        </p:blipFill>
        <p:spPr>
          <a:xfrm>
            <a:off x="1258920" y="3924360"/>
            <a:ext cx="719280" cy="6570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0"/>
          <p:cNvSpPr/>
          <p:nvPr/>
        </p:nvSpPr>
        <p:spPr>
          <a:xfrm>
            <a:off x="1979640" y="3935520"/>
            <a:ext cx="60483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不，我不是。我是刘涛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11"/>
          <p:cNvGrpSpPr/>
          <p:nvPr/>
        </p:nvGrpSpPr>
        <p:grpSpPr>
          <a:xfrm>
            <a:off x="1979640" y="5013360"/>
            <a:ext cx="5759280" cy="792000"/>
            <a:chOff x="1979640" y="5013360"/>
            <a:chExt cx="5759280" cy="792000"/>
          </a:xfrm>
        </p:grpSpPr>
        <p:sp>
          <p:nvSpPr>
            <p:cNvPr id="234" name="Rectangle 12"/>
            <p:cNvSpPr/>
            <p:nvPr/>
          </p:nvSpPr>
          <p:spPr>
            <a:xfrm>
              <a:off x="1979640" y="5013360"/>
              <a:ext cx="5759280" cy="792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3"/>
            <p:cNvSpPr/>
            <p:nvPr/>
          </p:nvSpPr>
          <p:spPr>
            <a:xfrm>
              <a:off x="2379600" y="5143320"/>
              <a:ext cx="3970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</a:rPr>
                <a:t>No, I’m not. I’m Liu Tao.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67162552713f41b48e543069"/>
          <p:cNvPicPr/>
          <p:nvPr/>
        </p:nvPicPr>
        <p:blipFill>
          <a:blip r:embed="rId1"/>
          <a:srcRect l="0" t="0" r="0" b="83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762120" y="2133720"/>
            <a:ext cx="784836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黑体"/>
              </a:rPr>
              <a:t>跟录音读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黑体"/>
              </a:rPr>
              <a:t>Story time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黑体"/>
              </a:rPr>
              <a:t>二十分钟，并要求背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黑体"/>
              </a:rPr>
              <a:t>预习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黑体"/>
              </a:rPr>
              <a:t>Fun time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黑体"/>
              </a:rPr>
              <a:t>Letter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2"/>
          <p:cNvSpPr txBox="1"/>
          <p:nvPr/>
        </p:nvSpPr>
        <p:spPr>
          <a:xfrm>
            <a:off x="250920" y="189000"/>
            <a:ext cx="3200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你掌握了吗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2124000" y="2205000"/>
            <a:ext cx="252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Hello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332000" y="170028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你好（同学，朋友之间打招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4572000" y="2276640"/>
            <a:ext cx="1657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= H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476360" y="38606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我是；我叫 （向别人介绍自己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197080" y="44370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바탕"/>
                <a:ea typeface="바탕"/>
              </a:rPr>
              <a:t>I’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708360" y="443700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바탕"/>
                <a:ea typeface="바탕"/>
              </a:rPr>
              <a:t>= I am</a:t>
            </a:r>
            <a:r>
              <a:rPr b="1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2"/>
          <p:cNvSpPr txBox="1"/>
          <p:nvPr/>
        </p:nvSpPr>
        <p:spPr>
          <a:xfrm>
            <a:off x="250920" y="189000"/>
            <a:ext cx="2592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考考你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6" name="Picture 3" descr="Mike"/>
          <p:cNvPicPr/>
          <p:nvPr/>
        </p:nvPicPr>
        <p:blipFill>
          <a:blip r:embed="rId1"/>
          <a:srcRect l="32042" t="7167" r="29208" b="24807"/>
          <a:stretch/>
        </p:blipFill>
        <p:spPr>
          <a:xfrm>
            <a:off x="826920" y="1773360"/>
            <a:ext cx="1640160" cy="21589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4"/>
          <p:cNvSpPr/>
          <p:nvPr/>
        </p:nvSpPr>
        <p:spPr>
          <a:xfrm>
            <a:off x="2700360" y="1268280"/>
            <a:ext cx="4248000" cy="865440"/>
          </a:xfrm>
          <a:prstGeom prst="wedgeRectCallout">
            <a:avLst>
              <a:gd name="adj1" fmla="val -58708"/>
              <a:gd name="adj2" fmla="val 116787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916360" y="126828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바탕"/>
                <a:ea typeface="바탕"/>
              </a:rPr>
              <a:t>Hello, I’m Mi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1258920" y="4365720"/>
            <a:ext cx="863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?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3419640" y="3573360"/>
            <a:ext cx="4248000" cy="865440"/>
          </a:xfrm>
          <a:prstGeom prst="wedgeRectCallout">
            <a:avLst>
              <a:gd name="adj1" fmla="val -75074"/>
              <a:gd name="adj2" fmla="val 166879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635280" y="3573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바탕"/>
                <a:ea typeface="바탕"/>
              </a:rPr>
              <a:t>Hello, I’m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276720" y="5084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你会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ke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对话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2"/>
          <p:cNvSpPr txBox="1"/>
          <p:nvPr/>
        </p:nvSpPr>
        <p:spPr>
          <a:xfrm>
            <a:off x="250920" y="189000"/>
            <a:ext cx="2592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考考你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1258920" y="1268280"/>
            <a:ext cx="4248000" cy="865440"/>
          </a:xfrm>
          <a:prstGeom prst="wedgeRectCallout">
            <a:avLst>
              <a:gd name="adj1" fmla="val 71750"/>
              <a:gd name="adj2" fmla="val 112750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474920" y="126828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바탕"/>
                <a:ea typeface="바탕"/>
              </a:rPr>
              <a:t>Hello, I’m Miss L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1258920" y="4365720"/>
            <a:ext cx="863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?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2124000" y="3429000"/>
            <a:ext cx="4248360" cy="865080"/>
          </a:xfrm>
          <a:prstGeom prst="wedgeRectCallout">
            <a:avLst>
              <a:gd name="adj1" fmla="val -44583"/>
              <a:gd name="adj2" fmla="val 183578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340000" y="3429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바탕"/>
                <a:ea typeface="바탕"/>
              </a:rPr>
              <a:t>Hello, I’m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635280" y="515772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你会和李老师对话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Miss Li"/>
          <p:cNvPicPr/>
          <p:nvPr/>
        </p:nvPicPr>
        <p:blipFill>
          <a:blip r:embed="rId1"/>
          <a:srcRect l="40543" t="0" r="39604" b="39921"/>
          <a:stretch/>
        </p:blipFill>
        <p:spPr>
          <a:xfrm>
            <a:off x="6732720" y="907920"/>
            <a:ext cx="1655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2"/>
          <p:cNvSpPr txBox="1"/>
          <p:nvPr/>
        </p:nvSpPr>
        <p:spPr>
          <a:xfrm>
            <a:off x="250920" y="189000"/>
            <a:ext cx="2592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考考你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2484360" y="2060640"/>
            <a:ext cx="4248360" cy="865080"/>
          </a:xfrm>
          <a:prstGeom prst="wedgeRectCallout">
            <a:avLst>
              <a:gd name="adj1" fmla="val -48652"/>
              <a:gd name="adj2" fmla="val 96055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3079800" y="3573360"/>
            <a:ext cx="4248000" cy="865440"/>
          </a:xfrm>
          <a:prstGeom prst="wedgeRectCallout">
            <a:avLst>
              <a:gd name="adj1" fmla="val 43125"/>
              <a:gd name="adj2" fmla="val 100092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635280" y="18900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你能帮助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m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obby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完成对话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Bobby"/>
          <p:cNvPicPr/>
          <p:nvPr/>
        </p:nvPicPr>
        <p:blipFill>
          <a:blip r:embed="rId1"/>
          <a:srcRect l="21654" t="0" r="20714" b="5885"/>
          <a:stretch/>
        </p:blipFill>
        <p:spPr>
          <a:xfrm>
            <a:off x="7399440" y="4581360"/>
            <a:ext cx="1744560" cy="2136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Sam"/>
          <p:cNvPicPr/>
          <p:nvPr/>
        </p:nvPicPr>
        <p:blipFill>
          <a:blip r:embed="rId2"/>
          <a:srcRect l="23542" t="5887" r="27316" b="5887"/>
          <a:stretch/>
        </p:blipFill>
        <p:spPr>
          <a:xfrm>
            <a:off x="539640" y="2421000"/>
            <a:ext cx="1819440" cy="244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8"/>
          <p:cNvSpPr txBox="1"/>
          <p:nvPr/>
        </p:nvSpPr>
        <p:spPr>
          <a:xfrm>
            <a:off x="1116000" y="4870440"/>
            <a:ext cx="10638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0" name="WordArt 9"/>
          <p:cNvSpPr txBox="1"/>
          <p:nvPr/>
        </p:nvSpPr>
        <p:spPr>
          <a:xfrm>
            <a:off x="7688160" y="4076640"/>
            <a:ext cx="10638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Bobb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627280" y="213372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바탕"/>
                <a:ea typeface="바탕"/>
              </a:rPr>
              <a:t>Hello, I’m S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3079800" y="36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바탕"/>
                <a:ea typeface="바탕"/>
              </a:rPr>
              <a:t>Hello, I’m Bobb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2"/>
          <p:cNvSpPr txBox="1"/>
          <p:nvPr/>
        </p:nvSpPr>
        <p:spPr>
          <a:xfrm>
            <a:off x="250920" y="189000"/>
            <a:ext cx="2592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考考你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2484360" y="2060640"/>
            <a:ext cx="4248360" cy="865080"/>
          </a:xfrm>
          <a:prstGeom prst="wedgeRectCallout">
            <a:avLst>
              <a:gd name="adj1" fmla="val -48652"/>
              <a:gd name="adj2" fmla="val 96055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3079800" y="3573360"/>
            <a:ext cx="4248000" cy="865440"/>
          </a:xfrm>
          <a:prstGeom prst="wedgeRectCallout">
            <a:avLst>
              <a:gd name="adj1" fmla="val 43125"/>
              <a:gd name="adj2" fmla="val 100092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564000" y="2602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你能和你的同桌互相介绍自己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627280" y="213372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바탕"/>
                <a:ea typeface="바탕"/>
              </a:rPr>
              <a:t>Hello, I’m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079800" y="36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바탕"/>
                <a:ea typeface="바탕"/>
              </a:rPr>
              <a:t>Hello, I’m 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8"/>
          <p:cNvSpPr txBox="1"/>
          <p:nvPr/>
        </p:nvSpPr>
        <p:spPr>
          <a:xfrm>
            <a:off x="900000" y="2708280"/>
            <a:ext cx="863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?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WordArt 9"/>
          <p:cNvSpPr txBox="1"/>
          <p:nvPr/>
        </p:nvSpPr>
        <p:spPr>
          <a:xfrm>
            <a:off x="7596360" y="4365720"/>
            <a:ext cx="8632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?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050840" y="1317600"/>
            <a:ext cx="603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为课文配音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2"/>
          <p:cNvSpPr txBox="1"/>
          <p:nvPr/>
        </p:nvSpPr>
        <p:spPr>
          <a:xfrm>
            <a:off x="250920" y="189000"/>
            <a:ext cx="3200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想一想 演一演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Oval 3"/>
          <p:cNvSpPr/>
          <p:nvPr/>
        </p:nvSpPr>
        <p:spPr>
          <a:xfrm>
            <a:off x="826920" y="3141720"/>
            <a:ext cx="1657440" cy="172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"/>
          <p:cNvSpPr/>
          <p:nvPr/>
        </p:nvSpPr>
        <p:spPr>
          <a:xfrm>
            <a:off x="3995640" y="3429000"/>
            <a:ext cx="1513080" cy="18716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 flipV="1">
            <a:off x="4714920" y="3573000"/>
            <a:ext cx="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4714920" y="4365720"/>
            <a:ext cx="64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498920" y="335772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291280" y="4221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4572000" y="501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3922560" y="4221000"/>
            <a:ext cx="5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2411280" y="162864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在教室里，你们相遇，该怎么打招呼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11-17T08:49:46Z</dcterms:modified>
  <cp:revision>3</cp:revision>
  <dc:subject/>
  <dc:title>幻灯片 1</dc:title>
</cp:coreProperties>
</file>