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explode.wav" ContentType="audio/x-wav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7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2.png" ContentType="image/png"/>
  <Override PartName="/ppt/media/image24.png" ContentType="image/png"/>
  <Override PartName="/ppt/media/camera.wav" ContentType="audio/x-wav"/>
  <Override PartName="/ppt/media/image22.png" ContentType="image/png"/>
  <Override PartName="/ppt/media/image13.png" ContentType="image/png"/>
  <Override PartName="/ppt/media/cashreg.wav" ContentType="audio/x-wav"/>
  <Override PartName="/ppt/media/image9.png" ContentType="image/png"/>
  <Override PartName="/ppt/media/chimes.wav" ContentType="audio/x-wav"/>
  <Override PartName="/ppt/media/image16.png" ContentType="image/png"/>
  <Override PartName="/ppt/media/image14.png" ContentType="image/png"/>
  <Override PartName="/ppt/media/image15.png" ContentType="image/png"/>
  <Override PartName="/ppt/media/click.wav" ContentType="audio/x-wav"/>
  <Override PartName="/ppt/media/image25.gif" ContentType="image/gif"/>
  <Override PartName="/ppt/media/type.wav" ContentType="audio/x-wav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2FD-ED15-45CA-BE9C-69BEF5EF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C2FF-E8CB-48F4-A342-0A073205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A3A-6A39-40EC-9CAD-A25347AA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C04-4ADF-42C6-BF24-9838FB7A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151-774A-478E-8B75-E956E3DF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3E1-2B3C-42F8-8B2E-384C422B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51A-0727-4319-BAD0-0DDD39AA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0A6-2E70-457B-9A0B-502947DE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CBD-AA03-4442-997E-AA7F0DEF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33C-364A-4F17-958A-5E362F6F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F10-4288-493A-8541-6BCACCA5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6F5-072D-4FBE-8970-27445552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5317-A6A1-43B4-8C58-45A86651C7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audio" Target="../media/type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audio" Target="../media/chimes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195640" y="234936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Good morn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547640" y="3284640"/>
            <a:ext cx="8137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ntroduce your friend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请介绍你的朋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692360" y="692280"/>
            <a:ext cx="6624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Who’s your friend</a:t>
            </a:r>
            <a:r>
              <a:rPr b="1" lang="zh-CN" sz="4800" spc="-1" strike="noStrike">
                <a:solidFill>
                  <a:srgbClr val="0000ff"/>
                </a:solidFill>
                <a:latin typeface="Calibri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谁是你的朋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3520" y="533520"/>
            <a:ext cx="601956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.  I’m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e’s / This is ..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这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’s my fri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’s / This is…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这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’s my friend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C:\Users\Administrator\Desktop\图片1.png"/>
          <p:cNvPicPr/>
          <p:nvPr/>
        </p:nvPicPr>
        <p:blipFill>
          <a:blip r:embed="rId1"/>
          <a:stretch/>
        </p:blipFill>
        <p:spPr>
          <a:xfrm>
            <a:off x="5943600" y="1571760"/>
            <a:ext cx="3657600" cy="5286240"/>
          </a:xfrm>
          <a:prstGeom prst="rect">
            <a:avLst/>
          </a:prstGeom>
          <a:ln w="0">
            <a:noFill/>
          </a:ln>
        </p:spPr>
      </p:pic>
      <p:sp>
        <p:nvSpPr>
          <p:cNvPr id="103" name="圆角矩形标注 10"/>
          <p:cNvSpPr/>
          <p:nvPr/>
        </p:nvSpPr>
        <p:spPr>
          <a:xfrm>
            <a:off x="0" y="457200"/>
            <a:ext cx="6172200" cy="5543640"/>
          </a:xfrm>
          <a:prstGeom prst="wedgeRoundRectCallout">
            <a:avLst>
              <a:gd name="adj1" fmla="val 59749"/>
              <a:gd name="adj2" fmla="val 15263"/>
              <a:gd name="adj3" fmla="val 16667"/>
            </a:avLst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55280" y="5105520"/>
            <a:ext cx="427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y’re my friend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380880" y="3200400"/>
            <a:ext cx="541044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810160" y="596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他们都是我的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4876920" cy="41626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0" y="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and guess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看一看，猜一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971800" y="762120"/>
            <a:ext cx="3733920" cy="8251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Who’s h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648320" y="4191120"/>
            <a:ext cx="3733560" cy="825120"/>
          </a:xfrm>
          <a:prstGeom prst="rect">
            <a:avLst/>
          </a:prstGeom>
          <a:noFill/>
          <a:ln w="28440">
            <a:solidFill>
              <a:srgbClr val="ff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This is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3"/>
          <p:cNvSpPr/>
          <p:nvPr/>
        </p:nvSpPr>
        <p:spPr>
          <a:xfrm>
            <a:off x="2514600" y="2057400"/>
            <a:ext cx="1676520" cy="2392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3"/>
          <p:cNvSpPr/>
          <p:nvPr/>
        </p:nvSpPr>
        <p:spPr>
          <a:xfrm>
            <a:off x="838080" y="3505320"/>
            <a:ext cx="1676520" cy="2392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124080" y="1719360"/>
            <a:ext cx="6019920" cy="5138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828800" y="914400"/>
            <a:ext cx="4038480" cy="8251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Who’s sh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右箭头 2"/>
          <p:cNvSpPr/>
          <p:nvPr/>
        </p:nvSpPr>
        <p:spPr>
          <a:xfrm rot="14936400">
            <a:off x="3766680" y="2010960"/>
            <a:ext cx="912600" cy="226800"/>
          </a:xfrm>
          <a:prstGeom prst="rightArrow">
            <a:avLst>
              <a:gd name="adj1" fmla="val 50000"/>
              <a:gd name="adj2" fmla="val 27161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3"/>
          <p:cNvSpPr/>
          <p:nvPr/>
        </p:nvSpPr>
        <p:spPr>
          <a:xfrm>
            <a:off x="3657600" y="2362320"/>
            <a:ext cx="1676520" cy="2392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and guess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看一看，猜一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03"/>
          <p:cNvPicPr/>
          <p:nvPr/>
        </p:nvPicPr>
        <p:blipFill>
          <a:blip r:embed="rId1"/>
          <a:stretch/>
        </p:blipFill>
        <p:spPr>
          <a:xfrm>
            <a:off x="-304920" y="45720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2666880" y="99072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his is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U3CarS05.mp3" descr=""/>
          <p:cNvPicPr/>
          <p:nvPr/>
        </p:nvPicPr>
        <p:blipFill>
          <a:blip r:embed="rId2"/>
          <a:stretch/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3"/>
          <p:cNvSpPr/>
          <p:nvPr/>
        </p:nvSpPr>
        <p:spPr>
          <a:xfrm>
            <a:off x="7175880" y="2209680"/>
            <a:ext cx="6685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妹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and say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听一听，说一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2972880" y="1905120"/>
            <a:ext cx="344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’s my </a:t>
            </a:r>
            <a:r>
              <a:rPr b="1" lang="en-US" sz="4000" spc="-1" strike="noStrike">
                <a:solidFill>
                  <a:srgbClr val="d60093"/>
                </a:solidFill>
                <a:latin typeface="Calibri"/>
              </a:rPr>
              <a:t>sister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3534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304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想一想：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bby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该如何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na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介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am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5410080" y="4125960"/>
            <a:ext cx="3733920" cy="2732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2971800" y="1371600"/>
            <a:ext cx="5334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is   _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’s my _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388620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想一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am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n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之间该如何打招呼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1371600" y="502920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Cartoon time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725800" y="1371600"/>
            <a:ext cx="108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5157360" y="2666880"/>
            <a:ext cx="22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my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 flipH="1">
            <a:off x="1523160" y="914400"/>
            <a:ext cx="7162920" cy="2819520"/>
          </a:xfrm>
          <a:prstGeom prst="cloudCallout">
            <a:avLst>
              <a:gd name="adj1" fmla="val -26041"/>
              <a:gd name="adj2" fmla="val 121000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80880" y="2286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想一想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am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n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之间该如何打招呼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04"/>
          <p:cNvPicPr/>
          <p:nvPr/>
        </p:nvPicPr>
        <p:blipFill>
          <a:blip r:embed="rId1"/>
          <a:stretch/>
        </p:blipFill>
        <p:spPr>
          <a:xfrm>
            <a:off x="-533520" y="2514600"/>
            <a:ext cx="6019920" cy="43434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1"/>
          <p:cNvSpPr/>
          <p:nvPr/>
        </p:nvSpPr>
        <p:spPr>
          <a:xfrm>
            <a:off x="990720" y="1066680"/>
            <a:ext cx="5029200" cy="2286000"/>
          </a:xfrm>
          <a:prstGeom prst="cloudCallout">
            <a:avLst>
              <a:gd name="adj1" fmla="val -20046"/>
              <a:gd name="adj2" fmla="val 67986"/>
            </a:avLst>
          </a:prstGeom>
          <a:solidFill>
            <a:srgbClr val="ffffff"/>
          </a:solidFill>
          <a:ln w="2232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1572120" y="2133720"/>
            <a:ext cx="31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i, I’m Sa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4572000" y="3048120"/>
            <a:ext cx="4343400" cy="2286000"/>
          </a:xfrm>
          <a:prstGeom prst="cloudCallout">
            <a:avLst>
              <a:gd name="adj1" fmla="val -51902"/>
              <a:gd name="adj2" fmla="val 45972"/>
            </a:avLst>
          </a:prstGeom>
          <a:solidFill>
            <a:srgbClr val="ffffff"/>
          </a:solidFill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3"/>
          <p:cNvSpPr/>
          <p:nvPr/>
        </p:nvSpPr>
        <p:spPr>
          <a:xfrm>
            <a:off x="1371600" y="3048120"/>
            <a:ext cx="1371600" cy="2392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524920" y="396252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Tina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非常害怕得逃跑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3"/>
          <p:cNvSpPr/>
          <p:nvPr/>
        </p:nvSpPr>
        <p:spPr>
          <a:xfrm>
            <a:off x="3200400" y="3809880"/>
            <a:ext cx="1371600" cy="23925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184040" y="0"/>
            <a:ext cx="499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bby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很生气，他会说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903640" y="762120"/>
            <a:ext cx="5875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请用恰当的语气试着说一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4572000" cy="41911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9"/>
          <p:cNvSpPr/>
          <p:nvPr/>
        </p:nvSpPr>
        <p:spPr>
          <a:xfrm>
            <a:off x="0" y="1676520"/>
            <a:ext cx="6553080" cy="2057400"/>
          </a:xfrm>
          <a:prstGeom prst="cloudCallout">
            <a:avLst>
              <a:gd name="adj1" fmla="val 29046"/>
              <a:gd name="adj2" fmla="val 87884"/>
            </a:avLst>
          </a:prstGeom>
          <a:solidFill>
            <a:srgbClr val="ffffff"/>
          </a:solidFill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641600" y="2057400"/>
            <a:ext cx="392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ina, this is Sam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He’s my fri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-762120" y="4800600"/>
            <a:ext cx="5486400" cy="2057400"/>
          </a:xfrm>
          <a:prstGeom prst="cloudCallout">
            <a:avLst>
              <a:gd name="adj1" fmla="val 57467"/>
              <a:gd name="adj2" fmla="val -33486"/>
            </a:avLst>
          </a:prstGeom>
          <a:solidFill>
            <a:srgbClr val="ffffff"/>
          </a:solidFill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1840" y="5486400"/>
            <a:ext cx="222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Goodby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2286000" y="-1080"/>
            <a:ext cx="5181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and match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读一读、连一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01"/>
          <p:cNvPicPr/>
          <p:nvPr/>
        </p:nvPicPr>
        <p:blipFill>
          <a:blip r:embed="rId1"/>
          <a:stretch/>
        </p:blipFill>
        <p:spPr>
          <a:xfrm>
            <a:off x="0" y="685800"/>
            <a:ext cx="4495680" cy="297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02"/>
          <p:cNvPicPr/>
          <p:nvPr/>
        </p:nvPicPr>
        <p:blipFill>
          <a:blip r:embed="rId2"/>
          <a:stretch/>
        </p:blipFill>
        <p:spPr>
          <a:xfrm>
            <a:off x="4572000" y="45720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03"/>
          <p:cNvPicPr/>
          <p:nvPr/>
        </p:nvPicPr>
        <p:blipFill>
          <a:blip r:embed="rId3"/>
          <a:stretch/>
        </p:blipFill>
        <p:spPr>
          <a:xfrm>
            <a:off x="0" y="3538440"/>
            <a:ext cx="4572000" cy="3319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04"/>
          <p:cNvPicPr/>
          <p:nvPr/>
        </p:nvPicPr>
        <p:blipFill>
          <a:blip r:embed="rId4"/>
          <a:stretch/>
        </p:blipFill>
        <p:spPr>
          <a:xfrm>
            <a:off x="4495680" y="3616200"/>
            <a:ext cx="46483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113120" y="1447920"/>
            <a:ext cx="7369920" cy="4360320"/>
          </a:xfrm>
          <a:prstGeom prst="rect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---Hi, Bobby.   --- Hi, T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i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’m Sa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.  --- Goodbye.  --- Goodby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.  This is Tina. She’s my sis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828800" y="30384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and match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读一读、连一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20120316113637820"/>
          <p:cNvPicPr/>
          <p:nvPr/>
        </p:nvPicPr>
        <p:blipFill>
          <a:blip r:embed="rId1">
            <a:lum bright="12000"/>
          </a:blip>
          <a:srcRect l="0" t="0" r="0" b="15698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1835280" y="404640"/>
            <a:ext cx="5867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Uint 3 My friends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6" name="Hello 歌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.0)">
                                      <p:cBhvr>
                                        <p:cTn id="6" dur="3734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286000" y="-36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d and 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01"/>
          <p:cNvPicPr/>
          <p:nvPr/>
        </p:nvPicPr>
        <p:blipFill>
          <a:blip r:embed="rId1"/>
          <a:stretch/>
        </p:blipFill>
        <p:spPr>
          <a:xfrm>
            <a:off x="0" y="304920"/>
            <a:ext cx="4495680" cy="2971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0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03"/>
          <p:cNvPicPr/>
          <p:nvPr/>
        </p:nvPicPr>
        <p:blipFill>
          <a:blip r:embed="rId3"/>
          <a:stretch/>
        </p:blipFill>
        <p:spPr>
          <a:xfrm>
            <a:off x="0" y="4191120"/>
            <a:ext cx="3886200" cy="266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04"/>
          <p:cNvPicPr/>
          <p:nvPr/>
        </p:nvPicPr>
        <p:blipFill>
          <a:blip r:embed="rId4"/>
          <a:stretch/>
        </p:blipFill>
        <p:spPr>
          <a:xfrm>
            <a:off x="5105520" y="4254480"/>
            <a:ext cx="3733560" cy="26035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1"/>
          <p:cNvSpPr/>
          <p:nvPr/>
        </p:nvSpPr>
        <p:spPr>
          <a:xfrm>
            <a:off x="1113120" y="1828800"/>
            <a:ext cx="7369920" cy="2531880"/>
          </a:xfrm>
          <a:prstGeom prst="rect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---Hi, Bobby.   --- Hi, T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i, I’m Sa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.  --- Goodbye.  --- Goodby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.  This is Tina. She’s my sis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1041480" y="68580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1853640" y="441972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6279480" y="30492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7052760" y="426708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8031960" y="45720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5424120" y="838080"/>
            <a:ext cx="2251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ye-bye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ye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e you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672200" y="1600200"/>
            <a:ext cx="222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Goodby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773080" y="25146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再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668240" y="4648320"/>
            <a:ext cx="5203800" cy="1312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ee you next tim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次再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01"/>
          <p:cNvPicPr/>
          <p:nvPr/>
        </p:nvPicPr>
        <p:blipFill>
          <a:blip r:embed="rId1"/>
          <a:stretch/>
        </p:blipFill>
        <p:spPr>
          <a:xfrm>
            <a:off x="-228600" y="457200"/>
            <a:ext cx="9372600" cy="67737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1219320" y="19051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oodby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105520" y="51055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oodby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U3CarS01.mp3" descr=""/>
          <p:cNvPicPr/>
          <p:nvPr/>
        </p:nvPicPr>
        <p:blipFill>
          <a:blip r:embed="rId2"/>
          <a:stretch/>
        </p:blipFill>
        <p:spPr>
          <a:xfrm>
            <a:off x="5335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4" name="U3CarS02.mp3" descr=""/>
          <p:cNvPicPr/>
          <p:nvPr/>
        </p:nvPicPr>
        <p:blipFill>
          <a:blip r:embed="rId3"/>
          <a:stretch/>
        </p:blipFill>
        <p:spPr>
          <a:xfrm>
            <a:off x="86104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7"/>
          <p:cNvSpPr/>
          <p:nvPr/>
        </p:nvSpPr>
        <p:spPr>
          <a:xfrm>
            <a:off x="0" y="-360"/>
            <a:ext cx="3886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’s read.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读一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889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1680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02"/>
          <p:cNvPicPr/>
          <p:nvPr/>
        </p:nvPicPr>
        <p:blipFill>
          <a:blip r:embed="rId1"/>
          <a:stretch/>
        </p:blipFill>
        <p:spPr>
          <a:xfrm>
            <a:off x="-68580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1752480" y="76212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i, Bobb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791320" y="1066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i, T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U3CarS03.mp3" descr=""/>
          <p:cNvPicPr/>
          <p:nvPr/>
        </p:nvPicPr>
        <p:blipFill>
          <a:blip r:embed="rId2"/>
          <a:stretch/>
        </p:blipFill>
        <p:spPr>
          <a:xfrm>
            <a:off x="762120" y="5791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1" name="U3CarS04.mp3" descr=""/>
          <p:cNvPicPr/>
          <p:nvPr/>
        </p:nvPicPr>
        <p:blipFill>
          <a:blip r:embed="rId3"/>
          <a:stretch/>
        </p:blipFill>
        <p:spPr>
          <a:xfrm>
            <a:off x="84582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7"/>
          <p:cNvSpPr/>
          <p:nvPr/>
        </p:nvSpPr>
        <p:spPr>
          <a:xfrm>
            <a:off x="0" y="-360"/>
            <a:ext cx="2590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’s rea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1627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47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03"/>
          <p:cNvPicPr/>
          <p:nvPr/>
        </p:nvPicPr>
        <p:blipFill>
          <a:blip r:embed="rId1"/>
          <a:stretch/>
        </p:blipFill>
        <p:spPr>
          <a:xfrm>
            <a:off x="-533520" y="304920"/>
            <a:ext cx="10363320" cy="6553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2743200" y="914400"/>
            <a:ext cx="5224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T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he’s my sis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U3CarS05.mp3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444240" cy="3301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0" y="-360"/>
            <a:ext cx="2590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’s rea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" dur="353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04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9627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3886200" y="762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i, I’m S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U3CarS06.mp3" descr=""/>
          <p:cNvPicPr/>
          <p:nvPr/>
        </p:nvPicPr>
        <p:blipFill>
          <a:blip r:embed="rId2"/>
          <a:stretch/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0" y="-360"/>
            <a:ext cx="2590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’s rea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2594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01"/>
          <p:cNvPicPr/>
          <p:nvPr/>
        </p:nvPicPr>
        <p:blipFill>
          <a:blip r:embed="rId1"/>
          <a:stretch/>
        </p:blipFill>
        <p:spPr>
          <a:xfrm>
            <a:off x="228600" y="838080"/>
            <a:ext cx="4419720" cy="2514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02"/>
          <p:cNvPicPr/>
          <p:nvPr/>
        </p:nvPicPr>
        <p:blipFill>
          <a:blip r:embed="rId2"/>
          <a:stretch/>
        </p:blipFill>
        <p:spPr>
          <a:xfrm>
            <a:off x="5105520" y="533520"/>
            <a:ext cx="3429000" cy="2939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03"/>
          <p:cNvPicPr/>
          <p:nvPr/>
        </p:nvPicPr>
        <p:blipFill>
          <a:blip r:embed="rId3"/>
          <a:stretch/>
        </p:blipFill>
        <p:spPr>
          <a:xfrm>
            <a:off x="304920" y="3443400"/>
            <a:ext cx="3962160" cy="3414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04"/>
          <p:cNvPicPr/>
          <p:nvPr/>
        </p:nvPicPr>
        <p:blipFill>
          <a:blip r:embed="rId4"/>
          <a:stretch/>
        </p:blipFill>
        <p:spPr>
          <a:xfrm>
            <a:off x="4343400" y="3508200"/>
            <a:ext cx="4800600" cy="3349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"/>
          <p:cNvSpPr/>
          <p:nvPr/>
        </p:nvSpPr>
        <p:spPr>
          <a:xfrm>
            <a:off x="0" y="-360"/>
            <a:ext cx="5486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ad and act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读一读，演一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28600" y="15541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u Tao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班里来了一位美国男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n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放学时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u Tao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想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n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用英语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道别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可是最近学习了很多英语句子，他一时不知道该如何选择了。请你给他帮个忙，在正确的句子前打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015360" y="0"/>
            <a:ext cx="4172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ad and choos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读一读，选一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362320" y="2743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) Good morning, 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362320" y="320040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14600" y="3352680"/>
            <a:ext cx="23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) See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583000" y="3886200"/>
            <a:ext cx="44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) Good afternoon, 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2491920" y="4495680"/>
            <a:ext cx="251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) Goodby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2540880" y="510552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) By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652480" y="5562720"/>
            <a:ext cx="39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) See you nex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2572560" y="6095880"/>
            <a:ext cx="23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) Bye-by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2362320" y="434340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2438280" y="50292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2438280" y="54864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2514600" y="603396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226" name="WordArt 4"/>
          <p:cNvSpPr txBox="1"/>
          <p:nvPr/>
        </p:nvSpPr>
        <p:spPr>
          <a:xfrm>
            <a:off x="0" y="0"/>
            <a:ext cx="2556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song time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916360" y="332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read?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你能流畅地读歌词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003640" y="5445000"/>
            <a:ext cx="3313440" cy="608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6588000" y="2637000"/>
            <a:ext cx="1943280" cy="607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5940360" y="6207120"/>
            <a:ext cx="18003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下次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762120" y="32760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ing the song with your friend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1676520" y="380880"/>
            <a:ext cx="47242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song time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600200" y="4495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和朋友们一起唱这首歌曲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00000" y="0"/>
            <a:ext cx="8244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lk about our friend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谈论我们的朋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I:\小学教学资料\课内学习资料\新三年级\新3A\新版教材人物图片\Liu Tao.jpg"/>
          <p:cNvPicPr/>
          <p:nvPr/>
        </p:nvPicPr>
        <p:blipFill>
          <a:blip r:embed="rId1"/>
          <a:stretch/>
        </p:blipFill>
        <p:spPr>
          <a:xfrm>
            <a:off x="609480" y="3940200"/>
            <a:ext cx="3581640" cy="2917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04920" y="914400"/>
            <a:ext cx="3960720" cy="19371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Who’s h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He’s 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800600" y="838080"/>
            <a:ext cx="4103640" cy="19371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Who’s sh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he’s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914400" y="4648320"/>
            <a:ext cx="3240000" cy="1657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:\小学教学资料\课内学习资料\新三年级\新3A\新版教材人物图片\Yang.jpg"/>
          <p:cNvPicPr/>
          <p:nvPr/>
        </p:nvPicPr>
        <p:blipFill>
          <a:blip r:embed="rId2"/>
          <a:stretch/>
        </p:blipFill>
        <p:spPr>
          <a:xfrm>
            <a:off x="4952880" y="3657600"/>
            <a:ext cx="3505320" cy="2630520"/>
          </a:xfrm>
          <a:prstGeom prst="rect">
            <a:avLst/>
          </a:prstGeom>
          <a:ln w="0">
            <a:noFill/>
          </a:ln>
        </p:spPr>
      </p:pic>
      <p:sp>
        <p:nvSpPr>
          <p:cNvPr id="54" name="Oval 10"/>
          <p:cNvSpPr/>
          <p:nvPr/>
        </p:nvSpPr>
        <p:spPr>
          <a:xfrm>
            <a:off x="5257800" y="4876920"/>
            <a:ext cx="3240000" cy="1657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523880" y="3200400"/>
            <a:ext cx="6324840" cy="764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He’s </a:t>
            </a:r>
            <a:r>
              <a:rPr b="1" lang="en-US" sz="4400" spc="-1" strike="noStrike">
                <a:solidFill>
                  <a:srgbClr val="d60093"/>
                </a:solidFill>
                <a:latin typeface="Calibri"/>
              </a:rPr>
              <a:t>/ 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he’s my frie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4"/>
          <p:cNvSpPr txBox="1"/>
          <p:nvPr/>
        </p:nvSpPr>
        <p:spPr>
          <a:xfrm>
            <a:off x="380880" y="304920"/>
            <a:ext cx="47246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Homework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685800" y="289620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ad the story after the tap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y to act the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 Sing the s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. Try to introduce your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1697400" y="5157720"/>
            <a:ext cx="56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Thank  you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未命名"/>
          <p:cNvPicPr/>
          <p:nvPr/>
        </p:nvPicPr>
        <p:blipFill>
          <a:blip r:embed="rId1"/>
          <a:stretch/>
        </p:blipFill>
        <p:spPr>
          <a:xfrm>
            <a:off x="755640" y="404640"/>
            <a:ext cx="3313080" cy="3745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未命名"/>
          <p:cNvPicPr/>
          <p:nvPr/>
        </p:nvPicPr>
        <p:blipFill>
          <a:blip r:embed="rId2"/>
          <a:stretch/>
        </p:blipFill>
        <p:spPr>
          <a:xfrm>
            <a:off x="4427640" y="1197000"/>
            <a:ext cx="3247920" cy="367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00000" y="609480"/>
            <a:ext cx="7939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lk about your friend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谈论你们的朋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80880" y="2057400"/>
            <a:ext cx="3961080" cy="8251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He’s 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724280" y="2057400"/>
            <a:ext cx="4103640" cy="8251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he’s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447920" y="3733920"/>
            <a:ext cx="6324480" cy="764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He’s </a:t>
            </a:r>
            <a:r>
              <a:rPr b="1" lang="en-US" sz="4400" spc="-1" strike="noStrike">
                <a:solidFill>
                  <a:srgbClr val="d60093"/>
                </a:solidFill>
                <a:latin typeface="Calibri"/>
              </a:rPr>
              <a:t>/ 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he’s my frie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2057400"/>
            <a:ext cx="4724640" cy="16912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his is Miss …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是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80880" y="4572000"/>
            <a:ext cx="5029200" cy="8251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he’s my fri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066680" y="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lk abou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y friend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谈论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我的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朋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943600" y="12952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6095880" y="1981080"/>
            <a:ext cx="2667240" cy="2438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女性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57200" y="1447920"/>
            <a:ext cx="4876920" cy="172044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This is Mr ...</a:t>
            </a:r>
            <a:r>
              <a:rPr b="1" lang="zh-CN" sz="4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这是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57200" y="4343400"/>
            <a:ext cx="4753080" cy="703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e’s my friend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oo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85800" y="52578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他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也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是我的朋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400800" y="4724280"/>
            <a:ext cx="1295280" cy="1598760"/>
          </a:xfrm>
          <a:prstGeom prst="rect">
            <a:avLst/>
          </a:prstGeom>
          <a:noFill/>
          <a:ln w="19080">
            <a:solidFill>
              <a:srgbClr val="33996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oo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6248520" y="1371600"/>
            <a:ext cx="2666880" cy="2438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男性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838080" y="1981080"/>
            <a:ext cx="5334120" cy="23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alibri"/>
              </a:rPr>
              <a:t>This is ...</a:t>
            </a:r>
            <a:r>
              <a:rPr b="1" lang="zh-CN" sz="66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这是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E:\Owner\小学教学资料\小学课件\3A（2012.9）\Unit 1 Hello\Jackie 3A  Unit 1\Mike.jpg"/>
          <p:cNvPicPr/>
          <p:nvPr/>
        </p:nvPicPr>
        <p:blipFill>
          <a:blip r:embed="rId1"/>
          <a:stretch/>
        </p:blipFill>
        <p:spPr>
          <a:xfrm>
            <a:off x="4419720" y="121932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I:\小学教学资料\课内学习资料\新三年级\新3A\新版教材人物图片\Su Hai.jpg"/>
          <p:cNvPicPr/>
          <p:nvPr/>
        </p:nvPicPr>
        <p:blipFill>
          <a:blip r:embed="rId2"/>
          <a:stretch/>
        </p:blipFill>
        <p:spPr>
          <a:xfrm>
            <a:off x="5105520" y="1806480"/>
            <a:ext cx="3200400" cy="308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E:\Owner\小学教学资料\小学课件\3A（2012.9）\Unit 1 Hello\Jackie 3A  Unit 1\Miss.JPG"/>
          <p:cNvPicPr/>
          <p:nvPr/>
        </p:nvPicPr>
        <p:blipFill>
          <a:blip r:embed="rId3"/>
          <a:stretch/>
        </p:blipFill>
        <p:spPr>
          <a:xfrm>
            <a:off x="4613400" y="1600200"/>
            <a:ext cx="4530600" cy="3398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4"/>
          <a:stretch/>
        </p:blipFill>
        <p:spPr>
          <a:xfrm>
            <a:off x="5029200" y="1676520"/>
            <a:ext cx="327672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6324480" cy="4659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304920" y="2133720"/>
            <a:ext cx="5905440" cy="1556280"/>
          </a:xfrm>
          <a:prstGeom prst="rect">
            <a:avLst/>
          </a:prstGeom>
          <a:noFill/>
          <a:ln w="255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y’re my friend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们都是我的朋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724280" y="380880"/>
            <a:ext cx="4191120" cy="14770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s is Mr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He’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my friend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oo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4920" y="380880"/>
            <a:ext cx="4114800" cy="14770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s is Miss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he’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y frien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4114800" y="3581280"/>
            <a:ext cx="1143000" cy="1295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女性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6553080" y="3505320"/>
            <a:ext cx="1143000" cy="129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男性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348000" y="2708280"/>
            <a:ext cx="28083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friend</a:t>
            </a: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75a3bf5187e1d77c4e03f72d3d_560"/>
          <p:cNvPicPr/>
          <p:nvPr/>
        </p:nvPicPr>
        <p:blipFill>
          <a:blip r:embed="rId1"/>
          <a:stretch/>
        </p:blipFill>
        <p:spPr>
          <a:xfrm>
            <a:off x="6781680" y="4572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91120" y="38862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朋友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62120" y="1752480"/>
            <a:ext cx="2050920" cy="916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295280" y="2819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我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75a3bf5187e1d77c4e03f72d3d_560"/>
          <p:cNvPicPr/>
          <p:nvPr/>
        </p:nvPicPr>
        <p:blipFill>
          <a:blip r:embed="rId2"/>
          <a:stretch/>
        </p:blipFill>
        <p:spPr>
          <a:xfrm>
            <a:off x="6172200" y="2286000"/>
            <a:ext cx="1919160" cy="1805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3276720" y="533520"/>
            <a:ext cx="281916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friend</a:t>
            </a: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75a3bf5187e1d77c4e03f72d3d_560"/>
          <p:cNvPicPr/>
          <p:nvPr/>
        </p:nvPicPr>
        <p:blipFill>
          <a:blip r:embed="rId3"/>
          <a:stretch/>
        </p:blipFill>
        <p:spPr>
          <a:xfrm>
            <a:off x="7467480" y="2362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4267080" y="1676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828800" y="5029200"/>
            <a:ext cx="5905440" cy="1556280"/>
          </a:xfrm>
          <a:prstGeom prst="rect">
            <a:avLst/>
          </a:prstGeom>
          <a:noFill/>
          <a:ln w="255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y’re my friend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们都是我的朋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11-17T23:56:39Z</dcterms:modified>
  <cp:revision>3</cp:revision>
  <dc:subject/>
  <dc:title>幻灯片 1</dc:title>
</cp:coreProperties>
</file>