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8180-A1F1-4AB7-BC88-14E899C7CD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71D4-6074-46F5-B070-3B5556CA3D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44F0-BB46-479F-8098-10D190D346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56CC-3908-4F50-AB6F-540D3C302C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D91-5334-4DC0-B0CF-EE80C4EDB8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2400-ABFD-4435-A4C1-EF544E1DA6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0F0D-1235-4D7E-B472-A79F3C10B3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73CC-94CD-4DD4-8179-D8CE738AD3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774E-446E-4030-AD4B-1D248E636B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59BF-E290-4406-B5C3-2E6A2C026F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CB0-A4BA-4985-9D34-F0DC2486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C56-D0DE-47B9-B390-9DB4947B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7C6-DABC-423C-82E6-A644FA08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AE8-9164-4D58-895B-50F909C1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82B-5BF1-42F0-89B6-A30224D1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B77-7309-4526-BEA7-F949CAE0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479-C552-4D76-8868-C0C9FB4B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C1D-AA15-4373-83CE-C3F6DCE1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A7A-A3C3-4243-B411-9D4FF56F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2F8-88F5-4004-8118-D757AB50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9D8-FE3E-44E3-9282-B9D7A95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BAA-D6F2-414B-8E11-503F8668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6CFF-E25A-485D-9595-D613748F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09480" y="1523880"/>
            <a:ext cx="7467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a        Ee          Mm         Ww       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)      (   )         (   )           (   )       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b        Yy          Dd           Vv         H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)      (   )          (   )          (   )        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905120" y="25146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Unit 6 Let’s sing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012011410371504"/>
          <p:cNvPicPr/>
          <p:nvPr/>
        </p:nvPicPr>
        <p:blipFill>
          <a:blip r:embed="rId1"/>
          <a:stretch/>
        </p:blipFill>
        <p:spPr>
          <a:xfrm>
            <a:off x="914400" y="838080"/>
            <a:ext cx="5286240" cy="384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514600" y="4267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a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962520" y="3809880"/>
            <a:ext cx="4724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f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248520" y="4495680"/>
            <a:ext cx="22096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会飞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858000" y="22096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352680" y="3657600"/>
            <a:ext cx="4724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rea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95880" y="4191120"/>
            <a:ext cx="22100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会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007623213715216_2"/>
          <p:cNvPicPr/>
          <p:nvPr/>
        </p:nvPicPr>
        <p:blipFill>
          <a:blip r:embed="rId1"/>
          <a:srcRect l="0" t="0" r="0" b="3518"/>
          <a:stretch/>
        </p:blipFill>
        <p:spPr>
          <a:xfrm>
            <a:off x="2133720" y="762120"/>
            <a:ext cx="4381560" cy="2743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705720" y="190512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52680" y="3657600"/>
            <a:ext cx="4724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248520" y="4495680"/>
            <a:ext cx="22096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唱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untitled"/>
          <p:cNvPicPr/>
          <p:nvPr/>
        </p:nvPicPr>
        <p:blipFill>
          <a:blip r:embed="rId1"/>
          <a:srcRect l="0" t="0" r="0" b="10798"/>
          <a:stretch/>
        </p:blipFill>
        <p:spPr>
          <a:xfrm>
            <a:off x="2438280" y="990720"/>
            <a:ext cx="381024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705720" y="190512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352680" y="3657600"/>
            <a:ext cx="4724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dra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095880" y="4267080"/>
            <a:ext cx="2514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画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41497_20121022225129739121_1"/>
          <p:cNvPicPr/>
          <p:nvPr/>
        </p:nvPicPr>
        <p:blipFill>
          <a:blip r:embed="rId1"/>
          <a:srcRect l="0" t="8403" r="0" b="7586"/>
          <a:stretch/>
        </p:blipFill>
        <p:spPr>
          <a:xfrm>
            <a:off x="2819520" y="114300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6705720" y="190512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a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352680" y="3657600"/>
            <a:ext cx="4724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wi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867280" y="4343400"/>
            <a:ext cx="24386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会游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u=407793491,2219881682&amp;fm=21&amp;gp=0"/>
          <p:cNvPicPr/>
          <p:nvPr/>
        </p:nvPicPr>
        <p:blipFill>
          <a:blip r:embed="rId1"/>
          <a:stretch/>
        </p:blipFill>
        <p:spPr>
          <a:xfrm>
            <a:off x="2895480" y="114300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6553080" y="2057400"/>
            <a:ext cx="17528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w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352680" y="3657600"/>
            <a:ext cx="4724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coo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a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019920" y="4495680"/>
            <a:ext cx="2438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做饭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u=2441964621,3217880611&amp;fm=21&amp;gp=0"/>
          <p:cNvPicPr/>
          <p:nvPr/>
        </p:nvPicPr>
        <p:blipFill>
          <a:blip r:embed="rId1"/>
          <a:stretch/>
        </p:blipFill>
        <p:spPr>
          <a:xfrm>
            <a:off x="3505320" y="1143000"/>
            <a:ext cx="21175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6705720" y="190512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fly.jpg"/>
          <p:cNvPicPr/>
          <p:nvPr/>
        </p:nvPicPr>
        <p:blipFill>
          <a:blip r:embed="rId1"/>
          <a:stretch/>
        </p:blipFill>
        <p:spPr>
          <a:xfrm>
            <a:off x="609480" y="45720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" descr="read.jpg"/>
          <p:cNvPicPr/>
          <p:nvPr/>
        </p:nvPicPr>
        <p:blipFill>
          <a:blip r:embed="rId2"/>
          <a:stretch/>
        </p:blipFill>
        <p:spPr>
          <a:xfrm>
            <a:off x="3276720" y="45720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sing.jpg"/>
          <p:cNvPicPr/>
          <p:nvPr/>
        </p:nvPicPr>
        <p:blipFill>
          <a:blip r:embed="rId3"/>
          <a:stretch/>
        </p:blipFill>
        <p:spPr>
          <a:xfrm>
            <a:off x="6172200" y="60948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draw.jpg"/>
          <p:cNvPicPr/>
          <p:nvPr/>
        </p:nvPicPr>
        <p:blipFill>
          <a:blip r:embed="rId4"/>
          <a:stretch/>
        </p:blipFill>
        <p:spPr>
          <a:xfrm>
            <a:off x="762120" y="3581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swim.jpg"/>
          <p:cNvPicPr/>
          <p:nvPr/>
        </p:nvPicPr>
        <p:blipFill>
          <a:blip r:embed="rId5"/>
          <a:stretch/>
        </p:blipFill>
        <p:spPr>
          <a:xfrm>
            <a:off x="3429000" y="3581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8" descr="cook.jpg"/>
          <p:cNvPicPr/>
          <p:nvPr/>
        </p:nvPicPr>
        <p:blipFill>
          <a:blip r:embed="rId6"/>
          <a:stretch/>
        </p:blipFill>
        <p:spPr>
          <a:xfrm>
            <a:off x="6095880" y="3429000"/>
            <a:ext cx="1930680" cy="1447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1219320" y="22860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886200" y="236232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6477120" y="220968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唱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295280" y="50292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886200" y="49528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w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游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629400" y="49528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做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12:47Z</dcterms:created>
  <dc:creator/>
  <dc:description/>
  <dc:language>en-US</dc:language>
  <cp:lastModifiedBy/>
  <dcterms:modified xsi:type="dcterms:W3CDTF">2016-12-26T01:32:22Z</dcterms:modified>
  <cp:revision>1</cp:revision>
  <dc:subject/>
  <dc:title/>
</cp:coreProperties>
</file>