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79CD-3A9D-4EB0-9B95-D453082035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E864-CBBD-459C-A570-8CE67648BF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160C-9BB4-42A5-AC94-E36B5BF3C0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3EAD-F37C-457D-AC47-5E08C24F54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83FB-D0B0-4CD9-966E-06E7E3B355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E1B4-EB25-4DD8-9463-D1DA99AEFC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CC84-F843-4C0C-9C94-9D7983D040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7C44-D181-4876-BB1C-C0E2A7EC89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4AA8-D937-4BCB-83DF-109F1129C8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14F5-FE6F-43B1-A45C-1D07BD0F87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7E2-E3D1-44F3-BAD7-C97B5E06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71D-18E0-499C-AB39-58CE5B16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21C-BA60-4BE0-84B6-51AB841D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8A6-53FE-4832-8219-58FBECDC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4F1-5B8A-49E2-B5F9-F0FC6EDC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2B8-B002-4893-9209-A6190DD2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B7E-4A21-42DB-95AF-A1FBE8E4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C07-5562-4A84-AF2E-82994DE1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1BC-8942-4510-A0C4-613EF100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5F5-D555-4A2B-A288-6AFB528C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58B-67E0-49BB-8A1C-7F8184D5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73D-9135-4179-B277-DA14B43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0B94-15AA-42C3-B12A-B299A9197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5120" y="251460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Unit 6 Let’s sing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914400" y="457200"/>
            <a:ext cx="25239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Times New Roman"/>
              </a:rPr>
              <a:t>Boom Game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038480" y="2666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3809880" y="2666880"/>
            <a:ext cx="266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6" descr="cook.jpg"/>
          <p:cNvPicPr/>
          <p:nvPr/>
        </p:nvPicPr>
        <p:blipFill>
          <a:blip r:embed="rId1"/>
          <a:stretch/>
        </p:blipFill>
        <p:spPr>
          <a:xfrm>
            <a:off x="2971800" y="2209680"/>
            <a:ext cx="314964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3657600" y="281952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wi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8" descr="draw.jpg"/>
          <p:cNvPicPr/>
          <p:nvPr/>
        </p:nvPicPr>
        <p:blipFill>
          <a:blip r:embed="rId2"/>
          <a:stretch/>
        </p:blipFill>
        <p:spPr>
          <a:xfrm>
            <a:off x="3124080" y="21337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235075-1305051I34235.jpg"/>
          <p:cNvPicPr/>
          <p:nvPr/>
        </p:nvPicPr>
        <p:blipFill>
          <a:blip r:embed="rId3"/>
          <a:stretch/>
        </p:blipFill>
        <p:spPr>
          <a:xfrm>
            <a:off x="3352680" y="1752480"/>
            <a:ext cx="3353040" cy="3353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0"/>
          <p:cNvSpPr/>
          <p:nvPr/>
        </p:nvSpPr>
        <p:spPr>
          <a:xfrm>
            <a:off x="4419720" y="281952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1" descr="235075-1305051I34235.jpg"/>
          <p:cNvPicPr/>
          <p:nvPr/>
        </p:nvPicPr>
        <p:blipFill>
          <a:blip r:embed="rId4"/>
          <a:stretch/>
        </p:blipFill>
        <p:spPr>
          <a:xfrm>
            <a:off x="3505320" y="1905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2"/>
          <p:cNvSpPr/>
          <p:nvPr/>
        </p:nvSpPr>
        <p:spPr>
          <a:xfrm>
            <a:off x="3962520" y="281952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a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3" descr="sing.jpg"/>
          <p:cNvPicPr/>
          <p:nvPr/>
        </p:nvPicPr>
        <p:blipFill>
          <a:blip r:embed="rId5"/>
          <a:stretch/>
        </p:blipFill>
        <p:spPr>
          <a:xfrm>
            <a:off x="3733920" y="2362320"/>
            <a:ext cx="3149640" cy="2361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4" descr="235075-1305051I34235.jpg"/>
          <p:cNvPicPr/>
          <p:nvPr/>
        </p:nvPicPr>
        <p:blipFill>
          <a:blip r:embed="rId6"/>
          <a:stretch/>
        </p:blipFill>
        <p:spPr>
          <a:xfrm>
            <a:off x="36576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5"/>
          <p:cNvSpPr/>
          <p:nvPr/>
        </p:nvSpPr>
        <p:spPr>
          <a:xfrm>
            <a:off x="4419720" y="312408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6" descr="235075-1305051I34235.jpg"/>
          <p:cNvPicPr/>
          <p:nvPr/>
        </p:nvPicPr>
        <p:blipFill>
          <a:blip r:embed="rId7"/>
          <a:stretch/>
        </p:blipFill>
        <p:spPr>
          <a:xfrm>
            <a:off x="3809880" y="2209680"/>
            <a:ext cx="3353040" cy="33530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7" descr="2008111991634218.gif"/>
          <p:cNvPicPr/>
          <p:nvPr/>
        </p:nvPicPr>
        <p:blipFill>
          <a:blip r:embed="rId8"/>
          <a:stretch/>
        </p:blipFill>
        <p:spPr>
          <a:xfrm>
            <a:off x="3657600" y="2209680"/>
            <a:ext cx="316224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990720" y="1447920"/>
            <a:ext cx="7467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n        Ff          Qq         Zz        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)       (   )         (   )        (   )       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           Ll          Rr          Ss        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)       (   )         (   )         (   )       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QQ截图20141204220145.png"/>
          <p:cNvPicPr/>
          <p:nvPr/>
        </p:nvPicPr>
        <p:blipFill>
          <a:blip r:embed="rId1"/>
          <a:stretch/>
        </p:blipFill>
        <p:spPr>
          <a:xfrm>
            <a:off x="228600" y="380880"/>
            <a:ext cx="399096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" descr="QQ截图20141204220158.png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3902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22860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go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n you re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y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es, I c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648320" y="4724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y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n you re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go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, I ca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5"/>
          <p:cNvSpPr/>
          <p:nvPr/>
        </p:nvSpPr>
        <p:spPr>
          <a:xfrm>
            <a:off x="228600" y="464832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y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n you 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go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es, I c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y: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OK! Let’s s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800600" y="47242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go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t’s s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y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! No, Gog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7" descr="QQ截图20141204220217.png"/>
          <p:cNvPicPr/>
          <p:nvPr/>
        </p:nvPicPr>
        <p:blipFill>
          <a:blip r:embed="rId1"/>
          <a:stretch/>
        </p:blipFill>
        <p:spPr>
          <a:xfrm>
            <a:off x="457200" y="457200"/>
            <a:ext cx="3952800" cy="37339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8" descr="QQ截图20141204220246.png"/>
          <p:cNvPicPr/>
          <p:nvPr/>
        </p:nvPicPr>
        <p:blipFill>
          <a:blip r:embed="rId2"/>
          <a:stretch/>
        </p:blipFill>
        <p:spPr>
          <a:xfrm>
            <a:off x="5334120" y="380880"/>
            <a:ext cx="2781360" cy="370836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10"/>
          <p:cNvSpPr/>
          <p:nvPr/>
        </p:nvSpPr>
        <p:spPr>
          <a:xfrm>
            <a:off x="2514600" y="63244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线形标注 1(带边框和强调线) 11"/>
          <p:cNvSpPr/>
          <p:nvPr/>
        </p:nvSpPr>
        <p:spPr>
          <a:xfrm>
            <a:off x="3809880" y="4038480"/>
            <a:ext cx="3429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89" y="58442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我们一起唱歌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矩形 1" descr=""/>
          <p:cNvPicPr/>
          <p:nvPr/>
        </p:nvPicPr>
        <p:blipFill>
          <a:blip r:embed="rId1"/>
          <a:stretch/>
        </p:blipFill>
        <p:spPr>
          <a:xfrm>
            <a:off x="396720" y="1036800"/>
            <a:ext cx="4394520" cy="12063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" descr="QQ截图20141204220145.png"/>
          <p:cNvPicPr/>
          <p:nvPr/>
        </p:nvPicPr>
        <p:blipFill>
          <a:blip r:embed="rId2"/>
          <a:stretch/>
        </p:blipFill>
        <p:spPr>
          <a:xfrm>
            <a:off x="4267080" y="2057400"/>
            <a:ext cx="399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5"/>
          <p:cNvSpPr/>
          <p:nvPr/>
        </p:nvSpPr>
        <p:spPr>
          <a:xfrm>
            <a:off x="1676520" y="1523880"/>
            <a:ext cx="4267080" cy="914400"/>
          </a:xfrm>
          <a:prstGeom prst="wedgeRoundRectCallout">
            <a:avLst>
              <a:gd name="adj1" fmla="val -41629"/>
              <a:gd name="adj2" fmla="val 69967"/>
              <a:gd name="adj3" fmla="val 16667"/>
            </a:avLst>
          </a:prstGeom>
          <a:noFill/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n you re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523880" y="2666880"/>
            <a:ext cx="5562720" cy="1524240"/>
          </a:xfrm>
          <a:prstGeom prst="wedgeRoundRectCallout">
            <a:avLst>
              <a:gd name="adj1" fmla="val 56421"/>
              <a:gd name="adj2" fmla="val 78958"/>
              <a:gd name="adj3" fmla="val 16667"/>
            </a:avLst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es, I c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about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1295280" y="4572000"/>
            <a:ext cx="5867640" cy="914400"/>
          </a:xfrm>
          <a:prstGeom prst="wedgeRoundRectCallout">
            <a:avLst>
              <a:gd name="adj1" fmla="val -47810"/>
              <a:gd name="adj2" fmla="val 101564"/>
              <a:gd name="adj3" fmla="val 16667"/>
            </a:avLst>
          </a:prstGeom>
          <a:noFill/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o, I can’t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ut I can f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257800" y="3581280"/>
            <a:ext cx="21337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你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762120" y="762120"/>
            <a:ext cx="1828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Target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9144000" y="1143000"/>
            <a:ext cx="4267080" cy="914400"/>
          </a:xfrm>
          <a:prstGeom prst="wedgeRoundRectCallout">
            <a:avLst>
              <a:gd name="adj1" fmla="val -36310"/>
              <a:gd name="adj2" fmla="val 46527"/>
              <a:gd name="adj3" fmla="val 16667"/>
            </a:avLst>
          </a:prstGeom>
          <a:noFill/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n you re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9144000" y="2438280"/>
            <a:ext cx="5562720" cy="1524240"/>
          </a:xfrm>
          <a:prstGeom prst="wedgeRoundRectCallout">
            <a:avLst>
              <a:gd name="adj1" fmla="val -26740"/>
              <a:gd name="adj2" fmla="val 52916"/>
              <a:gd name="adj3" fmla="val 16667"/>
            </a:avLst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es, I c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about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9372600" y="4038480"/>
            <a:ext cx="5867280" cy="914400"/>
          </a:xfrm>
          <a:prstGeom prst="wedgeRoundRectCallout">
            <a:avLst>
              <a:gd name="adj1" fmla="val -49837"/>
              <a:gd name="adj2" fmla="val 24828"/>
              <a:gd name="adj3" fmla="val 16667"/>
            </a:avLst>
          </a:prstGeom>
          <a:noFill/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o, I can’t. but I can f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609480" y="304920"/>
            <a:ext cx="3915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Fast eyes, fast mouth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503 -3.33333E-006 L -1.29166 -3.33333E-006 E">
                                      <p:cBhvr>
                                        <p:cTn id="192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17 3.33333E-006 L -1.3625 3.33333E-006 E">
                                      <p:cBhvr>
                                        <p:cTn id="196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083 4.44444E-006 L -1.4125 4.44444E-006 E">
                                      <p:cBhvr>
                                        <p:cTn id="200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143000" y="914400"/>
            <a:ext cx="18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Times New Roman"/>
              </a:rPr>
              <a:t>Activity 1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429000" y="8380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isten, read and m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6" descr="Activity 1.jpg"/>
          <p:cNvPicPr/>
          <p:nvPr/>
        </p:nvPicPr>
        <p:blipFill>
          <a:blip r:embed="rId3"/>
          <a:stretch/>
        </p:blipFill>
        <p:spPr>
          <a:xfrm>
            <a:off x="1143000" y="1828800"/>
            <a:ext cx="63244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1:12:47Z</dcterms:created>
  <dc:creator/>
  <dc:description/>
  <dc:language>en-US</dc:language>
  <cp:lastModifiedBy/>
  <dcterms:modified xsi:type="dcterms:W3CDTF">2016-12-26T01:32:35Z</dcterms:modified>
  <cp:revision>1</cp:revision>
  <dc:subject/>
  <dc:title/>
</cp:coreProperties>
</file>