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FAAC-D90B-4D2C-A5AC-3FEBCA06FC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988-7FCB-4A2F-A638-0BC3BFFADD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570D-BC12-43FA-9717-6AAFBF4766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1018-6887-44D4-BF79-5BB974A42E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A293-EE85-4BA0-93B3-D62064EA3C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3F0-D7D0-4E74-BBA9-5FBB88148A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FCA-7838-4DF9-9FAE-0086D35537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B8C9-2E12-4B2C-97F5-798D298AAFD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01EA-0F25-4692-9755-2114DFF293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35F5-EB51-4CB9-9E22-3883D74E0C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1799-DB25-42C4-86A7-4A221BB05D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D312-3019-4EEC-BF6E-F03EB62430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41F-FFBC-4E60-A43B-D5DA57B860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145-4A39-4914-92BD-012F17E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9DC-8D51-4457-BBA6-0E6BD192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0FE-1B1C-4911-AB07-A069B3A6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77F-AE21-4A8C-BE45-098D1BBC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566-D146-450B-BC56-295B0AA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2E2-F3BB-4E16-B9A4-39A891D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AA5-D0FB-4281-A1F1-53C6631F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528-0DF4-49C5-B65A-2E440B9E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1C3-9119-4164-8215-B7500C5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3CB-46ED-4218-859C-9921583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FA8-CD70-41F3-A7CE-6900B37F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88E-1B2F-444A-A19A-18524F7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E95B-1952-426E-B513-36E3369EF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bread.wav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5.png"/><Relationship Id="rId6" Type="http://schemas.openxmlformats.org/officeDocument/2006/relationships/image" Target="../media/image18.png"/><Relationship Id="rId7" Type="http://schemas.openxmlformats.org/officeDocument/2006/relationships/image" Target="../media/image9.jpeg"/><Relationship Id="rId8" Type="http://schemas.openxmlformats.org/officeDocument/2006/relationships/image" Target="../media/image19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3%E6%CC%F5&amp;in=32591&amp;cl=2&amp;lm=-1&amp;pn=0&amp;rn=1&amp;di=11826261315&amp;ln=2000&amp;fr=&amp;fmq=&amp;ic=0&amp;s=0&amp;se=1&amp;sme=0&amp;tab=&amp;width=&amp;height=&amp;face=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089241545931954"/>
          <p:cNvPicPr/>
          <p:nvPr/>
        </p:nvPicPr>
        <p:blipFill>
          <a:blip r:embed="rId1"/>
          <a:srcRect l="0" t="0" r="0" b="6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2743200" y="990720"/>
            <a:ext cx="388944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Unit 7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447920" y="2666880"/>
            <a:ext cx="6867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Food and drink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505320" y="46483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66ff"/>
                </a:solidFill>
                <a:uFillTx/>
                <a:latin typeface="Arial"/>
              </a:rPr>
              <a:t>食物和饮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2008112102249194"/>
          <p:cNvPicPr/>
          <p:nvPr/>
        </p:nvPicPr>
        <p:blipFill>
          <a:blip r:embed="rId2"/>
          <a:stretch/>
        </p:blipFill>
        <p:spPr>
          <a:xfrm>
            <a:off x="7238880" y="9144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what do you like.wav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64008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62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t"/>
          <p:cNvPicPr/>
          <p:nvPr/>
        </p:nvPicPr>
        <p:blipFill>
          <a:blip r:embed="rId1"/>
          <a:stretch/>
        </p:blipFill>
        <p:spPr>
          <a:xfrm>
            <a:off x="-299880" y="0"/>
            <a:ext cx="97488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371600" y="190512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Review the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0093300162989491"/>
          <p:cNvPicPr/>
          <p:nvPr/>
        </p:nvPicPr>
        <p:blipFill>
          <a:blip r:embed="rId1"/>
          <a:srcRect l="0" t="0" r="0" b="77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u=148902071,423426147&amp;fm=0&amp;gp=0">
            <a:hlinkClick r:id="rId2"/>
          </p:cNvPr>
          <p:cNvPicPr/>
          <p:nvPr/>
        </p:nvPicPr>
        <p:blipFill>
          <a:blip r:embed="rId3"/>
          <a:srcRect l="0" t="0" r="0" b="8806"/>
          <a:stretch/>
        </p:blipFill>
        <p:spPr>
          <a:xfrm>
            <a:off x="914400" y="350532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8" descr=""/>
          <p:cNvPicPr/>
          <p:nvPr/>
        </p:nvPicPr>
        <p:blipFill>
          <a:blip r:embed="rId4"/>
          <a:stretch/>
        </p:blipFill>
        <p:spPr>
          <a:xfrm>
            <a:off x="603360" y="133200"/>
            <a:ext cx="2846160" cy="98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11_001A"/>
          <p:cNvPicPr/>
          <p:nvPr/>
        </p:nvPicPr>
        <p:blipFill>
          <a:blip r:embed="rId5"/>
          <a:srcRect l="18728" t="11772" r="20668" b="15300"/>
          <a:stretch/>
        </p:blipFill>
        <p:spPr>
          <a:xfrm>
            <a:off x="914400" y="1143000"/>
            <a:ext cx="1066680" cy="685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1828800" y="11430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ke, cake. I  like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362320" y="19051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oodles, noodles. I  like noo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2362320" y="35053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read, bread. I  like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11_003A"/>
          <p:cNvPicPr/>
          <p:nvPr/>
        </p:nvPicPr>
        <p:blipFill>
          <a:blip r:embed="rId6"/>
          <a:stretch/>
        </p:blipFill>
        <p:spPr>
          <a:xfrm>
            <a:off x="990720" y="274320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5"/>
          <p:cNvSpPr/>
          <p:nvPr/>
        </p:nvSpPr>
        <p:spPr>
          <a:xfrm>
            <a:off x="2362320" y="2666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ce cream, ice cream. I like ice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2362320" y="51814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ilk, milk. I like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362320" y="4419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ice, rice. I like 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u=62613982,2093113699&amp;fm=0&amp;gp=0"/>
          <p:cNvPicPr/>
          <p:nvPr/>
        </p:nvPicPr>
        <p:blipFill>
          <a:blip r:embed="rId7"/>
          <a:stretch/>
        </p:blipFill>
        <p:spPr>
          <a:xfrm>
            <a:off x="990720" y="4343400"/>
            <a:ext cx="914400" cy="70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2419558_221735216163_2"/>
          <p:cNvPicPr/>
          <p:nvPr/>
        </p:nvPicPr>
        <p:blipFill>
          <a:blip r:embed="rId8"/>
          <a:stretch/>
        </p:blipFill>
        <p:spPr>
          <a:xfrm>
            <a:off x="914400" y="5181480"/>
            <a:ext cx="1066680" cy="82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2" descr="u=622558671,1723620840&amp;fm=0&amp;gp=0"/>
          <p:cNvPicPr/>
          <p:nvPr/>
        </p:nvPicPr>
        <p:blipFill>
          <a:blip r:embed="rId9"/>
          <a:stretch/>
        </p:blipFill>
        <p:spPr>
          <a:xfrm>
            <a:off x="914400" y="1905120"/>
            <a:ext cx="10666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H:\相\555459fd387af10109244d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2"/>
          <p:cNvSpPr txBox="1"/>
          <p:nvPr/>
        </p:nvSpPr>
        <p:spPr>
          <a:xfrm rot="21408600">
            <a:off x="1218960" y="685440"/>
            <a:ext cx="63244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Thank you!</a:t>
            </a:r>
            <a:endParaRPr b="1" lang="en-US" sz="96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362320" y="1981080"/>
            <a:ext cx="8305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Can you e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What do you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4"/>
          <p:cNvSpPr/>
          <p:nvPr/>
        </p:nvSpPr>
        <p:spPr>
          <a:xfrm>
            <a:off x="1295280" y="190404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         .Yu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11_001A"/>
          <p:cNvPicPr/>
          <p:nvPr/>
        </p:nvPicPr>
        <p:blipFill>
          <a:blip r:embed="rId1"/>
          <a:srcRect l="18728" t="11772" r="20668" b="15300"/>
          <a:stretch/>
        </p:blipFill>
        <p:spPr>
          <a:xfrm>
            <a:off x="6629400" y="773280"/>
            <a:ext cx="1905120" cy="1223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4"/>
          <p:cNvSpPr/>
          <p:nvPr/>
        </p:nvSpPr>
        <p:spPr>
          <a:xfrm>
            <a:off x="3962520" y="190512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蛋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219320" y="182772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             .Yu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=622558671,1723620840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685800"/>
            <a:ext cx="1523880" cy="1189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429000" y="1828800"/>
            <a:ext cx="2820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nood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面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236124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                   .Yu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1_003A"/>
          <p:cNvPicPr/>
          <p:nvPr/>
        </p:nvPicPr>
        <p:blipFill>
          <a:blip r:embed="rId1"/>
          <a:srcRect l="32689" t="2952" r="32718" b="-1752"/>
          <a:stretch/>
        </p:blipFill>
        <p:spPr>
          <a:xfrm>
            <a:off x="7491240" y="762120"/>
            <a:ext cx="1202040" cy="1788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3276720" y="2362320"/>
            <a:ext cx="3276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ice-c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雪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90720" y="213264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           .Yu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124080" y="2133720"/>
            <a:ext cx="23623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b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面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200852791519871_2"/>
          <p:cNvPicPr/>
          <p:nvPr/>
        </p:nvPicPr>
        <p:blipFill>
          <a:blip r:embed="rId1"/>
          <a:srcRect l="0" t="0" r="0" b="6729"/>
          <a:stretch/>
        </p:blipFill>
        <p:spPr>
          <a:xfrm>
            <a:off x="5181480" y="2286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990720" y="24372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         .Yu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u=62613982,2093113699&amp;fm=0&amp;gp=0"/>
          <p:cNvPicPr/>
          <p:nvPr/>
        </p:nvPicPr>
        <p:blipFill>
          <a:blip r:embed="rId1"/>
          <a:stretch/>
        </p:blipFill>
        <p:spPr>
          <a:xfrm>
            <a:off x="6400800" y="614520"/>
            <a:ext cx="1828800" cy="1720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3733920" y="243828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r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米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236124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like          .Yum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733920" y="2362320"/>
            <a:ext cx="2361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mil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牛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2419558_221735216163_2"/>
          <p:cNvPicPr/>
          <p:nvPr/>
        </p:nvPicPr>
        <p:blipFill>
          <a:blip r:embed="rId1"/>
          <a:srcRect l="0" t="0" r="0" b="4842"/>
          <a:stretch/>
        </p:blipFill>
        <p:spPr>
          <a:xfrm>
            <a:off x="5867280" y="38088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1_001A"/>
          <p:cNvPicPr/>
          <p:nvPr/>
        </p:nvPicPr>
        <p:blipFill>
          <a:blip r:embed="rId1"/>
          <a:srcRect l="18728" t="11772" r="20668" b="15300"/>
          <a:stretch/>
        </p:blipFill>
        <p:spPr>
          <a:xfrm>
            <a:off x="609480" y="228600"/>
            <a:ext cx="190512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1_009A"/>
          <p:cNvPicPr/>
          <p:nvPr/>
        </p:nvPicPr>
        <p:blipFill>
          <a:blip r:embed="rId2"/>
          <a:stretch/>
        </p:blipFill>
        <p:spPr>
          <a:xfrm>
            <a:off x="3657600" y="228600"/>
            <a:ext cx="1752480" cy="151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1_003A"/>
          <p:cNvPicPr/>
          <p:nvPr/>
        </p:nvPicPr>
        <p:blipFill>
          <a:blip r:embed="rId3"/>
          <a:srcRect l="32689" t="2952" r="32718" b="-1752"/>
          <a:stretch/>
        </p:blipFill>
        <p:spPr>
          <a:xfrm>
            <a:off x="6858000" y="228600"/>
            <a:ext cx="102384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200852791519871_2"/>
          <p:cNvPicPr/>
          <p:nvPr/>
        </p:nvPicPr>
        <p:blipFill>
          <a:blip r:embed="rId4"/>
          <a:srcRect l="0" t="0" r="0" b="4552"/>
          <a:stretch/>
        </p:blipFill>
        <p:spPr>
          <a:xfrm>
            <a:off x="838080" y="36576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u=62613982,2093113699&amp;fm=0&amp;gp=0"/>
          <p:cNvPicPr/>
          <p:nvPr/>
        </p:nvPicPr>
        <p:blipFill>
          <a:blip r:embed="rId5"/>
          <a:stretch/>
        </p:blipFill>
        <p:spPr>
          <a:xfrm>
            <a:off x="3809880" y="3581280"/>
            <a:ext cx="1752840" cy="164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QQ截图20141215103613"/>
          <p:cNvPicPr/>
          <p:nvPr/>
        </p:nvPicPr>
        <p:blipFill>
          <a:blip r:embed="rId6"/>
          <a:stretch/>
        </p:blipFill>
        <p:spPr>
          <a:xfrm>
            <a:off x="6629400" y="3352680"/>
            <a:ext cx="107964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685800" y="19810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352680" y="205740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nood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095880" y="19810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ice cr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477120" y="5638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mil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809880" y="56386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r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838080" y="56386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br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40:57Z</dcterms:created>
  <dc:creator/>
  <dc:description/>
  <dc:language>en-US</dc:language>
  <cp:lastModifiedBy/>
  <dcterms:modified xsi:type="dcterms:W3CDTF">2016-12-26T01:44:22Z</dcterms:modified>
  <cp:revision>1</cp:revision>
  <dc:subject/>
  <dc:title/>
</cp:coreProperties>
</file>