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7.jpeg" ContentType="image/jpeg"/>
  <Override PartName="/ppt/media/image28.jpeg" ContentType="image/jpeg"/>
  <Override PartName="/ppt/media/image27.png" ContentType="image/png"/>
  <Override PartName="/ppt/media/image9.jpeg" ContentType="image/jpeg"/>
  <Override PartName="/ppt/media/image11.jpeg" ContentType="image/jpeg"/>
  <Override PartName="/ppt/media/image25.gif" ContentType="image/gif"/>
  <Override PartName="/ppt/media/image18.png" ContentType="image/png"/>
  <Override PartName="/ppt/media/image6.jpeg" ContentType="image/jpeg"/>
  <Override PartName="/ppt/media/image4.png" ContentType="image/png"/>
  <Override PartName="/ppt/media/image12.jpeg" ContentType="image/jpeg"/>
  <Override PartName="/ppt/media/hammer.wav" ContentType="audio/x-wav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projctor.wav" ContentType="audio/x-wav"/>
  <Override PartName="/ppt/media/image16.png" ContentType="image/png"/>
  <Override PartName="/ppt/media/camera.wav" ContentType="audio/x-wav"/>
  <Override PartName="/ppt/media/chimes.wav" ContentType="audio/x-wav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55E-9DC6-4E17-84AC-D7B5662D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969-E5E1-4789-9DC8-DABD5D1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F7E-FE55-493F-B9D4-55C96950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FA6-2E46-4615-B86B-7DF9986D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1D1-46CE-4841-BBF8-DF4808D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135-5B0D-40B7-B7BC-9D8D6312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506-6A1E-4150-A051-C584DFB9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0C3-9A2D-49D9-8F05-F0CB1A9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239-0B74-4501-8666-7C415DEB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A24-4AE9-4044-B059-B8F4F09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831-0549-4A02-A645-54DA4D6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199-61F3-4FA9-8E82-555966D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0AB-9F9A-4250-9028-9AE79C489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3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9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050920" y="333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她长什么样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55640" y="5302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Edwardian Script ITC"/>
                <a:ea typeface="华文琥珀"/>
              </a:rPr>
              <a:t>What  does  </a:t>
            </a:r>
            <a:r>
              <a:rPr b="1" i="1" lang="zh-CN" sz="4400" spc="-1" strike="noStrike">
                <a:solidFill>
                  <a:srgbClr val="000000"/>
                </a:solidFill>
                <a:latin typeface="Edwardian Script ITC"/>
                <a:ea typeface="华文琥珀"/>
              </a:rPr>
              <a:t>s</a:t>
            </a:r>
            <a:r>
              <a:rPr b="1" i="1" lang="en-GB" sz="4400" spc="-1" strike="noStrike">
                <a:solidFill>
                  <a:srgbClr val="000000"/>
                </a:solidFill>
                <a:latin typeface="Edwardian Script ITC"/>
                <a:ea typeface="华文琥珀"/>
              </a:rPr>
              <a:t>he  look like ?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2050920" y="1413000"/>
            <a:ext cx="2162160" cy="2089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4"/>
          <p:cNvPicPr/>
          <p:nvPr/>
        </p:nvPicPr>
        <p:blipFill>
          <a:blip r:embed="rId2"/>
          <a:stretch/>
        </p:blipFill>
        <p:spPr>
          <a:xfrm>
            <a:off x="6661080" y="3357720"/>
            <a:ext cx="1800360" cy="169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8"/>
          <p:cNvPicPr/>
          <p:nvPr/>
        </p:nvPicPr>
        <p:blipFill>
          <a:blip r:embed="rId3"/>
          <a:stretch/>
        </p:blipFill>
        <p:spPr>
          <a:xfrm>
            <a:off x="5076720" y="1125360"/>
            <a:ext cx="2009880" cy="187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5"/>
          <p:cNvPicPr/>
          <p:nvPr/>
        </p:nvPicPr>
        <p:blipFill>
          <a:blip r:embed="rId4"/>
          <a:stretch/>
        </p:blipFill>
        <p:spPr>
          <a:xfrm>
            <a:off x="4284720" y="2925720"/>
            <a:ext cx="15112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姚明3"/>
          <p:cNvPicPr/>
          <p:nvPr/>
        </p:nvPicPr>
        <p:blipFill>
          <a:blip r:embed="rId1"/>
          <a:stretch/>
        </p:blipFill>
        <p:spPr>
          <a:xfrm>
            <a:off x="2195640" y="549360"/>
            <a:ext cx="4481280" cy="597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潘长江3"/>
          <p:cNvPicPr/>
          <p:nvPr/>
        </p:nvPicPr>
        <p:blipFill>
          <a:blip r:embed="rId2"/>
          <a:stretch/>
        </p:blipFill>
        <p:spPr>
          <a:xfrm>
            <a:off x="755640" y="378936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55640" y="2637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h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403280" y="105264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2410920" y="148428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V="1">
            <a:off x="1547640" y="3428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7772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at does he look lik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e 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16240" y="1052640"/>
            <a:ext cx="341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eye</a:t>
            </a: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52960" y="3716280"/>
            <a:ext cx="426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smal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eye</a:t>
            </a: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822280" y="2060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Calibri"/>
                <a:ea typeface="隶书"/>
              </a:rPr>
              <a:t>大眼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50640" y="4869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Calibri"/>
                <a:ea typeface="隶书"/>
              </a:rPr>
              <a:t>小眼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916360" y="1268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:What 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d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Jack  Chen 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look lik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56000" y="3070080"/>
            <a:ext cx="7057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: H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has </a:t>
            </a:r>
            <a:r>
              <a:rPr b="1" i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short hair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He </a:t>
            </a: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has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Times New Roman"/>
              </a:rPr>
              <a:t>big eye</a:t>
            </a: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s 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Times New Roman"/>
              </a:rPr>
              <a:t>short</a:t>
            </a:r>
            <a:r>
              <a:rPr b="1" i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s 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Times New Roman"/>
              </a:rPr>
              <a:t>old</a:t>
            </a:r>
            <a:r>
              <a:rPr b="1" i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成龙3"/>
          <p:cNvPicPr/>
          <p:nvPr/>
        </p:nvPicPr>
        <p:blipFill>
          <a:blip r:embed="rId1"/>
          <a:stretch/>
        </p:blipFill>
        <p:spPr>
          <a:xfrm>
            <a:off x="108000" y="44280"/>
            <a:ext cx="244800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360" y="1849320"/>
            <a:ext cx="3672000" cy="4480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rt 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ng 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big eye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small eye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round f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343400" y="99072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716360" y="1844640"/>
            <a:ext cx="4267440" cy="3749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yo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9640" y="83664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ave, has 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8360" y="836640"/>
            <a:ext cx="42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s, am, are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50920" y="189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描述人的长相用动词 </a:t>
            </a:r>
            <a:r>
              <a:rPr b="1" i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be 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还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476360" y="189000"/>
            <a:ext cx="68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:What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ook lik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771640" y="1557360"/>
            <a:ext cx="6659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 She has___ha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e is 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004111894528"/>
          <p:cNvPicPr/>
          <p:nvPr/>
        </p:nvPicPr>
        <p:blipFill>
          <a:blip r:embed="rId1"/>
          <a:srcRect l="30661" t="-5472" r="23873" b="0"/>
          <a:stretch/>
        </p:blipFill>
        <p:spPr>
          <a:xfrm>
            <a:off x="179280" y="1197000"/>
            <a:ext cx="25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031120120102zhaowei"/>
          <p:cNvPicPr/>
          <p:nvPr/>
        </p:nvPicPr>
        <p:blipFill>
          <a:blip r:embed="rId2"/>
          <a:stretch/>
        </p:blipFill>
        <p:spPr>
          <a:xfrm>
            <a:off x="0" y="1557360"/>
            <a:ext cx="290196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3635280" y="4149720"/>
            <a:ext cx="5183280" cy="703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short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nd,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韩红"/>
          <p:cNvPicPr/>
          <p:nvPr/>
        </p:nvPicPr>
        <p:blipFill>
          <a:blip r:embed="rId3"/>
          <a:srcRect l="7703" t="0" r="17107" b="0"/>
          <a:stretch/>
        </p:blipFill>
        <p:spPr>
          <a:xfrm>
            <a:off x="0" y="1484280"/>
            <a:ext cx="2916360" cy="4276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OPD0582"/>
          <p:cNvPicPr/>
          <p:nvPr/>
        </p:nvPicPr>
        <p:blipFill>
          <a:blip r:embed="rId1"/>
          <a:stretch/>
        </p:blipFill>
        <p:spPr>
          <a:xfrm>
            <a:off x="1187280" y="620640"/>
            <a:ext cx="2514600" cy="5410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574524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long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788000" y="1773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228560" y="155736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does 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068720" y="2492280"/>
            <a:ext cx="396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 is ____ and 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 has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81440" y="3000240"/>
            <a:ext cx="14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Calibri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57880" y="2357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箭头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021360"/>
            <a:ext cx="5810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0" y="-169920"/>
            <a:ext cx="41752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Summar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907920"/>
            <a:ext cx="734400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ook lik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all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a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hort ha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ook lik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 round fac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828720" y="765000"/>
            <a:ext cx="79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Chinese teacher is Mr Yang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does 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He has small eyes and .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at's Mr Ya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哪位同学愿意用自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描述右图小女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6516720" y="3141720"/>
          <a:ext cx="262728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141720"/>
                    <a:ext cx="262728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4"/>
          <p:cNvSpPr/>
          <p:nvPr/>
        </p:nvSpPr>
        <p:spPr>
          <a:xfrm>
            <a:off x="2700360" y="177336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828800" y="2209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44720" y="-25560"/>
            <a:ext cx="7794360" cy="83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r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rs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iss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姐  一般用来指未结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an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Mr               B. Mrs            C. 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3809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057400" y="38098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 flipV="1">
            <a:off x="2133720" y="4508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114800" y="1676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62520" y="18288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56400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6"/>
          <p:cNvSpPr txBox="1"/>
          <p:nvPr/>
        </p:nvSpPr>
        <p:spPr>
          <a:xfrm>
            <a:off x="6248520" y="304920"/>
            <a:ext cx="25621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have a try!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689120" y="260280"/>
            <a:ext cx="51768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三、翻译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96720" y="836640"/>
            <a:ext cx="9294840" cy="57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他长得什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 _______ he _______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她有一张圆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_______ gi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我很高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_______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all/short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他很年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_______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我的新语文老师不高，她有一个圆脸和一对小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new Chine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ach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i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______ ______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She ha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6920" y="1197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979640" y="1197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492360" y="112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859280" y="1197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76360" y="1917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rou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826920" y="29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042920" y="386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124000" y="378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4356000" y="465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5435640" y="465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1187280" y="53020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a rou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3492360" y="5373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ahoma"/>
              </a:rPr>
              <a:t>small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0203281373_88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48" name="Line 3"/>
          <p:cNvSpPr/>
          <p:nvPr/>
        </p:nvSpPr>
        <p:spPr>
          <a:xfrm flipV="1">
            <a:off x="5003640" y="1125000"/>
            <a:ext cx="863640" cy="28764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40360" y="62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716360" y="1557360"/>
            <a:ext cx="1224000" cy="2160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867280" y="1341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n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276720" y="836280"/>
            <a:ext cx="790560" cy="43164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260280"/>
            <a:ext cx="15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39640" y="5950080"/>
            <a:ext cx="230508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572000" y="1773360"/>
            <a:ext cx="1440000" cy="71892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012000" y="2205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mo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2916000" y="1557360"/>
            <a:ext cx="1368360" cy="2160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547640" y="1268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f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 flipH="1">
            <a:off x="1476000" y="2421000"/>
            <a:ext cx="1582920" cy="43164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68360" y="242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5219640" y="1628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8172360" y="170028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图片4"/>
          <p:cNvPicPr/>
          <p:nvPr/>
        </p:nvPicPr>
        <p:blipFill>
          <a:blip r:embed="rId1"/>
          <a:stretch/>
        </p:blipFill>
        <p:spPr>
          <a:xfrm>
            <a:off x="-322200" y="-453960"/>
            <a:ext cx="9750240" cy="7311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340000" y="90792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2771640" y="98100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Goodbye</a:t>
            </a:r>
            <a:endParaRPr b="1" i="1" lang="en-US" sz="96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2171880" y="310824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Thanks for joining us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581711728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12000" y="1557000"/>
            <a:ext cx="223344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r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356000" y="981000"/>
            <a:ext cx="2016360" cy="71928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292360" y="1557360"/>
            <a:ext cx="2027160" cy="8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ng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1103_20051027_398"/>
          <p:cNvPicPr/>
          <p:nvPr/>
        </p:nvPicPr>
        <p:blipFill>
          <a:blip r:embed="rId1"/>
          <a:stretch/>
        </p:blipFill>
        <p:spPr>
          <a:xfrm>
            <a:off x="11160" y="12600"/>
            <a:ext cx="4816440" cy="68137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3924360" y="1268280"/>
            <a:ext cx="1800000" cy="4320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58053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has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long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0" y="5805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has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short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=4137933428,3788212240&amp;gp=1"/>
          <p:cNvPicPr/>
          <p:nvPr/>
        </p:nvPicPr>
        <p:blipFill>
          <a:blip r:embed="rId1"/>
          <a:stretch/>
        </p:blipFill>
        <p:spPr>
          <a:xfrm>
            <a:off x="611280" y="1844640"/>
            <a:ext cx="201780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395280" y="0"/>
            <a:ext cx="5761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Franklin Gothic Medium"/>
              </a:rPr>
              <a:t>What does he/she look like?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6732720" y="404640"/>
            <a:ext cx="172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hai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74" name="Picture 7" descr="u=3261170596,538332581&amp;gp=1"/>
          <p:cNvPicPr/>
          <p:nvPr/>
        </p:nvPicPr>
        <p:blipFill>
          <a:blip r:embed="rId2"/>
          <a:stretch/>
        </p:blipFill>
        <p:spPr>
          <a:xfrm>
            <a:off x="4859280" y="1916280"/>
            <a:ext cx="22320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ages01"/>
          <p:cNvPicPr/>
          <p:nvPr/>
        </p:nvPicPr>
        <p:blipFill>
          <a:blip r:embed="rId1"/>
          <a:stretch/>
        </p:blipFill>
        <p:spPr>
          <a:xfrm>
            <a:off x="5940360" y="2349360"/>
            <a:ext cx="2289240" cy="257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images06"/>
          <p:cNvPicPr/>
          <p:nvPr/>
        </p:nvPicPr>
        <p:blipFill>
          <a:blip r:embed="rId2"/>
          <a:stretch/>
        </p:blipFill>
        <p:spPr>
          <a:xfrm>
            <a:off x="611280" y="2133720"/>
            <a:ext cx="218268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>
            <a:hlinkClick r:id="rId3" action="ppaction://hlinksldjump"/>
          </p:cNvPr>
          <p:cNvSpPr/>
          <p:nvPr/>
        </p:nvSpPr>
        <p:spPr>
          <a:xfrm>
            <a:off x="4230360" y="5373720"/>
            <a:ext cx="32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ong 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A0J674V"/>
          <p:cNvPicPr/>
          <p:nvPr/>
        </p:nvPicPr>
        <p:blipFill>
          <a:blip r:embed="rId4"/>
          <a:stretch/>
        </p:blipFill>
        <p:spPr>
          <a:xfrm>
            <a:off x="3059280" y="2205000"/>
            <a:ext cx="2373120" cy="2806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684360" y="5445000"/>
            <a:ext cx="32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95280" y="189000"/>
            <a:ext cx="83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do they 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look lik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221788295"/>
          <p:cNvPicPr/>
          <p:nvPr/>
        </p:nvPicPr>
        <p:blipFill>
          <a:blip r:embed="rId1"/>
          <a:stretch/>
        </p:blipFill>
        <p:spPr>
          <a:xfrm>
            <a:off x="2124000" y="54000"/>
            <a:ext cx="3981600" cy="6778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7363080" y="333360"/>
            <a:ext cx="53604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0240" y="2014560"/>
            <a:ext cx="688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364000" y="836280"/>
            <a:ext cx="1800360" cy="57636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476360" y="2421000"/>
            <a:ext cx="1008000" cy="57636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7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757480" y="184464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sh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8360" y="5445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age9"/>
          <p:cNvPicPr/>
          <p:nvPr/>
        </p:nvPicPr>
        <p:blipFill>
          <a:blip r:embed="rId2"/>
          <a:stretch/>
        </p:blipFill>
        <p:spPr>
          <a:xfrm>
            <a:off x="6877080" y="2924280"/>
            <a:ext cx="88884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714680" y="260280"/>
            <a:ext cx="680400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rebuchet MS"/>
                <a:ea typeface="方正舒体"/>
              </a:rPr>
              <a:t>What does he/she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ym12"/>
          <p:cNvPicPr/>
          <p:nvPr/>
        </p:nvPicPr>
        <p:blipFill>
          <a:blip r:embed="rId3"/>
          <a:stretch/>
        </p:blipFill>
        <p:spPr>
          <a:xfrm>
            <a:off x="539640" y="836640"/>
            <a:ext cx="183528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95280" y="0"/>
            <a:ext cx="5761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Franklin Gothic Medium"/>
              </a:rPr>
              <a:t>What does she look like?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11640" y="587700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has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Calibri"/>
              </a:rPr>
              <a:t>a round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http_imgload6"/>
          <p:cNvPicPr/>
          <p:nvPr/>
        </p:nvPicPr>
        <p:blipFill>
          <a:blip r:embed="rId1"/>
          <a:stretch/>
        </p:blipFill>
        <p:spPr>
          <a:xfrm>
            <a:off x="3924360" y="1197000"/>
            <a:ext cx="309564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7T06:2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