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F62-50A7-416F-A2A9-5FB4B79F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A9C-15C6-4328-A142-AC1BC4D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348-3D4A-45C9-ABDE-CAA91DB4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D20-6C8D-4614-B511-B52D9549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34E-97C1-4958-BA48-35F7FE1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A75-A922-457E-8A26-B47B9CC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8DD4-60E9-4915-B0E6-EE8E645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AA47-B84A-4F54-8EF0-68BFB765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7ED-68B8-4C5F-B238-F6990564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FFF-33BD-4799-8988-3E78EF6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B05-09BB-47CE-BA37-F3006564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F74-341F-4F24-BFAC-91EF0B29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CA51-3F08-419C-B23A-E92C84A22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57360"/>
            <a:ext cx="9144000" cy="23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Comic Sans MS"/>
              </a:rPr>
              <a:t>Unit 3</a:t>
            </a:r>
            <a:r>
              <a:rPr b="1" lang="zh-CN" sz="44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Comic Sans MS"/>
              </a:rPr>
              <a:t>Do you want some ric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42800" y="1890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华文新魏"/>
              </a:rPr>
              <a:t>（湘少版）英语五年级上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549360"/>
            <a:ext cx="8534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The children are having lunch in Lingling’s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华文新魏"/>
              </a:rPr>
              <a:t>Mrs Chen: Do you want some rice, P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Peter: Yes, please. Thank you, Mrs 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华文新魏"/>
              </a:rPr>
              <a:t>Mrs Chen: Do you want some soup, An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Anne: Yes, please, Mrs Ch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华文新魏"/>
              </a:rPr>
              <a:t>Mrs Chen: Do you want some soup, Dongd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Dongdong: No, Mummy. I want some m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vegetables, pl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  <a:ea typeface="华文新魏"/>
              </a:rPr>
              <a:t>Mrs Chen: Here you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  <a:ea typeface="华文新魏"/>
              </a:rPr>
              <a:t>Dongdong: Thank you very much, Mo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5280" y="549360"/>
            <a:ext cx="799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Pair works: A survey(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调查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 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  <a:ea typeface="华文新魏"/>
              </a:rPr>
              <a:t>Useful sentences</a:t>
            </a:r>
            <a:r>
              <a:rPr b="1" lang="zh-CN" sz="4000" spc="-1" strike="noStrike">
                <a:solidFill>
                  <a:srgbClr val="ff7c80"/>
                </a:solidFill>
                <a:latin typeface="Comic Sans MS"/>
                <a:ea typeface="华文新魏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Do you want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Yes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No, 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1052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  <a:ea typeface="华文新魏"/>
              </a:rPr>
              <a:t>homewor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2854440"/>
            <a:ext cx="6969240" cy="1556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抄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部分单词各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1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遍，并默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第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页的课文读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476280"/>
            <a:ext cx="9144000" cy="74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600" spc="-1" strike="noStrike">
                <a:solidFill>
                  <a:srgbClr val="ff0000"/>
                </a:solidFill>
                <a:latin typeface="Monotype Corsiva"/>
                <a:ea typeface="华文新魏"/>
              </a:rPr>
              <a:t>Thank  you</a:t>
            </a:r>
            <a:r>
              <a:rPr b="1" lang="en-US" sz="12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600" spc="-1" strike="noStrike">
                <a:solidFill>
                  <a:srgbClr val="ff6600"/>
                </a:solidFill>
                <a:latin typeface="Arial"/>
                <a:ea typeface="华文新魏"/>
              </a:rPr>
              <a:t>谢谢！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66800" y="74304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76280"/>
            <a:ext cx="5783040" cy="764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Game: Funny 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4920" y="1962000"/>
            <a:ext cx="863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Draw a long face. There are two small eyes on the face. There are two big ears on the h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8560" y="4076640"/>
            <a:ext cx="732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Draw a round n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Draw a big mo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Draw some short hair on the hea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4494240" cy="316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92720" y="66672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bread and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9360" y="4191120"/>
            <a:ext cx="3878280" cy="764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840200" cy="322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3718080"/>
            <a:ext cx="3958920" cy="253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65800" y="476280"/>
            <a:ext cx="37796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beef and sou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78520" y="3403440"/>
            <a:ext cx="1835280" cy="764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4319640" cy="6492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88000" y="620640"/>
            <a:ext cx="3441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noodles and vege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5440" y="3645000"/>
            <a:ext cx="2951280" cy="825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din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19280" y="4581360"/>
            <a:ext cx="25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华文新魏"/>
              </a:rPr>
              <a:t>soup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76720" y="450864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汤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59706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-25560"/>
            <a:ext cx="56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Narrow"/>
                <a:ea typeface="华文新魏"/>
              </a:rPr>
              <a:t>vegetabl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33336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蔬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5937120" cy="421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000" y="5877000"/>
            <a:ext cx="8928000" cy="7034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Vegetables are healthy to our bo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140360" y="981000"/>
            <a:ext cx="525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 Narrow"/>
                <a:ea typeface="华文新魏"/>
              </a:rPr>
              <a:t>toma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西红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840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76720" y="1917720"/>
            <a:ext cx="42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potato 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新魏"/>
              </a:rPr>
              <a:t>马铃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3214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7-10-27T06:32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