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3B4-B3CE-430A-B03D-C1E3D81C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7E0-0716-416C-B402-44548AC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557-2E33-4FF7-AC42-D95CB68E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F44-66CA-4A0C-88F7-09EAD3C6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AE9-D607-4FAC-96B4-BFDADB0C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354-2156-4BFF-B065-130FD86A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3D5-8F97-48A0-BF08-CE15CA0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6DF-DB1C-46C5-BFF9-B622CA97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DF1-B2C3-4582-B0F3-FFCD056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812-02B3-448F-B83A-ABC78D6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413-949B-40DF-8664-A3A8F62C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773-6660-413F-BE9D-F283A65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219-CB85-4B34-9D33-49F9F36D6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623268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0720" y="1700280"/>
            <a:ext cx="2565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cc"/>
                </a:solidFill>
                <a:latin typeface="Times New Roman"/>
              </a:rPr>
              <a:t>Unit10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0160" y="2997360"/>
            <a:ext cx="62751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3300"/>
                </a:solidFill>
                <a:latin typeface="Times New Roman"/>
              </a:rPr>
              <a:t>What does that sign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3300"/>
                </a:solidFill>
                <a:latin typeface="Times New Roman"/>
              </a:rPr>
              <a:t>mean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3141720"/>
            <a:ext cx="777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Comic Sans MS"/>
              </a:rPr>
              <a:t>What does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Comic Sans MS"/>
              </a:rPr>
              <a:t>this sign mean?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660840" cy="21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59480" y="3141720"/>
            <a:ext cx="5174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It means</a:t>
            </a: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5000" spc="-1" strike="noStrike" u="sng">
                <a:solidFill>
                  <a:srgbClr val="ff0000"/>
                </a:solidFill>
                <a:uFillTx/>
                <a:latin typeface="Comic Sans MS"/>
              </a:rPr>
              <a:t>You can go ou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000" spc="-1" strike="noStrike" u="sng">
                <a:solidFill>
                  <a:srgbClr val="ff0000"/>
                </a:solidFill>
                <a:uFillTx/>
                <a:latin typeface="Comic Sans MS"/>
              </a:rPr>
              <a:t>from there</a:t>
            </a: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608720" cy="27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950"/>
                            </p:stCondLst>
                            <p:childTnLst>
                              <p:par>
                                <p:cTn id="1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90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87280" y="5229360"/>
            <a:ext cx="67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does this sign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129440" cy="474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5560" y="3645000"/>
            <a:ext cx="904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This sign me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United National Educa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Science Cultural Organization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35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850"/>
                            </p:stCondLst>
                            <p:childTnLst>
                              <p:par>
                                <p:cTn id="24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7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24000" y="1484280"/>
            <a:ext cx="55436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See you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3640" y="260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sig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6360" cy="208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732720" y="4221000"/>
            <a:ext cx="2266920" cy="188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49236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877080" y="155736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320" y="4632480"/>
            <a:ext cx="90946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cc"/>
                </a:solidFill>
                <a:latin typeface="Comic Sans MS"/>
              </a:rPr>
              <a:t>What does this sign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cc"/>
                </a:solidFill>
                <a:latin typeface="Comic Sans MS"/>
              </a:rPr>
              <a:t>        </a:t>
            </a:r>
            <a:r>
              <a:rPr b="1" lang="en-US" sz="7000" spc="-1" strike="noStrike">
                <a:solidFill>
                  <a:srgbClr val="0000cc"/>
                </a:solidFill>
                <a:latin typeface="Comic Sans MS"/>
              </a:rPr>
              <a:t>mean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16360" y="549360"/>
            <a:ext cx="3112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4508640"/>
            <a:ext cx="989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cc"/>
                </a:solidFill>
                <a:latin typeface="Comic Sans MS"/>
              </a:rPr>
              <a:t>This sign means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800" spc="-1" strike="noStrike">
                <a:solidFill>
                  <a:srgbClr val="33cc33"/>
                </a:solidFill>
                <a:latin typeface="Comic Sans MS"/>
              </a:rPr>
              <a:t>“</a:t>
            </a:r>
            <a:r>
              <a:rPr b="1" lang="en-US" sz="6800" spc="-1" strike="noStrike" u="sng">
                <a:solidFill>
                  <a:srgbClr val="33cc33"/>
                </a:solidFill>
                <a:uFillTx/>
                <a:latin typeface="Comic Sans MS"/>
              </a:rPr>
              <a:t>No taking photos</a:t>
            </a:r>
            <a:r>
              <a:rPr b="1" lang="en-US" sz="6800" spc="-1" strike="noStrike">
                <a:solidFill>
                  <a:srgbClr val="33cc33"/>
                </a:solidFill>
                <a:latin typeface="Comic Sans MS"/>
              </a:rPr>
              <a:t>”.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31132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95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90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5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520" y="4365720"/>
            <a:ext cx="88628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cc"/>
                </a:solidFill>
                <a:latin typeface="Comic Sans MS"/>
              </a:rPr>
              <a:t>What does this sig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1" lang="en-US" sz="7000" spc="-1" strike="noStrike">
                <a:solidFill>
                  <a:srgbClr val="0000cc"/>
                </a:solidFill>
                <a:latin typeface="Comic Sans MS"/>
              </a:rPr>
              <a:t>mean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3400" y="4479840"/>
            <a:ext cx="7803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7000" spc="-1" strike="noStrike">
                <a:solidFill>
                  <a:srgbClr val="0000cc"/>
                </a:solidFill>
                <a:latin typeface="Comic Sans MS"/>
              </a:rPr>
              <a:t>This sign mean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cc33"/>
                </a:solidFill>
                <a:latin typeface="Comic Sans MS"/>
              </a:rPr>
              <a:t> “</a:t>
            </a:r>
            <a:r>
              <a:rPr b="1" lang="en-US" sz="7000" spc="-1" strike="noStrike" u="sng">
                <a:solidFill>
                  <a:srgbClr val="33cc33"/>
                </a:solidFill>
                <a:uFillTx/>
                <a:latin typeface="Comic Sans MS"/>
              </a:rPr>
              <a:t>No smoking</a:t>
            </a:r>
            <a:r>
              <a:rPr b="1" lang="en-US" sz="7000" spc="-1" strike="noStrike">
                <a:solidFill>
                  <a:srgbClr val="33cc33"/>
                </a:solidFill>
                <a:latin typeface="Comic Sans MS"/>
              </a:rPr>
              <a:t>”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00"/>
                            </p:stCondLst>
                            <p:childTnLst>
                              <p:par>
                                <p:cTn id="10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708360" y="2492280"/>
            <a:ext cx="256212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ibrary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64440" y="5300640"/>
            <a:ext cx="9496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Comic Sans MS"/>
              </a:rPr>
              <a:t>What does this sign mean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13240" y="4869000"/>
            <a:ext cx="57556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Comic Sans MS"/>
              </a:rPr>
              <a:t>This sign mean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 “</a:t>
            </a:r>
            <a:r>
              <a:rPr b="1" lang="en-US" sz="5500" spc="-1" strike="noStrike" u="sng">
                <a:solidFill>
                  <a:srgbClr val="ff0000"/>
                </a:solidFill>
                <a:uFillTx/>
                <a:latin typeface="Comic Sans MS"/>
              </a:rPr>
              <a:t>keep quiet</a:t>
            </a:r>
            <a:r>
              <a:rPr b="1" lang="en-US" sz="5500" spc="-1" strike="noStrike">
                <a:solidFill>
                  <a:srgbClr val="ff0000"/>
                </a:solidFill>
                <a:latin typeface="Comic Sans MS"/>
              </a:rPr>
              <a:t>”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824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74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7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10-27T06:36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