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3-03T14:45:46.472000000" idx="1">
    <p:pos x="3935" y="103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8FB-93B1-4508-ADAE-C79FD1CC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62A-8A62-47EA-AE4D-8E76789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B7C-FD90-48F2-B96B-48F22982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717-8E01-4E4D-8541-5F7F11BD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121-EE78-4E10-917C-BB561D2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628-E9F6-47CA-9711-2566A70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74E-7D37-4D3B-A695-752D0460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D89-EEA9-4940-B605-50926D4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FB5-7222-4A4B-992F-ADC0970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06F-C4F0-4340-BB73-F96992D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CC7-0E3D-4739-AFCD-DCA8D04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097-835A-4A96-99FF-EFBDC6B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235-A03A-40C9-8E23-14145B3A6D9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1C1-B3E5-41C4-903C-F776A29CE2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et’s review some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971640" y="4046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y arrive at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e train sta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dministrator\AppData\Roaming\Tencent\Users\834288591\QQ\WinTemp\RichOle\P~BZFKG2MUBAQ8FCCAVX]NX.png"/>
          <p:cNvPicPr/>
          <p:nvPr/>
        </p:nvPicPr>
        <p:blipFill>
          <a:blip r:embed="rId1"/>
          <a:stretch/>
        </p:blipFill>
        <p:spPr>
          <a:xfrm>
            <a:off x="1692360" y="1484280"/>
            <a:ext cx="5594400" cy="349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606920" y="530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火车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nny runs to the tr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" descr="C:\Users\Administrator\AppData\Roaming\Tencent\Users\834288591\QQ\WinTemp\RichOle\ANC42`HQ_F[PX3][O%P})3C.png"/>
          <p:cNvPicPr/>
          <p:nvPr/>
        </p:nvPicPr>
        <p:blipFill>
          <a:blip r:embed="rId1"/>
          <a:stretch/>
        </p:blipFill>
        <p:spPr>
          <a:xfrm>
            <a:off x="6012000" y="1628640"/>
            <a:ext cx="2447640" cy="1578240"/>
          </a:xfrm>
          <a:prstGeom prst="rect">
            <a:avLst/>
          </a:prstGeom>
          <a:ln w="0">
            <a:noFill/>
          </a:ln>
        </p:spPr>
      </p:pic>
      <p:pic>
        <p:nvPicPr>
          <p:cNvPr id="78" name="矩形 4" descr=""/>
          <p:cNvPicPr/>
          <p:nvPr/>
        </p:nvPicPr>
        <p:blipFill>
          <a:blip r:embed="rId2"/>
          <a:stretch/>
        </p:blipFill>
        <p:spPr>
          <a:xfrm>
            <a:off x="1965240" y="3860640"/>
            <a:ext cx="5251680" cy="175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834288591\QQ\WinTemp\RichOle\`C7_WQTY7G(M2)Z75)UJ[[T.png"/>
          <p:cNvPicPr/>
          <p:nvPr/>
        </p:nvPicPr>
        <p:blipFill>
          <a:blip r:embed="rId3"/>
          <a:stretch/>
        </p:blipFill>
        <p:spPr>
          <a:xfrm>
            <a:off x="468360" y="0"/>
            <a:ext cx="2076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urn to page2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t’s learn the stor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:\Users\Administrator\AppData\Roaming\Tencent\Users\834288591\QQ\WinTemp\RichOle\1[0]Y$EMV4_EX{C1)`MM$5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Administrator\AppData\Roaming\Tencent\Users\834288591\QQ\WinTemp\RichOle\{4Y~W5}E$U)N{0ANME1$JG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C:\Users\Administrator\AppData\Roaming\Tencent\Users\834288591\QQ\WinTemp\RichOle\Q2A(48C1)@85DW63(W_DY~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矩形 1" descr=""/>
          <p:cNvPicPr/>
          <p:nvPr/>
        </p:nvPicPr>
        <p:blipFill>
          <a:blip r:embed="rId1"/>
          <a:stretch/>
        </p:blipFill>
        <p:spPr>
          <a:xfrm>
            <a:off x="1612800" y="2967120"/>
            <a:ext cx="59659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C:\Users\Administrator\AppData\Roaming\Tencent\Users\834288591\QQ\WinTemp\RichOle\[DR$6L9K$WYSHG8J~M)8TE5.png"/>
          <p:cNvPicPr/>
          <p:nvPr/>
        </p:nvPicPr>
        <p:blipFill>
          <a:blip r:embed="rId1"/>
          <a:stretch/>
        </p:blipFill>
        <p:spPr>
          <a:xfrm>
            <a:off x="395280" y="260280"/>
            <a:ext cx="3097080" cy="633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Administrator\AppData\Roaming\Tencent\Users\834288591\QQ\WinTemp\RichOle\RUXKZ)[4OTRCCWG0A(CY_L7.png"/>
          <p:cNvPicPr/>
          <p:nvPr/>
        </p:nvPicPr>
        <p:blipFill>
          <a:blip r:embed="rId2"/>
          <a:stretch/>
        </p:blipFill>
        <p:spPr>
          <a:xfrm>
            <a:off x="3419640" y="981000"/>
            <a:ext cx="4897440" cy="109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Administrator\AppData\Roaming\Tencent\Users\834288591\QQ\WinTemp\RichOle\8P4Z5SR9$IM`9$3$Y$}7J`W.png"/>
          <p:cNvPicPr/>
          <p:nvPr/>
        </p:nvPicPr>
        <p:blipFill>
          <a:blip r:embed="rId3"/>
          <a:stretch/>
        </p:blipFill>
        <p:spPr>
          <a:xfrm>
            <a:off x="3851280" y="4365720"/>
            <a:ext cx="417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Administrator\AppData\Roaming\Tencent\Users\834288591\QQ\WinTemp\RichOle\C0I)H]S6N25}__R)OSQ0N)Y.png"/>
          <p:cNvPicPr/>
          <p:nvPr/>
        </p:nvPicPr>
        <p:blipFill>
          <a:blip r:embed="rId1"/>
          <a:stretch/>
        </p:blipFill>
        <p:spPr>
          <a:xfrm>
            <a:off x="0" y="0"/>
            <a:ext cx="3780000" cy="659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Administrator\AppData\Roaming\Tencent\Users\834288591\QQ\WinTemp\RichOle\Y2EHWK]UQO%T`]A2KML25@J.png"/>
          <p:cNvPicPr/>
          <p:nvPr/>
        </p:nvPicPr>
        <p:blipFill>
          <a:blip r:embed="rId2"/>
          <a:stretch/>
        </p:blipFill>
        <p:spPr>
          <a:xfrm>
            <a:off x="4140360" y="765000"/>
            <a:ext cx="424800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834288591\QQ\WinTemp\RichOle\U6247{{XXK{)VDSF(V3N6`F.png"/>
          <p:cNvPicPr/>
          <p:nvPr/>
        </p:nvPicPr>
        <p:blipFill>
          <a:blip r:embed="rId3"/>
          <a:stretch/>
        </p:blipFill>
        <p:spPr>
          <a:xfrm>
            <a:off x="4500720" y="4508640"/>
            <a:ext cx="3166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Users\Administrator\AppData\Roaming\Tencent\Users\834288591\QQ\WinTemp\RichOle\MU[TX76JWZ62%7~3Y{G[%MU.png"/>
          <p:cNvPicPr/>
          <p:nvPr/>
        </p:nvPicPr>
        <p:blipFill>
          <a:blip r:embed="rId1"/>
          <a:stretch/>
        </p:blipFill>
        <p:spPr>
          <a:xfrm>
            <a:off x="0" y="0"/>
            <a:ext cx="3492360" cy="645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AppData\Roaming\Tencent\Users\834288591\QQ\WinTemp\RichOle\0M@SFL)B6)J3E2KE[9R8ZBP.png"/>
          <p:cNvPicPr/>
          <p:nvPr/>
        </p:nvPicPr>
        <p:blipFill>
          <a:blip r:embed="rId2"/>
          <a:stretch/>
        </p:blipFill>
        <p:spPr>
          <a:xfrm>
            <a:off x="3419640" y="765000"/>
            <a:ext cx="489744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834288591\QQ\WinTemp\RichOle\0TTHO]BHD(P@RFZIGN36A`0.png"/>
          <p:cNvPicPr/>
          <p:nvPr/>
        </p:nvPicPr>
        <p:blipFill>
          <a:blip r:embed="rId3"/>
          <a:stretch/>
        </p:blipFill>
        <p:spPr>
          <a:xfrm>
            <a:off x="3780000" y="4437000"/>
            <a:ext cx="33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834288591\QQ\WinTemp\RichOle\L)FX%9KF`Q{V~NWDWPY6$QB.png"/>
          <p:cNvPicPr/>
          <p:nvPr/>
        </p:nvPicPr>
        <p:blipFill>
          <a:blip r:embed="rId1"/>
          <a:stretch/>
        </p:blipFill>
        <p:spPr>
          <a:xfrm>
            <a:off x="2268360" y="0"/>
            <a:ext cx="4896000" cy="429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Administrator\AppData\Roaming\Tencent\Users\834288591\QQ\WinTemp\RichOle\LWH889)D(UC)N7O428@B}PX.png"/>
          <p:cNvPicPr/>
          <p:nvPr/>
        </p:nvPicPr>
        <p:blipFill>
          <a:blip r:embed="rId2"/>
          <a:stretch/>
        </p:blipFill>
        <p:spPr>
          <a:xfrm>
            <a:off x="2627280" y="4437000"/>
            <a:ext cx="4681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1" descr=""/>
          <p:cNvPicPr/>
          <p:nvPr/>
        </p:nvPicPr>
        <p:blipFill>
          <a:blip r:embed="rId1"/>
          <a:stretch/>
        </p:blipFill>
        <p:spPr>
          <a:xfrm>
            <a:off x="1994040" y="2967120"/>
            <a:ext cx="52070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C:\Users\Administrator\AppData\Roaming\Tencent\Users\834288591\QQ\WinTemp\RichOle\ETDR4UW@3}R@)Z1_$@U0$C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8370720" y="1628640"/>
            <a:ext cx="15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932360" y="162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83528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619280" y="155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48360" y="3860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388360" y="378936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Users\Administrator\AppData\Roaming\Tencent\Users\834288591\QQ\WinTemp\RichOle\9KT[N}`79$D0[_}7N2NVYZ2.png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414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834288591\QQ\WinTemp\RichOle\)PH0DBY6V(Y29AS6$~I$MEY.png"/>
          <p:cNvPicPr/>
          <p:nvPr/>
        </p:nvPicPr>
        <p:blipFill>
          <a:blip r:embed="rId2"/>
          <a:stretch/>
        </p:blipFill>
        <p:spPr>
          <a:xfrm>
            <a:off x="2627280" y="4581360"/>
            <a:ext cx="5545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Administrator\AppData\Roaming\Tencent\Users\834288591\QQ\WinTemp\RichOle\CQV]2LJ~`F{(W$YUH$R@R}D.png"/>
          <p:cNvPicPr/>
          <p:nvPr/>
        </p:nvPicPr>
        <p:blipFill>
          <a:blip r:embed="rId1"/>
          <a:stretch/>
        </p:blipFill>
        <p:spPr>
          <a:xfrm>
            <a:off x="2627280" y="0"/>
            <a:ext cx="3619440" cy="424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771640" y="508464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jump  </a:t>
            </a: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跳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Users\Administrator\AppData\Roaming\Tencent\Users\834288591\QQ\WinTemp\RichOle\{YN0L11(@ILX0M)@T]9813B.png"/>
          <p:cNvPicPr/>
          <p:nvPr/>
        </p:nvPicPr>
        <p:blipFill>
          <a:blip r:embed="rId1"/>
          <a:stretch/>
        </p:blipFill>
        <p:spPr>
          <a:xfrm>
            <a:off x="539640" y="76500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834288591\QQ\WinTemp\RichOle\63SAFD3[}PJQB@KA@OK02Z6.png"/>
          <p:cNvPicPr/>
          <p:nvPr/>
        </p:nvPicPr>
        <p:blipFill>
          <a:blip r:embed="rId2"/>
          <a:stretch/>
        </p:blipFill>
        <p:spPr>
          <a:xfrm>
            <a:off x="4643280" y="765000"/>
            <a:ext cx="4500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7"/>
          <p:cNvGrpSpPr/>
          <p:nvPr/>
        </p:nvGrpSpPr>
        <p:grpSpPr>
          <a:xfrm>
            <a:off x="1476360" y="4581360"/>
            <a:ext cx="2232000" cy="1962360"/>
            <a:chOff x="1476360" y="4581360"/>
            <a:chExt cx="2232000" cy="1962360"/>
          </a:xfrm>
        </p:grpSpPr>
        <p:pic>
          <p:nvPicPr>
            <p:cNvPr id="53" name="Picture 3" descr="C:\Users\Administrator\AppData\Roaming\Tencent\Users\834288591\QQ\WinTemp\RichOle\5V6PAUY6GBC]C%OLTC)(VR6.png"/>
            <p:cNvPicPr/>
            <p:nvPr/>
          </p:nvPicPr>
          <p:blipFill>
            <a:blip r:embed="rId3"/>
            <a:stretch/>
          </p:blipFill>
          <p:spPr>
            <a:xfrm>
              <a:off x="1476360" y="4581360"/>
              <a:ext cx="2232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4" descr="C:\Users\Administrator\AppData\Roaming\Tencent\Users\834288591\QQ\WinTemp\RichOle\{42E[@(ZE9G`1ZBQXC2GLJL.png"/>
            <p:cNvPicPr/>
            <p:nvPr/>
          </p:nvPicPr>
          <p:blipFill>
            <a:blip r:embed="rId4"/>
            <a:stretch/>
          </p:blipFill>
          <p:spPr>
            <a:xfrm>
              <a:off x="2052360" y="5877360"/>
              <a:ext cx="904680" cy="66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组合 8"/>
          <p:cNvGrpSpPr/>
          <p:nvPr/>
        </p:nvGrpSpPr>
        <p:grpSpPr>
          <a:xfrm>
            <a:off x="5940360" y="4724280"/>
            <a:ext cx="2398680" cy="1808280"/>
            <a:chOff x="5940360" y="4724280"/>
            <a:chExt cx="2398680" cy="1808280"/>
          </a:xfrm>
        </p:grpSpPr>
        <p:pic>
          <p:nvPicPr>
            <p:cNvPr id="56" name="Picture 5" descr="C:\Users\Administrator\AppData\Roaming\Tencent\Users\834288591\QQ\WinTemp\RichOle\05BRGQ0W69[443OSU18$6ED.png"/>
            <p:cNvPicPr/>
            <p:nvPr/>
          </p:nvPicPr>
          <p:blipFill>
            <a:blip r:embed="rId5"/>
            <a:stretch/>
          </p:blipFill>
          <p:spPr>
            <a:xfrm>
              <a:off x="5940360" y="4724280"/>
              <a:ext cx="239868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6" descr="C:\Users\Administrator\AppData\Roaming\Tencent\Users\834288591\QQ\WinTemp\RichOle\[8]OMQW4}E}]Q8`UZL125DY.png"/>
            <p:cNvPicPr/>
            <p:nvPr/>
          </p:nvPicPr>
          <p:blipFill>
            <a:blip r:embed="rId6"/>
            <a:stretch/>
          </p:blipFill>
          <p:spPr>
            <a:xfrm>
              <a:off x="6372360" y="5732280"/>
              <a:ext cx="140040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:\Users\Administrator\AppData\Roaming\Tencent\Users\834288591\QQ\WinTemp\RichOle\0D3[D`R9P%(UJMJSD`_RKW3.png"/>
          <p:cNvPicPr/>
          <p:nvPr/>
        </p:nvPicPr>
        <p:blipFill>
          <a:blip r:embed="rId1"/>
          <a:stretch/>
        </p:blipFill>
        <p:spPr>
          <a:xfrm>
            <a:off x="2268360" y="0"/>
            <a:ext cx="4464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dministrator\AppData\Roaming\Tencent\Users\834288591\QQ\WinTemp\RichOle\}~{$}$MBE%RT`)}2`81}RZM.png"/>
          <p:cNvPicPr/>
          <p:nvPr/>
        </p:nvPicPr>
        <p:blipFill>
          <a:blip r:embed="rId2"/>
          <a:stretch/>
        </p:blipFill>
        <p:spPr>
          <a:xfrm>
            <a:off x="539640" y="3672000"/>
            <a:ext cx="4537080" cy="16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istrator\AppData\Roaming\Tencent\Users\834288591\QQ\WinTemp\RichOle\1T@2X[`AZGVC{HB0@YAQ~Q2.png"/>
          <p:cNvPicPr/>
          <p:nvPr/>
        </p:nvPicPr>
        <p:blipFill>
          <a:blip r:embed="rId3"/>
          <a:stretch/>
        </p:blipFill>
        <p:spPr>
          <a:xfrm>
            <a:off x="2627280" y="4869000"/>
            <a:ext cx="57610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Administrator\AppData\Roaming\Tencent\Users\834288591\QQ\WinTemp\RichOle\CYOI@Y~7YWXUOAMMHH0B9EA.png"/>
          <p:cNvPicPr/>
          <p:nvPr/>
        </p:nvPicPr>
        <p:blipFill>
          <a:blip r:embed="rId1"/>
          <a:stretch/>
        </p:blipFill>
        <p:spPr>
          <a:xfrm>
            <a:off x="1908000" y="0"/>
            <a:ext cx="4896000" cy="42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834288591\QQ\WinTemp\RichOle\21Q]W0__`2]C~_}(8XTN1A1.png"/>
          <p:cNvPicPr/>
          <p:nvPr/>
        </p:nvPicPr>
        <p:blipFill>
          <a:blip r:embed="rId2"/>
          <a:stretch/>
        </p:blipFill>
        <p:spPr>
          <a:xfrm>
            <a:off x="684360" y="4292640"/>
            <a:ext cx="431928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Administrator\AppData\Roaming\Tencent\Users\834288591\QQ\WinTemp\RichOle\}MP%A`XB5V28ZBV0{S9U{C5.png"/>
          <p:cNvPicPr/>
          <p:nvPr/>
        </p:nvPicPr>
        <p:blipFill>
          <a:blip r:embed="rId3"/>
          <a:stretch/>
        </p:blipFill>
        <p:spPr>
          <a:xfrm>
            <a:off x="3492360" y="5157720"/>
            <a:ext cx="56516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1" descr=""/>
          <p:cNvPicPr/>
          <p:nvPr/>
        </p:nvPicPr>
        <p:blipFill>
          <a:blip r:embed="rId1"/>
          <a:stretch/>
        </p:blipFill>
        <p:spPr>
          <a:xfrm>
            <a:off x="1954080" y="476280"/>
            <a:ext cx="528480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un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lk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jum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ance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跳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i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ow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向下，朝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sit  down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坐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t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u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向上 ，在上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stand  up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站起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/>
          <p:cNvSpPr/>
          <p:nvPr/>
        </p:nvSpPr>
        <p:spPr>
          <a:xfrm>
            <a:off x="1116000" y="35002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’s Sunday morning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rs. Li, Li Ming, Jenny and Danny go to Beijing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87640" y="45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oday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8"/>
          <p:cNvSpPr/>
          <p:nvPr/>
        </p:nvSpPr>
        <p:spPr>
          <a:xfrm>
            <a:off x="3059280" y="5229360"/>
            <a:ext cx="108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203640" y="530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今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istrator\AppData\Roaming\Tencent\Users\834288591\QQ\WinTemp\RichOle\K)4H35V3PT~1UVR1E`@J]VN.png"/>
          <p:cNvPicPr/>
          <p:nvPr/>
        </p:nvPicPr>
        <p:blipFill>
          <a:blip r:embed="rId1"/>
          <a:stretch/>
        </p:blipFill>
        <p:spPr>
          <a:xfrm>
            <a:off x="3995640" y="404640"/>
            <a:ext cx="4176720" cy="295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Administrator\AppData\Roaming\Tencent\Users\834288591\QQ\WinTemp\RichOle\R)`%7`Z]_XCV}4IEZ9TEYXA.png"/>
          <p:cNvPicPr/>
          <p:nvPr/>
        </p:nvPicPr>
        <p:blipFill>
          <a:blip r:embed="rId2"/>
          <a:stretch/>
        </p:blipFill>
        <p:spPr>
          <a:xfrm>
            <a:off x="1187280" y="333360"/>
            <a:ext cx="3168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17:55:55Z</dcterms:modified>
  <cp:revision>2</cp:revision>
  <dc:subject/>
  <dc:title>幻灯片 1</dc:title>
</cp:coreProperties>
</file>