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comments/comment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xkb1.com" initials="x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<Relationship Id="rId13" Type="http://schemas.openxmlformats.org/officeDocument/2006/relationships/commentAuthors" Target="commentAuthors.xml"/>
</Relationships>
</file>

<file path=ppt/comments/comment7.xml><?xml version="1.0" encoding="utf-8"?>
<p:cmLst xmlns:p="http://schemas.openxmlformats.org/presentationml/2006/main">
  <p:cm authorId="0" dt="2016-03-03T14:50:59.123000000" idx="1">
    <p:pos x="3966" y="274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3" descr="框"/>
          <p:cNvPicPr/>
          <p:nvPr/>
        </p:nvPicPr>
        <p:blipFill>
          <a:blip r:embed="rId1"/>
          <a:stretch/>
        </p:blipFill>
        <p:spPr>
          <a:xfrm>
            <a:off x="1523880" y="1600200"/>
            <a:ext cx="6172200" cy="20257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1828800" y="1752480"/>
            <a:ext cx="6858000" cy="15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sso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anny’s Email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4" name="Picture 4" descr="老师"/>
          <p:cNvPicPr/>
          <p:nvPr/>
        </p:nvPicPr>
        <p:blipFill>
          <a:blip r:embed="rId2"/>
          <a:stretch/>
        </p:blipFill>
        <p:spPr>
          <a:xfrm>
            <a:off x="609480" y="3032280"/>
            <a:ext cx="3144960" cy="29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宋体"/>
              </a:rPr>
              <a:t>单词闯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361960" y="1143000"/>
            <a:ext cx="2971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k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228600" y="1219320"/>
            <a:ext cx="2286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友好的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657600" y="1143000"/>
            <a:ext cx="2971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eather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ss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rget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6095880" y="1219320"/>
            <a:ext cx="29718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气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想念、错过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忘记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宋体"/>
              </a:rPr>
              <a:t>短语连线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306000"/>
            <a:ext cx="3962520" cy="64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rite an email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e h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n February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ime to go h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o back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rget to d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rite to s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 happy to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ay hi to s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ke a pi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member to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4495680" y="457200"/>
            <a:ext cx="403884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忘记做某事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给某人写信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高兴做某事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某人说你好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照相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记得做某事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给某人写邮件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回家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二月八日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到回家的时间了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箭头 232"/>
          <p:cNvSpPr/>
          <p:nvPr/>
        </p:nvSpPr>
        <p:spPr>
          <a:xfrm>
            <a:off x="2590920" y="533520"/>
            <a:ext cx="2286000" cy="42670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箭头 233"/>
          <p:cNvSpPr/>
          <p:nvPr/>
        </p:nvSpPr>
        <p:spPr>
          <a:xfrm flipV="1">
            <a:off x="1677960" y="2134800"/>
            <a:ext cx="3124080" cy="205596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箭头 234"/>
          <p:cNvSpPr/>
          <p:nvPr/>
        </p:nvSpPr>
        <p:spPr>
          <a:xfrm flipV="1">
            <a:off x="1752480" y="837720"/>
            <a:ext cx="2971800" cy="20574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箭头 235"/>
          <p:cNvSpPr/>
          <p:nvPr/>
        </p:nvSpPr>
        <p:spPr>
          <a:xfrm flipV="1">
            <a:off x="1600200" y="1523520"/>
            <a:ext cx="3124080" cy="213372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箭头 236"/>
          <p:cNvSpPr/>
          <p:nvPr/>
        </p:nvSpPr>
        <p:spPr>
          <a:xfrm flipV="1">
            <a:off x="1371600" y="2666520"/>
            <a:ext cx="3429000" cy="221004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" name="箭头 237"/>
          <p:cNvSpPr/>
          <p:nvPr/>
        </p:nvSpPr>
        <p:spPr>
          <a:xfrm flipV="1">
            <a:off x="1295280" y="3200400"/>
            <a:ext cx="3505320" cy="22096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" name="箭头 232"/>
          <p:cNvSpPr/>
          <p:nvPr/>
        </p:nvSpPr>
        <p:spPr>
          <a:xfrm>
            <a:off x="2438280" y="1295280"/>
            <a:ext cx="2286000" cy="4114800"/>
          </a:xfrm>
          <a:prstGeom prst="line">
            <a:avLst/>
          </a:prstGeom>
          <a:ln w="38160">
            <a:solidFill>
              <a:srgbClr val="ff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箭头 232"/>
          <p:cNvSpPr/>
          <p:nvPr/>
        </p:nvSpPr>
        <p:spPr>
          <a:xfrm>
            <a:off x="2362320" y="1905120"/>
            <a:ext cx="2286000" cy="4190760"/>
          </a:xfrm>
          <a:prstGeom prst="line">
            <a:avLst/>
          </a:prstGeom>
          <a:ln w="38160">
            <a:solidFill>
              <a:srgbClr val="ff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" name="箭头 232"/>
          <p:cNvSpPr/>
          <p:nvPr/>
        </p:nvSpPr>
        <p:spPr>
          <a:xfrm>
            <a:off x="2362320" y="2590920"/>
            <a:ext cx="2286000" cy="4190760"/>
          </a:xfrm>
          <a:prstGeom prst="line">
            <a:avLst/>
          </a:prstGeom>
          <a:ln w="38160">
            <a:solidFill>
              <a:srgbClr val="ff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" name="箭头 237"/>
          <p:cNvSpPr/>
          <p:nvPr/>
        </p:nvSpPr>
        <p:spPr>
          <a:xfrm flipV="1">
            <a:off x="1371600" y="3733920"/>
            <a:ext cx="3505320" cy="2209680"/>
          </a:xfrm>
          <a:prstGeom prst="line">
            <a:avLst/>
          </a:prstGeom>
          <a:ln w="38160">
            <a:solidFill>
              <a:srgbClr val="ff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" name="箭头 237"/>
          <p:cNvSpPr/>
          <p:nvPr/>
        </p:nvSpPr>
        <p:spPr>
          <a:xfrm flipV="1">
            <a:off x="1371600" y="4343400"/>
            <a:ext cx="3505320" cy="2209680"/>
          </a:xfrm>
          <a:prstGeom prst="line">
            <a:avLst/>
          </a:prstGeom>
          <a:ln w="38160">
            <a:solidFill>
              <a:srgbClr val="ff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宋体"/>
              </a:rPr>
              <a:t>语法突击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I’m coming home to Canada on February 8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宋体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动词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ome , go , leave , arrive , di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等可用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进行时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将来时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he is coming for dinn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y are leaving tomorrow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train is arriving at on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宋体"/>
              </a:rPr>
              <a:t>语法突击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Don’t forget to write to us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宋体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forget to do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意为“忘记去做某事”，所指动作还未完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n’t forget to turn off the ligh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28240" y="533520"/>
            <a:ext cx="84582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I’ll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be happy to</a:t>
            </a: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 see you again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  <a:ea typeface="宋体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be happy to do sth.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意为“高兴做某事”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re happy to see you agai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Arial"/>
                <a:ea typeface="宋体"/>
              </a:rPr>
              <a:t>重点句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将在二月八日回到加拿大的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’m coming home to Canada on February 8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不要忘了给我们写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on’t forget to write to us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能见到你我将很高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’ll be happy to see you again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How’s the weather like in Canada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宋体"/>
              </a:rPr>
              <a:t>词型转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单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（现在分词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now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形容词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n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形容词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e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（现在分词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 not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（缩写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ar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（现在分词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343400" y="38088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writes</a:t>
            </a:r>
            <a:endParaRPr b="1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5791320" y="1066680"/>
            <a:ext cx="3047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writing</a:t>
            </a:r>
            <a:endParaRPr b="1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5334120" y="198108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snowy</a:t>
            </a:r>
            <a:endParaRPr b="1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334120" y="27432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sunny</a:t>
            </a:r>
            <a:endParaRPr b="1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6019920" y="365760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coming</a:t>
            </a:r>
            <a:endParaRPr b="1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5486400" y="441972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don't</a:t>
            </a:r>
            <a:endParaRPr b="1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095880" y="5257800"/>
            <a:ext cx="2895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wearing</a:t>
            </a:r>
            <a:endParaRPr b="1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1T12:38:03Z</dcterms:created>
  <dc:creator/>
  <dc:description/>
  <dc:language>en-US</dc:language>
  <cp:lastModifiedBy/>
  <dcterms:modified xsi:type="dcterms:W3CDTF">2017-02-15T12:18:23Z</dcterms:modified>
  <cp:revision>1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  <property fmtid="{D5CDD505-2E9C-101B-9397-08002B2CF9AE}" pid="3" name="Version">
    <vt:r8>1</vt:r8>
  </property>
</Properties>
</file>