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3.jpeg" ContentType="image/jpeg"/>
  <Override PartName="/ppt/media/image2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A6A-ED4A-4488-9EC3-23377FD9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51E-3276-44A1-A1D6-A5D2DD8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A00-6FF8-49DC-BF26-8B41FBF2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3A1-663D-435C-B2E9-0AEC8E11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C68-B945-4BDC-A3F1-0A0B1DA1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5C5-12B4-4B4D-BA62-F15E2DC6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677-AEBA-4BE9-BE11-3F8C8DC5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568-CB69-42B0-B99E-0B62870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967-DC8A-494F-AC27-0B10F6EF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D0E-FBA8-4A9D-81E2-D162A5F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46D-B363-4142-B429-DD1F5D3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D73-403A-44E9-8947-A5A72C4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309F-4FEF-4907-967D-4AF58650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755640" y="234936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esson 3 Who is singing?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500720" y="602136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bizhi_qita02"/>
          <p:cNvPicPr/>
          <p:nvPr/>
        </p:nvPicPr>
        <p:blipFill>
          <a:blip r:embed="rId2"/>
          <a:stretch/>
        </p:blipFill>
        <p:spPr>
          <a:xfrm>
            <a:off x="3059280" y="4005360"/>
            <a:ext cx="2665080" cy="1998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7"/>
          <p:cNvSpPr txBox="1"/>
          <p:nvPr/>
        </p:nvSpPr>
        <p:spPr>
          <a:xfrm>
            <a:off x="46836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五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5"/>
          <p:cNvPicPr/>
          <p:nvPr/>
        </p:nvPicPr>
        <p:blipFill>
          <a:blip r:embed="rId2"/>
          <a:stretch/>
        </p:blipFill>
        <p:spPr>
          <a:xfrm>
            <a:off x="900000" y="1484280"/>
            <a:ext cx="6265800" cy="4754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95280" y="692280"/>
            <a:ext cx="820908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Who is si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5076720" y="2781360"/>
            <a:ext cx="3714840" cy="282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5"/>
          <p:cNvPicPr/>
          <p:nvPr/>
        </p:nvPicPr>
        <p:blipFill>
          <a:blip r:embed="rId2"/>
          <a:stretch/>
        </p:blipFill>
        <p:spPr>
          <a:xfrm>
            <a:off x="1143000" y="352440"/>
            <a:ext cx="6858000" cy="615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3806640" cy="117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3635280" y="1557360"/>
            <a:ext cx="2722680" cy="9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6372360" y="1557360"/>
            <a:ext cx="212400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6"/>
          <a:stretch/>
        </p:blipFill>
        <p:spPr>
          <a:xfrm>
            <a:off x="0" y="3789360"/>
            <a:ext cx="2195640" cy="145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411280" y="765000"/>
            <a:ext cx="3535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本课重点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6" name="Picture 5" descr="17"/>
          <p:cNvPicPr/>
          <p:nvPr/>
        </p:nvPicPr>
        <p:blipFill>
          <a:blip r:embed="rId2"/>
          <a:stretch/>
        </p:blipFill>
        <p:spPr>
          <a:xfrm>
            <a:off x="539640" y="1916280"/>
            <a:ext cx="7704360" cy="368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3203640" y="620640"/>
            <a:ext cx="211284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练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27760" y="2048040"/>
            <a:ext cx="53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一、写出下列单词的复数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＿＿＿　　　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man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by______            boy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580200" y="3573360"/>
            <a:ext cx="163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汉译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我后面的女人正在唱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谁在谈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孩在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076480" y="23893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802120" y="246060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54960" y="28926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a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186160" y="289260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883160" y="433224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The woman behind me is si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276640" y="51973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Who is tal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338920" y="606096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The baby is slee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092720" cy="424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7939080" cy="369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8291520" cy="227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77280" y="2059560"/>
            <a:ext cx="8757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on't be mad, don't be blue, Einstein was ugly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ff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054880" y="3645000"/>
            <a:ext cx="4935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：这句话言外之意是：难看怎么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爱因斯坦那样的伟人长相也难看呢！虽然你也很难看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什么大不了的。此句重点在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o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字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540160" y="325296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不要激动，不要忧郁，爱因斯坦长相也难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345480" y="134064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爱因斯坦也难看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1619280" y="476280"/>
            <a:ext cx="5832360" cy="647640"/>
          </a:xfrm>
          <a:custGeom>
            <a:avLst/>
            <a:gdLst>
              <a:gd name="textAreaLeft" fmla="*/ 0 w 5832360"/>
              <a:gd name="textAreaRight" fmla="*/ 5832720 w 583236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开     心      一       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627280" y="620640"/>
            <a:ext cx="26812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   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74040" y="242100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9900ff"/>
                </a:solidFill>
                <a:latin typeface="Comic Sans MS"/>
                <a:ea typeface="华文新魏"/>
              </a:rPr>
              <a:t>用下列单词各造一个现在进行时句子</a:t>
            </a:r>
            <a:r>
              <a:rPr b="1" lang="en-US" sz="3600" spc="-1" strike="noStrike">
                <a:solidFill>
                  <a:srgbClr val="9900ff"/>
                </a:solidFill>
                <a:latin typeface="Comic Sans MS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  <a:ea typeface="华文新魏"/>
              </a:rPr>
              <a:t>Sit ,run, t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5760" y="3716280"/>
            <a:ext cx="9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9900ff"/>
                </a:solidFill>
                <a:latin typeface="华文新魏"/>
                <a:ea typeface="华文新魏"/>
              </a:rPr>
              <a:t>熟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ordArt 4" descr=""/>
          <p:cNvPicPr/>
          <p:nvPr/>
        </p:nvPicPr>
        <p:blipFill>
          <a:blip r:embed="rId2"/>
          <a:stretch/>
        </p:blipFill>
        <p:spPr>
          <a:xfrm>
            <a:off x="274680" y="2048040"/>
            <a:ext cx="6540480" cy="242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=1148845084,4192851429&amp;gp=0"/>
          <p:cNvPicPr/>
          <p:nvPr/>
        </p:nvPicPr>
        <p:blipFill>
          <a:blip r:embed="rId2"/>
          <a:stretch/>
        </p:blipFill>
        <p:spPr>
          <a:xfrm>
            <a:off x="1763640" y="1773360"/>
            <a:ext cx="2089080" cy="1552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967680" y="1101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  <a:ea typeface="华文隶书"/>
              </a:rPr>
              <a:t>根据图片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180680" y="102060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hat is the baby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247640" y="1700280"/>
            <a:ext cx="25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e is slee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82480" y="2316240"/>
            <a:ext cx="33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s he quiet or lou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153680" y="303696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e is qu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u=488681947,569399128&amp;gp=28"/>
          <p:cNvPicPr/>
          <p:nvPr/>
        </p:nvPicPr>
        <p:blipFill>
          <a:blip r:embed="rId3"/>
          <a:stretch/>
        </p:blipFill>
        <p:spPr>
          <a:xfrm>
            <a:off x="1763640" y="386064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043520" y="386064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hat is the girl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177080" y="458136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he is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092480" y="526896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s she qu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074480" y="591660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, she is 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684360" y="2060640"/>
            <a:ext cx="792000" cy="792000"/>
          </a:xfrm>
          <a:prstGeom prst="pi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684360" y="4221000"/>
            <a:ext cx="792000" cy="792360"/>
          </a:xfrm>
          <a:prstGeom prst="pi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5"/>
          <p:cNvSpPr txBox="1"/>
          <p:nvPr/>
        </p:nvSpPr>
        <p:spPr>
          <a:xfrm>
            <a:off x="2627280" y="0"/>
            <a:ext cx="187344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复习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417080" cy="406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692280"/>
            <a:ext cx="7602480" cy="459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700360" y="692280"/>
            <a:ext cx="2979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知识目标</a:t>
            </a:r>
            <a:endParaRPr b="1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33720" y="2071800"/>
            <a:ext cx="13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重点单词</a:t>
            </a:r>
            <a:r>
              <a:rPr b="1" lang="en-US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145240" y="278136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n, woman,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19680" y="35002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重点句型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727000" y="4005360"/>
            <a:ext cx="37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Who is it? It’s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28760" y="4836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现在进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5"/>
          <p:cNvPicPr/>
          <p:nvPr/>
        </p:nvPicPr>
        <p:blipFill>
          <a:blip r:embed="rId2"/>
          <a:stretch/>
        </p:blipFill>
        <p:spPr>
          <a:xfrm>
            <a:off x="611280" y="1844640"/>
            <a:ext cx="6156360" cy="3514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95280" y="260280"/>
            <a:ext cx="820908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son 3: Who is sing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5280" y="1125360"/>
            <a:ext cx="8209080" cy="57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Man , woman and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3132000" y="4653000"/>
            <a:ext cx="4341960" cy="16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5"/>
          <p:cNvPicPr/>
          <p:nvPr/>
        </p:nvPicPr>
        <p:blipFill>
          <a:blip r:embed="rId2"/>
          <a:stretch/>
        </p:blipFill>
        <p:spPr>
          <a:xfrm>
            <a:off x="900000" y="981000"/>
            <a:ext cx="615492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4608360" cy="18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5"/>
          <p:cNvPicPr/>
          <p:nvPr/>
        </p:nvPicPr>
        <p:blipFill>
          <a:blip r:embed="rId2"/>
          <a:stretch/>
        </p:blipFill>
        <p:spPr>
          <a:xfrm>
            <a:off x="971640" y="981000"/>
            <a:ext cx="5433840" cy="2886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4927680" cy="2157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5"/>
          <p:cNvPicPr/>
          <p:nvPr/>
        </p:nvPicPr>
        <p:blipFill>
          <a:blip r:embed="rId2"/>
          <a:stretch/>
        </p:blipFill>
        <p:spPr>
          <a:xfrm>
            <a:off x="684360" y="333360"/>
            <a:ext cx="7145280" cy="384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500720" y="3373560"/>
            <a:ext cx="4105080" cy="348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07:45:01Z</dcterms:created>
  <dc:creator/>
  <dc:description/>
  <dc:language>en-US</dc:language>
  <cp:lastModifiedBy>微软用户</cp:lastModifiedBy>
  <dcterms:modified xsi:type="dcterms:W3CDTF">2016-04-23T12:35:45Z</dcterms:modified>
  <cp:revision>22</cp:revision>
  <dc:subject/>
  <dc:title>幻灯片 1</dc:title>
</cp:coreProperties>
</file>