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E2F-342D-4F27-B3D2-F9A121A5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72E-B724-405A-849B-1F2EE2F15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96A-D9C7-4DAE-8CAC-E35D3D14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B5A-D232-4A9D-9E8E-3F84FB59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AE8-2ABF-43E4-AD50-15453E84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5706-8F48-49F4-A477-17F862A0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BF75-7F72-437D-B9AF-8CF7B0FD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BC2-EDF5-472A-8080-1BB9C858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345-E6FB-448D-9F0E-12F6DAF8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239-5B6B-4E56-AFCA-AD5FC746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9220-B162-497F-B7C8-2701A52A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093-5638-4E1E-868F-67A543B0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068-6E4D-4E45-B06B-003292C2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80D-4A53-4853-9D0C-6ADCAA25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B5D-6C41-434D-A8EF-8F8FEDA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91A-56AF-4F07-AB86-CAC74C22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C01-721A-404F-B5CB-9EE50E73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125-C47D-4481-97D5-19723A5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5B6-D790-4820-AF14-342EFA37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897-E0DE-40D5-9C72-AE0B6E2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DC6-377A-4EFD-B82D-2B14B1C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723-5109-4BC2-9AF1-A1C73C9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92D-25FD-436C-A683-E503BD1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894D-69EE-44BF-8378-CD223B63B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533520"/>
            <a:ext cx="4876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冀教版五年级英语下册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371600" y="2790720"/>
            <a:ext cx="680076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Lesson 4 Who is hungry?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anny1"/>
          <p:cNvPicPr/>
          <p:nvPr/>
        </p:nvPicPr>
        <p:blipFill>
          <a:blip r:embed="rId1"/>
          <a:stretch/>
        </p:blipFill>
        <p:spPr>
          <a:xfrm>
            <a:off x="3343320" y="2314440"/>
            <a:ext cx="2319120" cy="28116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152280" y="228600"/>
            <a:ext cx="7620120" cy="2666880"/>
          </a:xfrm>
          <a:prstGeom prst="cloudCallout">
            <a:avLst>
              <a:gd name="adj1" fmla="val 32981"/>
              <a:gd name="adj2" fmla="val 4178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ould like some_____,______,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14600" y="990720"/>
            <a:ext cx="160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s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03848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gra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76320" y="3352680"/>
            <a:ext cx="6172200" cy="2133720"/>
          </a:xfrm>
          <a:prstGeom prst="cloudCallout">
            <a:avLst>
              <a:gd name="adj1" fmla="val 52518"/>
              <a:gd name="adj2" fmla="val -2447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fast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676520" y="5791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ast    quick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迅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4" descr=""/>
          <p:cNvPicPr/>
          <p:nvPr/>
        </p:nvPicPr>
        <p:blipFill>
          <a:blip r:embed="rId1"/>
          <a:stretch/>
        </p:blipFill>
        <p:spPr>
          <a:xfrm>
            <a:off x="274680" y="2048040"/>
            <a:ext cx="654048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7640" y="494172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n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jenny1"/>
          <p:cNvPicPr/>
          <p:nvPr/>
        </p:nvPicPr>
        <p:blipFill>
          <a:blip r:embed="rId1"/>
          <a:stretch/>
        </p:blipFill>
        <p:spPr>
          <a:xfrm>
            <a:off x="5962680" y="152280"/>
            <a:ext cx="3181320" cy="6467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219320" y="304920"/>
            <a:ext cx="4952880" cy="1676160"/>
          </a:xfrm>
          <a:prstGeom prst="cloudCallout">
            <a:avLst>
              <a:gd name="adj1" fmla="val 51953"/>
              <a:gd name="adj2" fmla="val 2746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’s a sn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nack is a little foo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=1941194883,374742903&amp;fm=0&amp;gp=0"/>
          <p:cNvPicPr/>
          <p:nvPr/>
        </p:nvPicPr>
        <p:blipFill>
          <a:blip r:embed="rId2"/>
          <a:stretch/>
        </p:blipFill>
        <p:spPr>
          <a:xfrm>
            <a:off x="533520" y="1752480"/>
            <a:ext cx="1258920" cy="189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u=3788241609,805451012&amp;fm=0&amp;gp=20"/>
          <p:cNvPicPr/>
          <p:nvPr/>
        </p:nvPicPr>
        <p:blipFill>
          <a:blip r:embed="rId3"/>
          <a:stretch/>
        </p:blipFill>
        <p:spPr>
          <a:xfrm>
            <a:off x="2475000" y="2209680"/>
            <a:ext cx="1258920" cy="189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u=1083591496,401184194&amp;fm=0&amp;gp=0"/>
          <p:cNvPicPr/>
          <p:nvPr/>
        </p:nvPicPr>
        <p:blipFill>
          <a:blip r:embed="rId4"/>
          <a:stretch/>
        </p:blipFill>
        <p:spPr>
          <a:xfrm>
            <a:off x="4379760" y="2057400"/>
            <a:ext cx="1258920" cy="18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u=2883259654,1569737225&amp;fm=0&amp;gp=30"/>
          <p:cNvPicPr/>
          <p:nvPr/>
        </p:nvPicPr>
        <p:blipFill>
          <a:blip r:embed="rId5"/>
          <a:stretch/>
        </p:blipFill>
        <p:spPr>
          <a:xfrm>
            <a:off x="533520" y="3809880"/>
            <a:ext cx="124452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u=2213245784,2161447214&amp;fm=0&amp;gp=0"/>
          <p:cNvPicPr/>
          <p:nvPr/>
        </p:nvPicPr>
        <p:blipFill>
          <a:blip r:embed="rId6"/>
          <a:stretch/>
        </p:blipFill>
        <p:spPr>
          <a:xfrm>
            <a:off x="4125960" y="4343400"/>
            <a:ext cx="1258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o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5410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ome s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oup2"/>
          <p:cNvPicPr/>
          <p:nvPr/>
        </p:nvPicPr>
        <p:blipFill>
          <a:blip r:embed="rId1"/>
          <a:srcRect l="0" t="0" r="0" b="6373"/>
          <a:stretch/>
        </p:blipFill>
        <p:spPr>
          <a:xfrm>
            <a:off x="1143000" y="3048120"/>
            <a:ext cx="3276720" cy="218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943600" y="49528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Yes,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6858000" y="3886200"/>
            <a:ext cx="990720" cy="8380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ome nood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noodles4"/>
          <p:cNvPicPr/>
          <p:nvPr/>
        </p:nvPicPr>
        <p:blipFill>
          <a:blip r:embed="rId1"/>
          <a:stretch/>
        </p:blipFill>
        <p:spPr>
          <a:xfrm>
            <a:off x="1143000" y="2514600"/>
            <a:ext cx="3505320" cy="2482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19920" y="472428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o, th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6781680" y="3429000"/>
            <a:ext cx="990720" cy="83808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 sandw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andwich2"/>
          <p:cNvPicPr/>
          <p:nvPr/>
        </p:nvPicPr>
        <p:blipFill>
          <a:blip r:embed="rId1"/>
          <a:stretch/>
        </p:blipFill>
        <p:spPr>
          <a:xfrm>
            <a:off x="914400" y="2133720"/>
            <a:ext cx="487692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6858000" y="3733920"/>
            <a:ext cx="990720" cy="8380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943600" y="49528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Yes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ome fru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ruit2"/>
          <p:cNvPicPr/>
          <p:nvPr/>
        </p:nvPicPr>
        <p:blipFill>
          <a:blip r:embed="rId1"/>
          <a:stretch/>
        </p:blipFill>
        <p:spPr>
          <a:xfrm>
            <a:off x="1143000" y="2514600"/>
            <a:ext cx="3657600" cy="2738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5943600" y="49528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Yes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858000" y="3886200"/>
            <a:ext cx="990720" cy="8380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ould you like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ome dumpl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umplings4"/>
          <p:cNvPicPr/>
          <p:nvPr/>
        </p:nvPicPr>
        <p:blipFill>
          <a:blip r:embed="rId1"/>
          <a:stretch/>
        </p:blipFill>
        <p:spPr>
          <a:xfrm>
            <a:off x="838080" y="2647800"/>
            <a:ext cx="3962520" cy="28450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6858000" y="3124080"/>
            <a:ext cx="990720" cy="83844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095880" y="44197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o, th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李明"/>
          <p:cNvPicPr/>
          <p:nvPr/>
        </p:nvPicPr>
        <p:blipFill>
          <a:blip r:embed="rId1"/>
          <a:stretch/>
        </p:blipFill>
        <p:spPr>
          <a:xfrm>
            <a:off x="6438960" y="0"/>
            <a:ext cx="2705040" cy="3733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1752480" y="533520"/>
            <a:ext cx="4648320" cy="1828800"/>
          </a:xfrm>
          <a:prstGeom prst="cloudCallout">
            <a:avLst>
              <a:gd name="adj1" fmla="val 52935"/>
              <a:gd name="adj2" fmla="val 1744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ould like some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9880" y="137124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ruit3"/>
          <p:cNvPicPr/>
          <p:nvPr/>
        </p:nvPicPr>
        <p:blipFill>
          <a:blip r:embed="rId2"/>
          <a:srcRect l="0" t="0" r="0" b="4197"/>
          <a:stretch/>
        </p:blipFill>
        <p:spPr>
          <a:xfrm>
            <a:off x="1600200" y="3200400"/>
            <a:ext cx="4114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enny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330920" y="3503160"/>
            <a:ext cx="4828680" cy="1601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would like __________,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47640" y="400536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n 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orange33"/>
          <p:cNvPicPr/>
          <p:nvPr/>
        </p:nvPicPr>
        <p:blipFill>
          <a:blip r:embed="rId2"/>
          <a:stretch/>
        </p:blipFill>
        <p:spPr>
          <a:xfrm>
            <a:off x="1752480" y="665280"/>
            <a:ext cx="3124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3:08:54Z</dcterms:created>
  <dc:creator/>
  <dc:description/>
  <dc:language>en-US</dc:language>
  <cp:lastModifiedBy>微软用户</cp:lastModifiedBy>
  <dcterms:modified xsi:type="dcterms:W3CDTF">2016-04-23T12:51:51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