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EB7-CD17-4727-89D9-B3C877F1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390-4286-4CD9-A0AD-6C51A13A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A94-4647-4F38-94BC-75615B10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109-9B35-4A99-B5F6-B419F0D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26B-52D1-4236-99F9-510B7132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6F45-7A81-40E3-AFDD-935D16F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1096-AFAA-40D9-959D-3B19872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077C-0F81-465D-B4A5-57A43120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A01B-C4D8-4F84-BFF2-537B7486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1421-F9BF-400B-9CCE-14C242BB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CCA2-5CC7-42FA-8DE5-09A0C61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482-B008-4AD4-BB95-6A688AB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0C7-458E-42BE-895F-E6D7820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DF0-5FD1-47BE-96B0-F7896426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E88-7C5F-4867-BCC0-A7F4CE5D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BF8-E598-4AED-8320-0AADA7DA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728-4663-43FA-B1A4-439145BB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A869-7B9F-4C0D-816A-F79FEDE5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3779-0EEC-47BC-BD00-90FACC2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EADF-0F5B-481E-A6A1-3ABF7F4A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5E40-6E62-46E9-BCB1-CA9773E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7AD8-2A15-4225-96FF-E956B79F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4FF-98B4-4338-A5A8-57C9E712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6624-E46F-46BF-BF02-10D7BA21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D75A-E9C7-4936-85E7-ADDF366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2DC6-9001-4743-8C61-198823E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1EF5-76DC-4D2E-BE6F-A2442B6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928F-3E97-4546-AECD-99680F62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55C9-1028-4366-96B0-E2951B77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21D4-8502-4697-9BBE-214D34C2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CAEE-26A9-4CBC-B24D-1F9A4F64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43C1-B00D-4E84-A169-15BCCF5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9C42-8C51-4A3D-B8DC-12DDD3C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692-1DD0-4C25-8DCF-9C10A45F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6C52-0558-44EC-8759-3F6F7129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C5AE-F326-4575-A5A7-6788CF5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9E37-9DB8-402B-8AC8-0CD004F6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FCAF-13F0-4F55-8CBB-1A29A10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F351-AF3D-4484-A9D1-02FEB5B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1F77-745F-4774-BE51-9CA3C07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4287-71B6-4E9A-BA12-828152B2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5328-DBE4-4997-AF86-721EF768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E0E66-1B93-4D11-939C-60E4328B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4DAE-17A6-45AD-9E4F-923ECE38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475-C34B-4A6A-B8C5-2702E2D0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1420-ABEE-4CE5-B280-6CF0C80B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5015-F927-4BC3-891E-0F915C95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BD17-9898-4AEE-AB2C-AF09EDDE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BEFC-884F-4253-999B-0035D017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0779-8EF3-4267-BD8C-E0AD861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8ADB-3BAB-47D5-92FD-9399C74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71B6-2A74-421C-BAF5-BBC30AF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69D7-9934-4FDA-BB21-27FB5060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8841-3B93-4B67-A3A8-678FDB68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3238-11E1-42B9-8EE5-44A326D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8DE-A65A-4F3D-8AD3-940D0438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63497-F660-4E6B-B365-B02E5819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F0FB2-4DAD-4878-A705-E1652FD1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8911-A577-4034-9919-9070492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CC15-BCCD-4DFB-BB47-110702C1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A5C0-89A2-44EF-A9A5-5E1E9F0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D87C-B34F-4B4C-A208-DBCD3A4C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1B21-E9E7-4F25-AFA2-DD7381EC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8DDB-6E4F-4B99-93C2-E541B774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13DCB-BD53-4B19-B9AD-721BA92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7376C-78E4-4F7C-8E3F-47AFF94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BCA-945A-41B5-B519-0A4E875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9296-B2D3-4BDC-A028-15151F19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5EC6-4DD1-470E-B0DE-D5056EA7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F990-ACA8-4FBD-AD01-2131349C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96B77-F059-4FA4-8BB4-5F884F1D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8E211-AAC8-4753-9322-1BA88E5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A15D-F001-4EBC-AE62-D1CC558A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048BC-EB9C-426E-8FC0-8BB6FCC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B3F8-0133-4531-8718-23EA9810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265D-878D-453E-AA2B-1B28799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1CE9-DC75-40EA-90CE-9A9F42F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29D-E8BE-4518-A085-589B9CA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D5AA-849C-44F2-90AD-1C3A881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BB87-7BE4-4711-959B-6DE6EFA2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92DA-DF01-4334-87F0-4EA016A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6CDAE-D2AE-4D73-A109-409A6F54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C2AAC-8FBB-43CE-9A44-141C0E2F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D037-3970-425A-B22E-524E3FAF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91CE9-27C0-4BB4-ACBC-FFCBA83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52F6F-467B-45CD-9E1F-FA725BE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432A-8966-409C-A065-EC55F62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79A2-B6C2-4219-9263-1EA7745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4F3-F6F4-4ED6-A09D-ACB3EE40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CAB40-2045-4776-8BDD-C0D16C2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5DC6E-017C-47C0-84FC-8D0E5350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FF8DF-1F41-41BC-9E11-9B2822E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1C789-2CA3-4047-82CD-424D892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DD77B-C3FE-4354-902A-EAEE89A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4FBA-176D-43D6-8E45-06E7DD2E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F8A6-0146-4A67-B7B8-EE487D3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648-C2BB-45C3-A5DD-597109380B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F58E-D991-4D14-BD88-4F5BB7C315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3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57E1-5707-4A59-A1C9-918809E22131}" type="slidenum">
              <a:rPr b="0" lang="zh-CN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矩形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7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817-3EFA-41A7-A572-AC40DDC6EE9B}" type="slidenum"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2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4916-3851-4F10-B88D-820D93D8045C}" type="slidenum">
              <a:rPr b="0" lang="zh-CN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D8C-459D-4BC6-AD4D-1B75B7F30DE1}" type="slidenum">
              <a:rPr b="0" lang="zh-CN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1C6D-8184-48C1-90B0-005F236357EC}" type="slidenum">
              <a:rPr b="0" lang="zh-CN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BBD3-AC99-424B-822C-D8E8C45E3814}" type="slidenum">
              <a:rPr b="0" lang="zh-CN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6"/>
          <p:cNvSpPr/>
          <p:nvPr/>
        </p:nvSpPr>
        <p:spPr>
          <a:xfrm>
            <a:off x="1163520" y="876240"/>
            <a:ext cx="6200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Ming, Jenny and Danny are in Beij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’re having f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! What are they do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1133640" y="2830680"/>
            <a:ext cx="457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g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ing a k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ing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099"/>
          <p:cNvSpPr/>
          <p:nvPr/>
        </p:nvSpPr>
        <p:spPr>
          <a:xfrm>
            <a:off x="466560" y="50004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457200" y="27468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3750"/>
                </a:solidFill>
                <a:latin typeface="Times New Roman"/>
                <a:ea typeface="微软雅黑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1343160" y="1422360"/>
            <a:ext cx="5754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这节课主要学习故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Zeke sends an e-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知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Emma liv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了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w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j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时间不同，以及关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Zek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相关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57200" y="27468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3750"/>
                </a:solidFill>
                <a:latin typeface="Times New Roman"/>
                <a:ea typeface="微软雅黑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632520" y="1397160"/>
            <a:ext cx="8097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听录音，熟读本课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ittle Zeke makes a mistake. Please write an e-m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im and give him some suggestions.  Then sen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这个故事讲给父母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0"/>
          <p:cNvSpPr/>
          <p:nvPr/>
        </p:nvSpPr>
        <p:spPr>
          <a:xfrm>
            <a:off x="2233080" y="111744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Zeke sends an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869040" y="2017800"/>
            <a:ext cx="3993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一次阅读，快速阅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here does Emma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Who gets the e-m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4" descr="t01769802ccac2732a4 (1).jpg"/>
          <p:cNvPicPr/>
          <p:nvPr/>
        </p:nvPicPr>
        <p:blipFill>
          <a:blip r:embed="rId1"/>
          <a:stretch/>
        </p:blipFill>
        <p:spPr>
          <a:xfrm>
            <a:off x="6299280" y="3789360"/>
            <a:ext cx="2419200" cy="1812960"/>
          </a:xfrm>
          <a:prstGeom prst="rect">
            <a:avLst/>
          </a:prstGeom>
          <a:ln w="0">
            <a:noFill/>
          </a:ln>
        </p:spPr>
      </p:pic>
      <p:sp>
        <p:nvSpPr>
          <p:cNvPr id="349" name="矩形 5124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0"/>
          <p:cNvSpPr/>
          <p:nvPr/>
        </p:nvSpPr>
        <p:spPr>
          <a:xfrm>
            <a:off x="1838520" y="1117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阅读第一部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785520" y="1974960"/>
            <a:ext cx="6334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nny wants to send an e-mail to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5743080" y="1974960"/>
            <a:ext cx="11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6148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0"/>
          <p:cNvSpPr/>
          <p:nvPr/>
        </p:nvSpPr>
        <p:spPr>
          <a:xfrm>
            <a:off x="796680" y="11174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阅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nny’s em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836280" y="2170080"/>
            <a:ext cx="649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e-mail, what’s the time in Beij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9"/>
          <p:cNvSpPr/>
          <p:nvPr/>
        </p:nvSpPr>
        <p:spPr>
          <a:xfrm>
            <a:off x="859680" y="364320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n Ottawa, what’s the t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0"/>
          <p:cNvSpPr/>
          <p:nvPr/>
        </p:nvSpPr>
        <p:spPr>
          <a:xfrm>
            <a:off x="866880" y="489096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ime, what are you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7"/>
          <p:cNvSpPr/>
          <p:nvPr/>
        </p:nvSpPr>
        <p:spPr>
          <a:xfrm>
            <a:off x="857880" y="298296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’s one o’clock in the afterno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1"/>
          <p:cNvSpPr/>
          <p:nvPr/>
        </p:nvSpPr>
        <p:spPr>
          <a:xfrm>
            <a:off x="873000" y="430992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’s one o’clock in the mo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2"/>
          <p:cNvSpPr/>
          <p:nvPr/>
        </p:nvSpPr>
        <p:spPr>
          <a:xfrm>
            <a:off x="867600" y="541512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ee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7176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0"/>
          <p:cNvSpPr/>
          <p:nvPr/>
        </p:nvSpPr>
        <p:spPr>
          <a:xfrm>
            <a:off x="1050480" y="111744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阅读第二部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762840" y="1974960"/>
            <a:ext cx="3612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hat’s Emma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857160" y="3784680"/>
            <a:ext cx="581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Who is sending an e-mail to Jenn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1110240" y="2787480"/>
            <a:ext cx="2402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e is slee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245960" y="4441680"/>
            <a:ext cx="183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ttle Ze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198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0"/>
          <p:cNvSpPr/>
          <p:nvPr/>
        </p:nvSpPr>
        <p:spPr>
          <a:xfrm>
            <a:off x="793440" y="111744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阅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Zeke ’s em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264600" y="1974960"/>
            <a:ext cx="5860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here is Em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What is everyon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Where does Little Zeke sle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Where is the s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9219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0"/>
          <p:cNvSpPr/>
          <p:nvPr/>
        </p:nvSpPr>
        <p:spPr>
          <a:xfrm>
            <a:off x="269640" y="2163600"/>
            <a:ext cx="8360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oes Li Ming, Danny, Jenny know Little Ze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wenty-three and forty-four is seventy-si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or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1005840" y="1241280"/>
            <a:ext cx="4457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阅读第三部分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it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1143360" y="2830680"/>
            <a:ext cx="262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, they doe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1133280" y="4695840"/>
            <a:ext cx="12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0245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27468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3750"/>
                </a:solidFill>
                <a:latin typeface="Times New Roman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914400" y="1857240"/>
            <a:ext cx="74152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isten to the tape, and point to th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ad the text with the t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1267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701280" y="814320"/>
            <a:ext cx="2870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nd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371880" y="1755720"/>
            <a:ext cx="8142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s the time the same in Ottawa and in Beij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es Emma send an email to Je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ere does Little Zeke sle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2291"/>
          <p:cNvSpPr/>
          <p:nvPr/>
        </p:nvSpPr>
        <p:spPr>
          <a:xfrm>
            <a:off x="457200" y="181080"/>
            <a:ext cx="2924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355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1355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6-23T08:56:26Z</dcterms:modified>
  <cp:revision>2</cp:revision>
  <dc:subject/>
  <dc:title>幻灯片 1</dc:title>
</cp:coreProperties>
</file>