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7970-44F8-43AC-B51B-79C142FB14C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3790-AC54-4361-8BCF-59461CDD095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eihua.docer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B573-9D0C-40AB-A136-BCFCF017B63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1EC8-C636-4443-BD9E-87A12164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0E29-6CC4-4ADE-BFDD-192885C7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C611-12C9-41BC-8FD0-6C53D7C9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3814-EE73-4580-B013-9FC338D2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6C17-716E-4641-B8D6-456D9F00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6DF-999C-4ABE-B17F-71BF3BFA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08E-1A15-413D-B60F-F5508D11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1DC2-7153-438D-9A7F-66E78DCB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A1CD-BE3E-4B31-AEA9-49E28700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442-FBC3-4F20-84E4-05606ADA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7016-ECF3-4F3C-ACB5-B742ACBF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03D6-B99A-4605-ABB0-B6961447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C79F-1416-4872-B5EA-509AFEA593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kuang025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831960" y="2349360"/>
            <a:ext cx="80611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Look at the photo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M_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3203640" y="1125360"/>
            <a:ext cx="51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was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short in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276720" y="4221000"/>
            <a:ext cx="51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is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tall </a:t>
            </a:r>
            <a:r>
              <a:rPr b="0" lang="zh-CN" sz="3600" spc="-1" strike="noStrike">
                <a:solidFill>
                  <a:srgbClr val="99cc00"/>
                </a:solidFill>
                <a:latin typeface="Comic Sans MS"/>
              </a:rPr>
              <a:t>now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IMG_20150405_094951"/>
          <p:cNvPicPr/>
          <p:nvPr/>
        </p:nvPicPr>
        <p:blipFill>
          <a:blip r:embed="rId2"/>
          <a:stretch/>
        </p:blipFill>
        <p:spPr>
          <a:xfrm>
            <a:off x="611280" y="3429000"/>
            <a:ext cx="2538360" cy="338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psbe"/>
          <p:cNvPicPr/>
          <p:nvPr/>
        </p:nvPicPr>
        <p:blipFill>
          <a:blip r:embed="rId3"/>
          <a:srcRect l="29570" t="2819" r="25176" b="5068"/>
          <a:stretch/>
        </p:blipFill>
        <p:spPr>
          <a:xfrm>
            <a:off x="660240" y="6480"/>
            <a:ext cx="2481480" cy="34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M_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3851280" y="1125360"/>
            <a:ext cx="51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were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in Chi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Comic Sans MS"/>
              </a:rPr>
              <a:t>last week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995640" y="4510080"/>
            <a:ext cx="515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are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in Canada </a:t>
            </a:r>
            <a:r>
              <a:rPr b="0" lang="zh-CN" sz="3600" spc="-1" strike="noStrike">
                <a:solidFill>
                  <a:srgbClr val="99cc00"/>
                </a:solidFill>
                <a:latin typeface="Comic Sans MS"/>
              </a:rPr>
              <a:t>this week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QQ截图20150506194100"/>
          <p:cNvPicPr/>
          <p:nvPr/>
        </p:nvPicPr>
        <p:blipFill>
          <a:blip r:embed="rId2"/>
          <a:srcRect l="0" t="0" r="77323" b="0"/>
          <a:stretch/>
        </p:blipFill>
        <p:spPr>
          <a:xfrm>
            <a:off x="684360" y="3718080"/>
            <a:ext cx="3132000" cy="259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QQ截图20150506194100"/>
          <p:cNvPicPr/>
          <p:nvPr/>
        </p:nvPicPr>
        <p:blipFill>
          <a:blip r:embed="rId3"/>
          <a:srcRect l="50627" t="0" r="29903" b="0"/>
          <a:stretch/>
        </p:blipFill>
        <p:spPr>
          <a:xfrm>
            <a:off x="755640" y="477720"/>
            <a:ext cx="313704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QQ截图20150505164452"/>
          <p:cNvPicPr/>
          <p:nvPr/>
        </p:nvPicPr>
        <p:blipFill>
          <a:blip r:embed="rId1"/>
          <a:srcRect l="9158" t="10938" r="2175" b="5816"/>
          <a:stretch/>
        </p:blipFill>
        <p:spPr>
          <a:xfrm>
            <a:off x="1692360" y="692280"/>
            <a:ext cx="5489640" cy="194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QQ截图20150505164514"/>
          <p:cNvPicPr/>
          <p:nvPr/>
        </p:nvPicPr>
        <p:blipFill>
          <a:blip r:embed="rId2"/>
          <a:srcRect l="1494" t="4833" r="1448" b="3330"/>
          <a:stretch/>
        </p:blipFill>
        <p:spPr>
          <a:xfrm>
            <a:off x="1712880" y="3828960"/>
            <a:ext cx="6008760" cy="21351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4500720" y="4365720"/>
            <a:ext cx="13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284720" y="765000"/>
            <a:ext cx="13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QQ截图20150505164501"/>
          <p:cNvPicPr/>
          <p:nvPr/>
        </p:nvPicPr>
        <p:blipFill>
          <a:blip r:embed="rId1"/>
          <a:srcRect l="8053" t="5940" r="1640" b="3425"/>
          <a:stretch/>
        </p:blipFill>
        <p:spPr>
          <a:xfrm>
            <a:off x="900000" y="620640"/>
            <a:ext cx="7054920" cy="2670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QQ截图20150505164524"/>
          <p:cNvPicPr/>
          <p:nvPr/>
        </p:nvPicPr>
        <p:blipFill>
          <a:blip r:embed="rId2"/>
          <a:srcRect l="1765" t="4642" r="1642" b="4203"/>
          <a:stretch/>
        </p:blipFill>
        <p:spPr>
          <a:xfrm>
            <a:off x="539640" y="3573360"/>
            <a:ext cx="7807320" cy="2735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5219640" y="1125360"/>
            <a:ext cx="13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003640" y="4076640"/>
            <a:ext cx="13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QQ截图20150505164538"/>
          <p:cNvPicPr/>
          <p:nvPr/>
        </p:nvPicPr>
        <p:blipFill>
          <a:blip r:embed="rId1"/>
          <a:srcRect l="8555" t="10816" r="0" b="4793"/>
          <a:stretch/>
        </p:blipFill>
        <p:spPr>
          <a:xfrm>
            <a:off x="468360" y="549360"/>
            <a:ext cx="7632720" cy="2670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QQ截图20150505164559"/>
          <p:cNvPicPr/>
          <p:nvPr/>
        </p:nvPicPr>
        <p:blipFill>
          <a:blip r:embed="rId2"/>
          <a:srcRect l="2275" t="5338" r="0" b="3425"/>
          <a:stretch/>
        </p:blipFill>
        <p:spPr>
          <a:xfrm>
            <a:off x="684360" y="4005360"/>
            <a:ext cx="7488000" cy="2644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4645080" y="4726080"/>
            <a:ext cx="13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580000" y="836640"/>
            <a:ext cx="13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QQ截图20150505164549"/>
          <p:cNvPicPr/>
          <p:nvPr/>
        </p:nvPicPr>
        <p:blipFill>
          <a:blip r:embed="rId1"/>
          <a:srcRect l="9000" t="7293" r="0" b="0"/>
          <a:stretch/>
        </p:blipFill>
        <p:spPr>
          <a:xfrm>
            <a:off x="539640" y="476280"/>
            <a:ext cx="7947000" cy="3024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QQ截图20150505164609"/>
          <p:cNvPicPr/>
          <p:nvPr/>
        </p:nvPicPr>
        <p:blipFill>
          <a:blip r:embed="rId2"/>
          <a:srcRect l="813" t="2452" r="497" b="2046"/>
          <a:stretch/>
        </p:blipFill>
        <p:spPr>
          <a:xfrm>
            <a:off x="468360" y="3718080"/>
            <a:ext cx="8340840" cy="3024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6372360" y="9097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omic Sans MS"/>
              </a:rPr>
              <a:t>w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5219640" y="436572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QQ截图20150506170904"/>
          <p:cNvPicPr/>
          <p:nvPr/>
        </p:nvPicPr>
        <p:blipFill>
          <a:blip r:embed="rId1"/>
          <a:srcRect l="6375" t="7879" r="3371" b="9571"/>
          <a:stretch/>
        </p:blipFill>
        <p:spPr>
          <a:xfrm>
            <a:off x="1246320" y="1876320"/>
            <a:ext cx="6939000" cy="48578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79280" y="189000"/>
            <a:ext cx="448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were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the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What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did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they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572000" y="189000"/>
            <a:ext cx="448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were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on the train to Beij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played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with the ba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kuang025"/>
          <p:cNvPicPr/>
          <p:nvPr/>
        </p:nvPicPr>
        <p:blipFill>
          <a:blip r:embed="rId1">
            <a:alphaModFix amt="24000"/>
          </a:blip>
          <a:stretch/>
        </p:blipFill>
        <p:spPr>
          <a:xfrm>
            <a:off x="-108000" y="0"/>
            <a:ext cx="944568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QQ截图20150506170918"/>
          <p:cNvPicPr/>
          <p:nvPr/>
        </p:nvPicPr>
        <p:blipFill>
          <a:blip r:embed="rId2"/>
          <a:stretch/>
        </p:blipFill>
        <p:spPr>
          <a:xfrm>
            <a:off x="1547640" y="2276640"/>
            <a:ext cx="6050160" cy="4216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252360" y="333360"/>
            <a:ext cx="4392720" cy="17406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was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Dann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What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happened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573440" y="404640"/>
            <a:ext cx="4680000" cy="155772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was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at the Palace Mus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hurt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his 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kuang025"/>
          <p:cNvPicPr/>
          <p:nvPr/>
        </p:nvPicPr>
        <p:blipFill>
          <a:blip r:embed="rId1"/>
          <a:stretch/>
        </p:blipFill>
        <p:spPr>
          <a:xfrm>
            <a:off x="-81000" y="-12600"/>
            <a:ext cx="94471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324000" y="189000"/>
            <a:ext cx="4392360" cy="119196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were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the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What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happened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6"/>
          <p:cNvGrpSpPr/>
          <p:nvPr/>
        </p:nvGrpSpPr>
        <p:grpSpPr>
          <a:xfrm>
            <a:off x="73080" y="3141720"/>
            <a:ext cx="9105840" cy="3243240"/>
            <a:chOff x="73080" y="3141720"/>
            <a:chExt cx="9105840" cy="3243240"/>
          </a:xfrm>
        </p:grpSpPr>
        <p:pic>
          <p:nvPicPr>
            <p:cNvPr id="139" name="Picture 7" descr="QQ截图20150506171058"/>
            <p:cNvPicPr/>
            <p:nvPr/>
          </p:nvPicPr>
          <p:blipFill>
            <a:blip r:embed="rId2"/>
            <a:stretch/>
          </p:blipFill>
          <p:spPr>
            <a:xfrm>
              <a:off x="4571640" y="3285720"/>
              <a:ext cx="4607280" cy="30992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pic>
          <p:nvPicPr>
            <p:cNvPr id="140" name="Picture 8" descr="ddddddd"/>
            <p:cNvPicPr/>
            <p:nvPr/>
          </p:nvPicPr>
          <p:blipFill>
            <a:blip r:embed="rId3"/>
            <a:srcRect l="4065" t="8029" r="6393" b="6132"/>
            <a:stretch/>
          </p:blipFill>
          <p:spPr>
            <a:xfrm>
              <a:off x="73080" y="3141720"/>
              <a:ext cx="4541760" cy="323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 Box 9"/>
          <p:cNvSpPr/>
          <p:nvPr/>
        </p:nvSpPr>
        <p:spPr>
          <a:xfrm>
            <a:off x="4716360" y="260280"/>
            <a:ext cx="4680000" cy="119196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were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on the Great W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Danny </a:t>
            </a: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lost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his c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动画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684360" y="4046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腾祥嘉丽中黑简"/>
              </a:rPr>
              <a:t>跟磁带读课文，找出文中的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腾祥嘉丽中黑简"/>
              </a:rPr>
              <a:t>过去时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腾祥嘉丽中黑简"/>
              </a:rPr>
              <a:t>的动词并写出原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692360" y="1844640"/>
            <a:ext cx="526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play          </a:t>
            </a:r>
            <a:r>
              <a:rPr b="0" lang="zh-CN" sz="4000" spc="-1" strike="noStrike">
                <a:solidFill>
                  <a:srgbClr val="ff0066"/>
                </a:solidFill>
                <a:latin typeface="Arial Black"/>
              </a:rPr>
              <a:t>play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692360" y="2602080"/>
            <a:ext cx="526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are            </a:t>
            </a:r>
            <a:r>
              <a:rPr b="0" lang="zh-CN" sz="4000" spc="-1" strike="noStrike">
                <a:solidFill>
                  <a:srgbClr val="ff0066"/>
                </a:solidFill>
                <a:latin typeface="Arial Black"/>
              </a:rPr>
              <a:t>w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692360" y="3357720"/>
            <a:ext cx="526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is,am         </a:t>
            </a:r>
            <a:r>
              <a:rPr b="0" lang="zh-CN" sz="4000" spc="-1" strike="noStrike">
                <a:solidFill>
                  <a:srgbClr val="ff0066"/>
                </a:solidFill>
                <a:latin typeface="Arial Black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692360" y="411480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happen     </a:t>
            </a:r>
            <a:r>
              <a:rPr b="0" lang="zh-CN" sz="4000" spc="-1" strike="noStrike">
                <a:solidFill>
                  <a:srgbClr val="ff0066"/>
                </a:solidFill>
                <a:latin typeface="Arial Black"/>
              </a:rPr>
              <a:t>happe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692360" y="48704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 Black"/>
              </a:rPr>
              <a:t>hurt</a:t>
            </a: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zh-CN" sz="4000" spc="-1" strike="noStrike">
                <a:solidFill>
                  <a:srgbClr val="ff0066"/>
                </a:solidFill>
                <a:latin typeface="Arial Black"/>
              </a:rPr>
              <a:t>hu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等腰三角形 5"/>
          <p:cNvSpPr/>
          <p:nvPr/>
        </p:nvSpPr>
        <p:spPr>
          <a:xfrm>
            <a:off x="982800" y="2681280"/>
            <a:ext cx="1895400" cy="1635120"/>
          </a:xfrm>
          <a:prstGeom prst="triangle">
            <a:avLst>
              <a:gd name="adj" fmla="val 50000"/>
            </a:avLst>
          </a:prstGeom>
          <a:solidFill>
            <a:srgbClr val="008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44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6"/>
          <p:cNvSpPr/>
          <p:nvPr/>
        </p:nvSpPr>
        <p:spPr>
          <a:xfrm>
            <a:off x="763560" y="2422440"/>
            <a:ext cx="2333520" cy="20131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99ee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9"/>
          <p:cNvSpPr/>
          <p:nvPr/>
        </p:nvSpPr>
        <p:spPr>
          <a:xfrm>
            <a:off x="1930320" y="0"/>
            <a:ext cx="0" cy="2422440"/>
          </a:xfrm>
          <a:prstGeom prst="line">
            <a:avLst/>
          </a:prstGeom>
          <a:ln w="6480">
            <a:solidFill>
              <a:srgbClr val="0099ee"/>
            </a:solidFill>
            <a:prstDash val="lgDashDot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22"/>
          <p:cNvSpPr/>
          <p:nvPr/>
        </p:nvSpPr>
        <p:spPr>
          <a:xfrm>
            <a:off x="1930320" y="4448160"/>
            <a:ext cx="0" cy="2413080"/>
          </a:xfrm>
          <a:prstGeom prst="line">
            <a:avLst/>
          </a:prstGeom>
          <a:ln w="6480">
            <a:solidFill>
              <a:srgbClr val="0099ee"/>
            </a:solidFill>
            <a:prstDash val="lgDashDot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1"/>
          <p:cNvSpPr/>
          <p:nvPr/>
        </p:nvSpPr>
        <p:spPr>
          <a:xfrm>
            <a:off x="4211640" y="981000"/>
            <a:ext cx="49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1c8"/>
                </a:solidFill>
                <a:latin typeface="黑体"/>
                <a:ea typeface="黑体"/>
              </a:rPr>
              <a:t>要求学生能听、说、读、写下列词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1c8"/>
                </a:solidFill>
                <a:latin typeface="黑体"/>
                <a:ea typeface="黑体"/>
              </a:rPr>
              <a:t>was were ph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2"/>
          <p:cNvSpPr/>
          <p:nvPr/>
        </p:nvSpPr>
        <p:spPr>
          <a:xfrm flipH="1">
            <a:off x="3638160" y="884160"/>
            <a:ext cx="498600" cy="649440"/>
          </a:xfrm>
          <a:prstGeom prst="line">
            <a:avLst/>
          </a:prstGeom>
          <a:ln w="6480">
            <a:solidFill>
              <a:srgbClr val="0099e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3"/>
          <p:cNvSpPr/>
          <p:nvPr/>
        </p:nvSpPr>
        <p:spPr>
          <a:xfrm>
            <a:off x="3440160" y="595440"/>
            <a:ext cx="38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196"/>
                </a:solidFill>
                <a:latin typeface="华康俪金黑W8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5"/>
          <p:cNvSpPr/>
          <p:nvPr/>
        </p:nvSpPr>
        <p:spPr>
          <a:xfrm>
            <a:off x="4230720" y="2529000"/>
            <a:ext cx="456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1c8"/>
                </a:solidFill>
                <a:latin typeface="黑体"/>
                <a:ea typeface="黑体"/>
              </a:rPr>
              <a:t>理解</a:t>
            </a:r>
            <a:r>
              <a:rPr b="0" lang="zh-CN" sz="2800" spc="-1" strike="noStrike">
                <a:solidFill>
                  <a:srgbClr val="0081c8"/>
                </a:solidFill>
                <a:latin typeface="黑体"/>
                <a:ea typeface="黑体"/>
              </a:rPr>
              <a:t>What happened</a:t>
            </a:r>
            <a:r>
              <a:rPr b="0" lang="zh-CN" sz="2800" spc="-1" strike="noStrike">
                <a:solidFill>
                  <a:srgbClr val="0081c8"/>
                </a:solidFill>
                <a:latin typeface="黑体"/>
                <a:ea typeface="黑体"/>
              </a:rPr>
              <a:t>？的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6"/>
          <p:cNvSpPr/>
          <p:nvPr/>
        </p:nvSpPr>
        <p:spPr>
          <a:xfrm flipH="1">
            <a:off x="3638160" y="2411280"/>
            <a:ext cx="498600" cy="650880"/>
          </a:xfrm>
          <a:prstGeom prst="line">
            <a:avLst/>
          </a:prstGeom>
          <a:ln w="6480">
            <a:solidFill>
              <a:srgbClr val="0099e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7"/>
          <p:cNvSpPr/>
          <p:nvPr/>
        </p:nvSpPr>
        <p:spPr>
          <a:xfrm>
            <a:off x="3440160" y="1979640"/>
            <a:ext cx="38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196"/>
                </a:solidFill>
                <a:latin typeface="华康俪金黑W8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9"/>
          <p:cNvSpPr/>
          <p:nvPr/>
        </p:nvSpPr>
        <p:spPr>
          <a:xfrm>
            <a:off x="4140360" y="35020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1c8"/>
                </a:solidFill>
                <a:latin typeface="黑体"/>
                <a:ea typeface="黑体"/>
              </a:rPr>
              <a:t>通过对照片的描述，继续加深对现在时和过去时概念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20"/>
          <p:cNvSpPr/>
          <p:nvPr/>
        </p:nvSpPr>
        <p:spPr>
          <a:xfrm flipH="1">
            <a:off x="3638160" y="3581280"/>
            <a:ext cx="498600" cy="650880"/>
          </a:xfrm>
          <a:prstGeom prst="line">
            <a:avLst/>
          </a:prstGeom>
          <a:ln w="6480">
            <a:solidFill>
              <a:srgbClr val="0099e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1"/>
          <p:cNvSpPr/>
          <p:nvPr/>
        </p:nvSpPr>
        <p:spPr>
          <a:xfrm>
            <a:off x="3440160" y="3149640"/>
            <a:ext cx="38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196"/>
                </a:solidFill>
                <a:latin typeface="华康俪金黑W8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3"/>
          <p:cNvSpPr/>
          <p:nvPr/>
        </p:nvSpPr>
        <p:spPr>
          <a:xfrm>
            <a:off x="4086360" y="4726080"/>
            <a:ext cx="45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1c8"/>
                </a:solidFill>
                <a:latin typeface="黑体"/>
                <a:ea typeface="黑体"/>
              </a:rPr>
              <a:t>养成听录音跟读句子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4"/>
          <p:cNvSpPr/>
          <p:nvPr/>
        </p:nvSpPr>
        <p:spPr>
          <a:xfrm flipH="1">
            <a:off x="3638160" y="4680000"/>
            <a:ext cx="498600" cy="650880"/>
          </a:xfrm>
          <a:prstGeom prst="line">
            <a:avLst/>
          </a:prstGeom>
          <a:ln w="6480">
            <a:solidFill>
              <a:srgbClr val="0099e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5"/>
          <p:cNvSpPr/>
          <p:nvPr/>
        </p:nvSpPr>
        <p:spPr>
          <a:xfrm>
            <a:off x="3440160" y="4248000"/>
            <a:ext cx="38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196"/>
                </a:solidFill>
                <a:latin typeface="华康俪金黑W8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3"/>
          <p:cNvSpPr/>
          <p:nvPr/>
        </p:nvSpPr>
        <p:spPr>
          <a:xfrm>
            <a:off x="4070520" y="564192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1c8"/>
                </a:solidFill>
                <a:latin typeface="黑体"/>
                <a:ea typeface="黑体"/>
              </a:rPr>
              <a:t>努力在日常生活中模仿和运用英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24"/>
          <p:cNvSpPr/>
          <p:nvPr/>
        </p:nvSpPr>
        <p:spPr>
          <a:xfrm flipH="1">
            <a:off x="3693600" y="5668920"/>
            <a:ext cx="498600" cy="649440"/>
          </a:xfrm>
          <a:prstGeom prst="line">
            <a:avLst/>
          </a:prstGeom>
          <a:ln w="6480">
            <a:solidFill>
              <a:srgbClr val="0099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5"/>
          <p:cNvSpPr/>
          <p:nvPr/>
        </p:nvSpPr>
        <p:spPr>
          <a:xfrm>
            <a:off x="3424320" y="5308560"/>
            <a:ext cx="38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196"/>
                </a:solidFill>
                <a:latin typeface="华康俪金黑W8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任意多边形 2"/>
          <p:cNvSpPr/>
          <p:nvPr/>
        </p:nvSpPr>
        <p:spPr>
          <a:xfrm>
            <a:off x="2320920" y="2360520"/>
            <a:ext cx="4800600" cy="63972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4800600" h="640080">
                <a:moveTo>
                  <a:pt x="304800" y="0"/>
                </a:moveTo>
                <a:lnTo>
                  <a:pt x="4800600" y="7620"/>
                </a:lnTo>
                <a:lnTo>
                  <a:pt x="4495800" y="640080"/>
                </a:lnTo>
                <a:lnTo>
                  <a:pt x="0" y="640080"/>
                </a:lnTo>
                <a:lnTo>
                  <a:pt x="304800" y="0"/>
                </a:lnTo>
                <a:close/>
              </a:path>
            </a:pathLst>
          </a:custGeom>
          <a:solidFill>
            <a:srgbClr val="e86e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3"/>
          <p:cNvSpPr/>
          <p:nvPr/>
        </p:nvSpPr>
        <p:spPr>
          <a:xfrm>
            <a:off x="6853320" y="2535120"/>
            <a:ext cx="693720" cy="549360"/>
          </a:xfrm>
          <a:custGeom>
            <a:avLst/>
            <a:gdLst>
              <a:gd name="textAreaLeft" fmla="*/ 0 w 693720"/>
              <a:gd name="textAreaRight" fmla="*/ 694080 w 69372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693420" h="548640">
                <a:moveTo>
                  <a:pt x="274320" y="0"/>
                </a:moveTo>
                <a:lnTo>
                  <a:pt x="693420" y="7620"/>
                </a:lnTo>
                <a:lnTo>
                  <a:pt x="449580" y="259080"/>
                </a:lnTo>
                <a:lnTo>
                  <a:pt x="571500" y="548640"/>
                </a:lnTo>
                <a:lnTo>
                  <a:pt x="0" y="533400"/>
                </a:lnTo>
                <a:lnTo>
                  <a:pt x="274320" y="0"/>
                </a:lnTo>
                <a:close/>
              </a:path>
            </a:pathLst>
          </a:custGeom>
          <a:solidFill>
            <a:srgbClr val="e86e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4"/>
          <p:cNvSpPr/>
          <p:nvPr/>
        </p:nvSpPr>
        <p:spPr>
          <a:xfrm flipH="1" flipV="1">
            <a:off x="1910520" y="2253600"/>
            <a:ext cx="692280" cy="547560"/>
          </a:xfrm>
          <a:custGeom>
            <a:avLst/>
            <a:gdLst>
              <a:gd name="textAreaLeft" fmla="*/ -360 w 692280"/>
              <a:gd name="textAreaRight" fmla="*/ 692280 w 692280"/>
              <a:gd name="textAreaTop" fmla="*/ -360 h 547560"/>
              <a:gd name="textAreaBottom" fmla="*/ 547560 h 547560"/>
            </a:gdLst>
            <a:ahLst/>
            <a:rect l="textAreaLeft" t="textAreaTop" r="textAreaRight" b="textAreaBottom"/>
            <a:pathLst>
              <a:path w="693420" h="548640">
                <a:moveTo>
                  <a:pt x="274320" y="0"/>
                </a:moveTo>
                <a:lnTo>
                  <a:pt x="693420" y="7620"/>
                </a:lnTo>
                <a:lnTo>
                  <a:pt x="449580" y="259080"/>
                </a:lnTo>
                <a:lnTo>
                  <a:pt x="571500" y="548640"/>
                </a:lnTo>
                <a:lnTo>
                  <a:pt x="0" y="533400"/>
                </a:lnTo>
                <a:lnTo>
                  <a:pt x="274320" y="0"/>
                </a:lnTo>
                <a:close/>
              </a:path>
            </a:pathLst>
          </a:custGeom>
          <a:solidFill>
            <a:srgbClr val="e86e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5"/>
          <p:cNvSpPr/>
          <p:nvPr/>
        </p:nvSpPr>
        <p:spPr>
          <a:xfrm>
            <a:off x="3106800" y="2427120"/>
            <a:ext cx="3270240" cy="552600"/>
          </a:xfrm>
          <a:custGeom>
            <a:avLst/>
            <a:gdLst>
              <a:gd name="textAreaLeft" fmla="*/ 0 w 3270240"/>
              <a:gd name="textAreaRight" fmla="*/ 3270600 w 32702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17153" h="2886">
                <a:moveTo>
                  <a:pt x="5348" y="905"/>
                </a:moveTo>
                <a:cubicBezTo>
                  <a:pt x="5315" y="905"/>
                  <a:pt x="5286" y="919"/>
                  <a:pt x="5262" y="947"/>
                </a:cubicBezTo>
                <a:cubicBezTo>
                  <a:pt x="5237" y="975"/>
                  <a:pt x="5217" y="1016"/>
                  <a:pt x="5202" y="1068"/>
                </a:cubicBezTo>
                <a:cubicBezTo>
                  <a:pt x="5127" y="1322"/>
                  <a:pt x="5051" y="1576"/>
                  <a:pt x="4976" y="1830"/>
                </a:cubicBezTo>
                <a:cubicBezTo>
                  <a:pt x="4963" y="1874"/>
                  <a:pt x="4956" y="1914"/>
                  <a:pt x="4956" y="1951"/>
                </a:cubicBezTo>
                <a:cubicBezTo>
                  <a:pt x="4956" y="2003"/>
                  <a:pt x="4976" y="2029"/>
                  <a:pt x="5016" y="2029"/>
                </a:cubicBezTo>
                <a:cubicBezTo>
                  <a:pt x="5067" y="2029"/>
                  <a:pt x="5141" y="1983"/>
                  <a:pt x="5238" y="1891"/>
                </a:cubicBezTo>
                <a:cubicBezTo>
                  <a:pt x="5240" y="1835"/>
                  <a:pt x="5256" y="1755"/>
                  <a:pt x="5285" y="1653"/>
                </a:cubicBezTo>
                <a:cubicBezTo>
                  <a:pt x="5351" y="1427"/>
                  <a:pt x="5418" y="1202"/>
                  <a:pt x="5484" y="977"/>
                </a:cubicBezTo>
                <a:cubicBezTo>
                  <a:pt x="5439" y="929"/>
                  <a:pt x="5394" y="905"/>
                  <a:pt x="5348" y="905"/>
                </a:cubicBezTo>
                <a:close/>
                <a:moveTo>
                  <a:pt x="14384" y="895"/>
                </a:moveTo>
                <a:cubicBezTo>
                  <a:pt x="14343" y="895"/>
                  <a:pt x="14310" y="912"/>
                  <a:pt x="14286" y="945"/>
                </a:cubicBezTo>
                <a:cubicBezTo>
                  <a:pt x="14261" y="978"/>
                  <a:pt x="14239" y="1024"/>
                  <a:pt x="14222" y="1082"/>
                </a:cubicBezTo>
                <a:cubicBezTo>
                  <a:pt x="14139" y="1359"/>
                  <a:pt x="14056" y="1636"/>
                  <a:pt x="13973" y="1912"/>
                </a:cubicBezTo>
                <a:cubicBezTo>
                  <a:pt x="13957" y="1961"/>
                  <a:pt x="13950" y="2004"/>
                  <a:pt x="13950" y="2040"/>
                </a:cubicBezTo>
                <a:cubicBezTo>
                  <a:pt x="13950" y="2071"/>
                  <a:pt x="13959" y="2097"/>
                  <a:pt x="13979" y="2117"/>
                </a:cubicBezTo>
                <a:cubicBezTo>
                  <a:pt x="13998" y="2137"/>
                  <a:pt x="14023" y="2148"/>
                  <a:pt x="14052" y="2148"/>
                </a:cubicBezTo>
                <a:cubicBezTo>
                  <a:pt x="14088" y="2148"/>
                  <a:pt x="14118" y="2136"/>
                  <a:pt x="14141" y="2114"/>
                </a:cubicBezTo>
                <a:cubicBezTo>
                  <a:pt x="14164" y="2091"/>
                  <a:pt x="14183" y="2061"/>
                  <a:pt x="14200" y="2021"/>
                </a:cubicBezTo>
                <a:cubicBezTo>
                  <a:pt x="14216" y="1981"/>
                  <a:pt x="14256" y="1853"/>
                  <a:pt x="14320" y="1634"/>
                </a:cubicBezTo>
                <a:cubicBezTo>
                  <a:pt x="14383" y="1416"/>
                  <a:pt x="14428" y="1265"/>
                  <a:pt x="14454" y="1182"/>
                </a:cubicBezTo>
                <a:cubicBezTo>
                  <a:pt x="14480" y="1098"/>
                  <a:pt x="14493" y="1039"/>
                  <a:pt x="14493" y="1002"/>
                </a:cubicBezTo>
                <a:cubicBezTo>
                  <a:pt x="14493" y="974"/>
                  <a:pt x="14482" y="948"/>
                  <a:pt x="14461" y="927"/>
                </a:cubicBezTo>
                <a:cubicBezTo>
                  <a:pt x="14440" y="906"/>
                  <a:pt x="14415" y="895"/>
                  <a:pt x="14384" y="895"/>
                </a:cubicBezTo>
                <a:close/>
                <a:moveTo>
                  <a:pt x="11987" y="842"/>
                </a:moveTo>
                <a:cubicBezTo>
                  <a:pt x="12083" y="842"/>
                  <a:pt x="12159" y="864"/>
                  <a:pt x="12216" y="906"/>
                </a:cubicBezTo>
                <a:cubicBezTo>
                  <a:pt x="12274" y="949"/>
                  <a:pt x="12302" y="1003"/>
                  <a:pt x="12302" y="1068"/>
                </a:cubicBezTo>
                <a:cubicBezTo>
                  <a:pt x="12302" y="1099"/>
                  <a:pt x="12291" y="1153"/>
                  <a:pt x="12270" y="1230"/>
                </a:cubicBezTo>
                <a:cubicBezTo>
                  <a:pt x="12206" y="1459"/>
                  <a:pt x="12142" y="1689"/>
                  <a:pt x="12078" y="1918"/>
                </a:cubicBezTo>
                <a:cubicBezTo>
                  <a:pt x="12070" y="1944"/>
                  <a:pt x="12066" y="1970"/>
                  <a:pt x="12066" y="1997"/>
                </a:cubicBezTo>
                <a:cubicBezTo>
                  <a:pt x="12066" y="2018"/>
                  <a:pt x="12075" y="2029"/>
                  <a:pt x="12093" y="2029"/>
                </a:cubicBezTo>
                <a:cubicBezTo>
                  <a:pt x="12133" y="2029"/>
                  <a:pt x="12216" y="1978"/>
                  <a:pt x="12342" y="1875"/>
                </a:cubicBezTo>
                <a:cubicBezTo>
                  <a:pt x="12441" y="1542"/>
                  <a:pt x="12540" y="1209"/>
                  <a:pt x="12639" y="876"/>
                </a:cubicBezTo>
                <a:cubicBezTo>
                  <a:pt x="12873" y="876"/>
                  <a:pt x="13108" y="876"/>
                  <a:pt x="13342" y="876"/>
                </a:cubicBezTo>
                <a:cubicBezTo>
                  <a:pt x="13213" y="1312"/>
                  <a:pt x="13083" y="1748"/>
                  <a:pt x="12953" y="2184"/>
                </a:cubicBezTo>
                <a:cubicBezTo>
                  <a:pt x="12868" y="2465"/>
                  <a:pt x="12729" y="2652"/>
                  <a:pt x="12535" y="2746"/>
                </a:cubicBezTo>
                <a:cubicBezTo>
                  <a:pt x="12341" y="2839"/>
                  <a:pt x="12125" y="2886"/>
                  <a:pt x="11886" y="2886"/>
                </a:cubicBezTo>
                <a:cubicBezTo>
                  <a:pt x="11695" y="2886"/>
                  <a:pt x="11537" y="2849"/>
                  <a:pt x="11413" y="2775"/>
                </a:cubicBezTo>
                <a:cubicBezTo>
                  <a:pt x="11289" y="2702"/>
                  <a:pt x="11227" y="2609"/>
                  <a:pt x="11227" y="2498"/>
                </a:cubicBezTo>
                <a:cubicBezTo>
                  <a:pt x="11227" y="2431"/>
                  <a:pt x="11250" y="2373"/>
                  <a:pt x="11298" y="2324"/>
                </a:cubicBezTo>
                <a:cubicBezTo>
                  <a:pt x="11346" y="2275"/>
                  <a:pt x="11402" y="2250"/>
                  <a:pt x="11466" y="2250"/>
                </a:cubicBezTo>
                <a:cubicBezTo>
                  <a:pt x="11534" y="2250"/>
                  <a:pt x="11590" y="2275"/>
                  <a:pt x="11636" y="2325"/>
                </a:cubicBezTo>
                <a:cubicBezTo>
                  <a:pt x="11681" y="2375"/>
                  <a:pt x="11704" y="2439"/>
                  <a:pt x="11704" y="2516"/>
                </a:cubicBezTo>
                <a:cubicBezTo>
                  <a:pt x="11704" y="2622"/>
                  <a:pt x="11656" y="2702"/>
                  <a:pt x="11560" y="2758"/>
                </a:cubicBezTo>
                <a:cubicBezTo>
                  <a:pt x="11619" y="2793"/>
                  <a:pt x="11685" y="2811"/>
                  <a:pt x="11758" y="2811"/>
                </a:cubicBezTo>
                <a:cubicBezTo>
                  <a:pt x="11831" y="2811"/>
                  <a:pt x="11896" y="2795"/>
                  <a:pt x="11952" y="2763"/>
                </a:cubicBezTo>
                <a:cubicBezTo>
                  <a:pt x="12009" y="2731"/>
                  <a:pt x="12055" y="2684"/>
                  <a:pt x="12091" y="2622"/>
                </a:cubicBezTo>
                <a:cubicBezTo>
                  <a:pt x="12126" y="2560"/>
                  <a:pt x="12161" y="2473"/>
                  <a:pt x="12194" y="2362"/>
                </a:cubicBezTo>
                <a:cubicBezTo>
                  <a:pt x="12233" y="2235"/>
                  <a:pt x="12273" y="2108"/>
                  <a:pt x="12312" y="1981"/>
                </a:cubicBezTo>
                <a:cubicBezTo>
                  <a:pt x="12310" y="1979"/>
                  <a:pt x="12307" y="1977"/>
                  <a:pt x="12305" y="1975"/>
                </a:cubicBezTo>
                <a:cubicBezTo>
                  <a:pt x="12094" y="2136"/>
                  <a:pt x="11910" y="2216"/>
                  <a:pt x="11752" y="2216"/>
                </a:cubicBezTo>
                <a:cubicBezTo>
                  <a:pt x="11653" y="2216"/>
                  <a:pt x="11572" y="2189"/>
                  <a:pt x="11508" y="2134"/>
                </a:cubicBezTo>
                <a:cubicBezTo>
                  <a:pt x="11444" y="2079"/>
                  <a:pt x="11412" y="2010"/>
                  <a:pt x="11412" y="1928"/>
                </a:cubicBezTo>
                <a:cubicBezTo>
                  <a:pt x="11412" y="1866"/>
                  <a:pt x="11427" y="1785"/>
                  <a:pt x="11458" y="1685"/>
                </a:cubicBezTo>
                <a:cubicBezTo>
                  <a:pt x="11499" y="1547"/>
                  <a:pt x="11540" y="1409"/>
                  <a:pt x="11581" y="1271"/>
                </a:cubicBezTo>
                <a:cubicBezTo>
                  <a:pt x="11588" y="1250"/>
                  <a:pt x="11592" y="1230"/>
                  <a:pt x="11592" y="1212"/>
                </a:cubicBezTo>
                <a:cubicBezTo>
                  <a:pt x="11592" y="1184"/>
                  <a:pt x="11584" y="1171"/>
                  <a:pt x="11566" y="1171"/>
                </a:cubicBezTo>
                <a:cubicBezTo>
                  <a:pt x="11530" y="1171"/>
                  <a:pt x="11477" y="1243"/>
                  <a:pt x="11406" y="1387"/>
                </a:cubicBezTo>
                <a:cubicBezTo>
                  <a:pt x="11386" y="1376"/>
                  <a:pt x="11365" y="1365"/>
                  <a:pt x="11344" y="1355"/>
                </a:cubicBezTo>
                <a:cubicBezTo>
                  <a:pt x="11417" y="1190"/>
                  <a:pt x="11510" y="1064"/>
                  <a:pt x="11624" y="975"/>
                </a:cubicBezTo>
                <a:cubicBezTo>
                  <a:pt x="11737" y="886"/>
                  <a:pt x="11859" y="842"/>
                  <a:pt x="11987" y="842"/>
                </a:cubicBezTo>
                <a:close/>
                <a:moveTo>
                  <a:pt x="5230" y="826"/>
                </a:moveTo>
                <a:cubicBezTo>
                  <a:pt x="5347" y="826"/>
                  <a:pt x="5438" y="856"/>
                  <a:pt x="5505" y="914"/>
                </a:cubicBezTo>
                <a:cubicBezTo>
                  <a:pt x="5508" y="901"/>
                  <a:pt x="5510" y="889"/>
                  <a:pt x="5513" y="876"/>
                </a:cubicBezTo>
                <a:cubicBezTo>
                  <a:pt x="5746" y="876"/>
                  <a:pt x="5979" y="876"/>
                  <a:pt x="6211" y="876"/>
                </a:cubicBezTo>
                <a:cubicBezTo>
                  <a:pt x="6030" y="1488"/>
                  <a:pt x="5932" y="1818"/>
                  <a:pt x="5917" y="1866"/>
                </a:cubicBezTo>
                <a:cubicBezTo>
                  <a:pt x="5901" y="1914"/>
                  <a:pt x="5894" y="1947"/>
                  <a:pt x="5894" y="1967"/>
                </a:cubicBezTo>
                <a:cubicBezTo>
                  <a:pt x="5894" y="1977"/>
                  <a:pt x="5898" y="1987"/>
                  <a:pt x="5907" y="1996"/>
                </a:cubicBezTo>
                <a:cubicBezTo>
                  <a:pt x="5916" y="2005"/>
                  <a:pt x="5925" y="2010"/>
                  <a:pt x="5933" y="2010"/>
                </a:cubicBezTo>
                <a:cubicBezTo>
                  <a:pt x="5955" y="2010"/>
                  <a:pt x="5987" y="1979"/>
                  <a:pt x="6028" y="1916"/>
                </a:cubicBezTo>
                <a:cubicBezTo>
                  <a:pt x="6070" y="1854"/>
                  <a:pt x="6108" y="1781"/>
                  <a:pt x="6140" y="1699"/>
                </a:cubicBezTo>
                <a:cubicBezTo>
                  <a:pt x="6159" y="1709"/>
                  <a:pt x="6178" y="1718"/>
                  <a:pt x="6197" y="1728"/>
                </a:cubicBezTo>
                <a:cubicBezTo>
                  <a:pt x="6076" y="2054"/>
                  <a:pt x="5886" y="2216"/>
                  <a:pt x="5628" y="2216"/>
                </a:cubicBezTo>
                <a:cubicBezTo>
                  <a:pt x="5542" y="2216"/>
                  <a:pt x="5464" y="2193"/>
                  <a:pt x="5396" y="2148"/>
                </a:cubicBezTo>
                <a:cubicBezTo>
                  <a:pt x="5327" y="2102"/>
                  <a:pt x="5279" y="2040"/>
                  <a:pt x="5253" y="1963"/>
                </a:cubicBezTo>
                <a:cubicBezTo>
                  <a:pt x="5091" y="2132"/>
                  <a:pt x="4916" y="2216"/>
                  <a:pt x="4728" y="2216"/>
                </a:cubicBezTo>
                <a:cubicBezTo>
                  <a:pt x="4590" y="2216"/>
                  <a:pt x="4477" y="2173"/>
                  <a:pt x="4388" y="2087"/>
                </a:cubicBezTo>
                <a:cubicBezTo>
                  <a:pt x="4299" y="2000"/>
                  <a:pt x="4255" y="1890"/>
                  <a:pt x="4255" y="1757"/>
                </a:cubicBezTo>
                <a:cubicBezTo>
                  <a:pt x="4255" y="1522"/>
                  <a:pt x="4355" y="1308"/>
                  <a:pt x="4556" y="1115"/>
                </a:cubicBezTo>
                <a:cubicBezTo>
                  <a:pt x="4757" y="923"/>
                  <a:pt x="4982" y="826"/>
                  <a:pt x="5230" y="826"/>
                </a:cubicBezTo>
                <a:close/>
                <a:moveTo>
                  <a:pt x="14324" y="823"/>
                </a:moveTo>
                <a:cubicBezTo>
                  <a:pt x="14550" y="823"/>
                  <a:pt x="14734" y="877"/>
                  <a:pt x="14876" y="986"/>
                </a:cubicBezTo>
                <a:cubicBezTo>
                  <a:pt x="15018" y="1094"/>
                  <a:pt x="15090" y="1232"/>
                  <a:pt x="15090" y="1400"/>
                </a:cubicBezTo>
                <a:cubicBezTo>
                  <a:pt x="15090" y="1630"/>
                  <a:pt x="14994" y="1824"/>
                  <a:pt x="14804" y="1981"/>
                </a:cubicBezTo>
                <a:cubicBezTo>
                  <a:pt x="14614" y="2138"/>
                  <a:pt x="14376" y="2216"/>
                  <a:pt x="14092" y="2216"/>
                </a:cubicBezTo>
                <a:cubicBezTo>
                  <a:pt x="13872" y="2216"/>
                  <a:pt x="13695" y="2158"/>
                  <a:pt x="13561" y="2043"/>
                </a:cubicBezTo>
                <a:cubicBezTo>
                  <a:pt x="13427" y="1927"/>
                  <a:pt x="13360" y="1776"/>
                  <a:pt x="13360" y="1590"/>
                </a:cubicBezTo>
                <a:cubicBezTo>
                  <a:pt x="13360" y="1373"/>
                  <a:pt x="13452" y="1191"/>
                  <a:pt x="13637" y="1044"/>
                </a:cubicBezTo>
                <a:cubicBezTo>
                  <a:pt x="13822" y="897"/>
                  <a:pt x="14051" y="823"/>
                  <a:pt x="14324" y="823"/>
                </a:cubicBezTo>
                <a:close/>
                <a:moveTo>
                  <a:pt x="16227" y="810"/>
                </a:moveTo>
                <a:cubicBezTo>
                  <a:pt x="16047" y="1419"/>
                  <a:pt x="15952" y="1739"/>
                  <a:pt x="15942" y="1772"/>
                </a:cubicBezTo>
                <a:cubicBezTo>
                  <a:pt x="15932" y="1805"/>
                  <a:pt x="15927" y="1828"/>
                  <a:pt x="15927" y="1843"/>
                </a:cubicBezTo>
                <a:cubicBezTo>
                  <a:pt x="15927" y="1871"/>
                  <a:pt x="15938" y="1885"/>
                  <a:pt x="15961" y="1885"/>
                </a:cubicBezTo>
                <a:cubicBezTo>
                  <a:pt x="15973" y="1885"/>
                  <a:pt x="15989" y="1879"/>
                  <a:pt x="16007" y="1867"/>
                </a:cubicBezTo>
                <a:cubicBezTo>
                  <a:pt x="16025" y="1855"/>
                  <a:pt x="16044" y="1840"/>
                  <a:pt x="16066" y="1820"/>
                </a:cubicBezTo>
                <a:cubicBezTo>
                  <a:pt x="16087" y="1800"/>
                  <a:pt x="16108" y="1779"/>
                  <a:pt x="16129" y="1755"/>
                </a:cubicBezTo>
                <a:cubicBezTo>
                  <a:pt x="16149" y="1732"/>
                  <a:pt x="16170" y="1707"/>
                  <a:pt x="16190" y="1681"/>
                </a:cubicBezTo>
                <a:cubicBezTo>
                  <a:pt x="16196" y="1675"/>
                  <a:pt x="16202" y="1669"/>
                  <a:pt x="16208" y="1662"/>
                </a:cubicBezTo>
                <a:cubicBezTo>
                  <a:pt x="16213" y="1656"/>
                  <a:pt x="16233" y="1593"/>
                  <a:pt x="16268" y="1475"/>
                </a:cubicBezTo>
                <a:cubicBezTo>
                  <a:pt x="16327" y="1275"/>
                  <a:pt x="16387" y="1075"/>
                  <a:pt x="16446" y="876"/>
                </a:cubicBezTo>
                <a:cubicBezTo>
                  <a:pt x="16682" y="876"/>
                  <a:pt x="16918" y="876"/>
                  <a:pt x="17153" y="876"/>
                </a:cubicBezTo>
                <a:cubicBezTo>
                  <a:pt x="17087" y="1097"/>
                  <a:pt x="17021" y="1319"/>
                  <a:pt x="16956" y="1540"/>
                </a:cubicBezTo>
                <a:cubicBezTo>
                  <a:pt x="16894" y="1751"/>
                  <a:pt x="16862" y="1862"/>
                  <a:pt x="16858" y="1875"/>
                </a:cubicBezTo>
                <a:cubicBezTo>
                  <a:pt x="16855" y="1888"/>
                  <a:pt x="16853" y="1900"/>
                  <a:pt x="16853" y="1912"/>
                </a:cubicBezTo>
                <a:cubicBezTo>
                  <a:pt x="16853" y="1944"/>
                  <a:pt x="16864" y="1960"/>
                  <a:pt x="16887" y="1960"/>
                </a:cubicBezTo>
                <a:cubicBezTo>
                  <a:pt x="16914" y="1960"/>
                  <a:pt x="16948" y="1931"/>
                  <a:pt x="16988" y="1871"/>
                </a:cubicBezTo>
                <a:cubicBezTo>
                  <a:pt x="17028" y="1812"/>
                  <a:pt x="17061" y="1739"/>
                  <a:pt x="17087" y="1653"/>
                </a:cubicBezTo>
                <a:cubicBezTo>
                  <a:pt x="17109" y="1660"/>
                  <a:pt x="17131" y="1668"/>
                  <a:pt x="17153" y="1675"/>
                </a:cubicBezTo>
                <a:cubicBezTo>
                  <a:pt x="17031" y="2036"/>
                  <a:pt x="16822" y="2216"/>
                  <a:pt x="16527" y="2216"/>
                </a:cubicBezTo>
                <a:cubicBezTo>
                  <a:pt x="16419" y="2216"/>
                  <a:pt x="16332" y="2190"/>
                  <a:pt x="16267" y="2136"/>
                </a:cubicBezTo>
                <a:cubicBezTo>
                  <a:pt x="16202" y="2083"/>
                  <a:pt x="16170" y="2012"/>
                  <a:pt x="16170" y="1925"/>
                </a:cubicBezTo>
                <a:cubicBezTo>
                  <a:pt x="16170" y="1895"/>
                  <a:pt x="16175" y="1854"/>
                  <a:pt x="16186" y="1803"/>
                </a:cubicBezTo>
                <a:cubicBezTo>
                  <a:pt x="16184" y="1801"/>
                  <a:pt x="16182" y="1799"/>
                  <a:pt x="16180" y="1797"/>
                </a:cubicBezTo>
                <a:cubicBezTo>
                  <a:pt x="15942" y="2077"/>
                  <a:pt x="15729" y="2216"/>
                  <a:pt x="15541" y="2216"/>
                </a:cubicBezTo>
                <a:cubicBezTo>
                  <a:pt x="15445" y="2216"/>
                  <a:pt x="15367" y="2189"/>
                  <a:pt x="15307" y="2133"/>
                </a:cubicBezTo>
                <a:cubicBezTo>
                  <a:pt x="15247" y="2078"/>
                  <a:pt x="15217" y="2006"/>
                  <a:pt x="15217" y="1918"/>
                </a:cubicBezTo>
                <a:cubicBezTo>
                  <a:pt x="15217" y="1872"/>
                  <a:pt x="15229" y="1807"/>
                  <a:pt x="15254" y="1726"/>
                </a:cubicBezTo>
                <a:cubicBezTo>
                  <a:pt x="15331" y="1464"/>
                  <a:pt x="15409" y="1202"/>
                  <a:pt x="15486" y="940"/>
                </a:cubicBezTo>
                <a:cubicBezTo>
                  <a:pt x="15422" y="940"/>
                  <a:pt x="15357" y="940"/>
                  <a:pt x="15292" y="940"/>
                </a:cubicBezTo>
                <a:cubicBezTo>
                  <a:pt x="15298" y="919"/>
                  <a:pt x="15304" y="897"/>
                  <a:pt x="15311" y="876"/>
                </a:cubicBezTo>
                <a:cubicBezTo>
                  <a:pt x="15667" y="876"/>
                  <a:pt x="15972" y="854"/>
                  <a:pt x="16227" y="810"/>
                </a:cubicBezTo>
                <a:close/>
                <a:moveTo>
                  <a:pt x="7400" y="810"/>
                </a:moveTo>
                <a:cubicBezTo>
                  <a:pt x="7356" y="950"/>
                  <a:pt x="7311" y="1090"/>
                  <a:pt x="7266" y="1230"/>
                </a:cubicBezTo>
                <a:cubicBezTo>
                  <a:pt x="7268" y="1232"/>
                  <a:pt x="7270" y="1234"/>
                  <a:pt x="7272" y="1236"/>
                </a:cubicBezTo>
                <a:cubicBezTo>
                  <a:pt x="7492" y="963"/>
                  <a:pt x="7710" y="826"/>
                  <a:pt x="7924" y="826"/>
                </a:cubicBezTo>
                <a:cubicBezTo>
                  <a:pt x="8011" y="826"/>
                  <a:pt x="8084" y="852"/>
                  <a:pt x="8144" y="902"/>
                </a:cubicBezTo>
                <a:cubicBezTo>
                  <a:pt x="8203" y="953"/>
                  <a:pt x="8233" y="1015"/>
                  <a:pt x="8233" y="1089"/>
                </a:cubicBezTo>
                <a:cubicBezTo>
                  <a:pt x="8233" y="1146"/>
                  <a:pt x="8216" y="1235"/>
                  <a:pt x="8180" y="1355"/>
                </a:cubicBezTo>
                <a:cubicBezTo>
                  <a:pt x="8134" y="1511"/>
                  <a:pt x="8088" y="1666"/>
                  <a:pt x="8041" y="1822"/>
                </a:cubicBezTo>
                <a:cubicBezTo>
                  <a:pt x="8030" y="1862"/>
                  <a:pt x="8024" y="1895"/>
                  <a:pt x="8024" y="1922"/>
                </a:cubicBezTo>
                <a:cubicBezTo>
                  <a:pt x="8024" y="1931"/>
                  <a:pt x="8028" y="1940"/>
                  <a:pt x="8035" y="1948"/>
                </a:cubicBezTo>
                <a:cubicBezTo>
                  <a:pt x="8042" y="1956"/>
                  <a:pt x="8050" y="1960"/>
                  <a:pt x="8059" y="1960"/>
                </a:cubicBezTo>
                <a:cubicBezTo>
                  <a:pt x="8086" y="1960"/>
                  <a:pt x="8119" y="1932"/>
                  <a:pt x="8158" y="1874"/>
                </a:cubicBezTo>
                <a:cubicBezTo>
                  <a:pt x="8196" y="1817"/>
                  <a:pt x="8230" y="1743"/>
                  <a:pt x="8258" y="1653"/>
                </a:cubicBezTo>
                <a:cubicBezTo>
                  <a:pt x="8280" y="1661"/>
                  <a:pt x="8302" y="1670"/>
                  <a:pt x="8324" y="1678"/>
                </a:cubicBezTo>
                <a:cubicBezTo>
                  <a:pt x="8215" y="2037"/>
                  <a:pt x="8010" y="2216"/>
                  <a:pt x="7709" y="2216"/>
                </a:cubicBezTo>
                <a:cubicBezTo>
                  <a:pt x="7597" y="2216"/>
                  <a:pt x="7507" y="2191"/>
                  <a:pt x="7439" y="2139"/>
                </a:cubicBezTo>
                <a:cubicBezTo>
                  <a:pt x="7371" y="2087"/>
                  <a:pt x="7338" y="2019"/>
                  <a:pt x="7338" y="1935"/>
                </a:cubicBezTo>
                <a:cubicBezTo>
                  <a:pt x="7338" y="1890"/>
                  <a:pt x="7345" y="1841"/>
                  <a:pt x="7360" y="1787"/>
                </a:cubicBezTo>
                <a:cubicBezTo>
                  <a:pt x="7409" y="1618"/>
                  <a:pt x="7459" y="1450"/>
                  <a:pt x="7509" y="1281"/>
                </a:cubicBezTo>
                <a:cubicBezTo>
                  <a:pt x="7522" y="1235"/>
                  <a:pt x="7529" y="1201"/>
                  <a:pt x="7529" y="1180"/>
                </a:cubicBezTo>
                <a:cubicBezTo>
                  <a:pt x="7529" y="1153"/>
                  <a:pt x="7518" y="1140"/>
                  <a:pt x="7496" y="1140"/>
                </a:cubicBezTo>
                <a:cubicBezTo>
                  <a:pt x="7484" y="1140"/>
                  <a:pt x="7469" y="1145"/>
                  <a:pt x="7452" y="1155"/>
                </a:cubicBezTo>
                <a:cubicBezTo>
                  <a:pt x="7435" y="1165"/>
                  <a:pt x="7416" y="1180"/>
                  <a:pt x="7395" y="1199"/>
                </a:cubicBezTo>
                <a:cubicBezTo>
                  <a:pt x="7374" y="1219"/>
                  <a:pt x="7351" y="1243"/>
                  <a:pt x="7325" y="1271"/>
                </a:cubicBezTo>
                <a:cubicBezTo>
                  <a:pt x="7299" y="1300"/>
                  <a:pt x="7270" y="1334"/>
                  <a:pt x="7237" y="1374"/>
                </a:cubicBezTo>
                <a:cubicBezTo>
                  <a:pt x="7234" y="1378"/>
                  <a:pt x="7206" y="1469"/>
                  <a:pt x="7153" y="1646"/>
                </a:cubicBezTo>
                <a:cubicBezTo>
                  <a:pt x="7098" y="1833"/>
                  <a:pt x="7042" y="2020"/>
                  <a:pt x="6986" y="2207"/>
                </a:cubicBezTo>
                <a:cubicBezTo>
                  <a:pt x="6752" y="2207"/>
                  <a:pt x="6517" y="2207"/>
                  <a:pt x="6282" y="2207"/>
                </a:cubicBezTo>
                <a:cubicBezTo>
                  <a:pt x="6407" y="1784"/>
                  <a:pt x="6532" y="1362"/>
                  <a:pt x="6657" y="940"/>
                </a:cubicBezTo>
                <a:cubicBezTo>
                  <a:pt x="6592" y="940"/>
                  <a:pt x="6527" y="940"/>
                  <a:pt x="6462" y="940"/>
                </a:cubicBezTo>
                <a:cubicBezTo>
                  <a:pt x="6469" y="919"/>
                  <a:pt x="6476" y="897"/>
                  <a:pt x="6483" y="876"/>
                </a:cubicBezTo>
                <a:cubicBezTo>
                  <a:pt x="6495" y="876"/>
                  <a:pt x="6507" y="876"/>
                  <a:pt x="6520" y="876"/>
                </a:cubicBezTo>
                <a:cubicBezTo>
                  <a:pt x="6629" y="876"/>
                  <a:pt x="6776" y="870"/>
                  <a:pt x="6962" y="857"/>
                </a:cubicBezTo>
                <a:cubicBezTo>
                  <a:pt x="7148" y="845"/>
                  <a:pt x="7294" y="829"/>
                  <a:pt x="7400" y="810"/>
                </a:cubicBezTo>
                <a:close/>
                <a:moveTo>
                  <a:pt x="306" y="59"/>
                </a:moveTo>
                <a:cubicBezTo>
                  <a:pt x="1030" y="59"/>
                  <a:pt x="1754" y="59"/>
                  <a:pt x="2479" y="59"/>
                </a:cubicBezTo>
                <a:cubicBezTo>
                  <a:pt x="2412" y="283"/>
                  <a:pt x="2345" y="506"/>
                  <a:pt x="2278" y="730"/>
                </a:cubicBezTo>
                <a:cubicBezTo>
                  <a:pt x="2254" y="730"/>
                  <a:pt x="2231" y="730"/>
                  <a:pt x="2207" y="730"/>
                </a:cubicBezTo>
                <a:cubicBezTo>
                  <a:pt x="2207" y="725"/>
                  <a:pt x="2207" y="719"/>
                  <a:pt x="2207" y="714"/>
                </a:cubicBezTo>
                <a:cubicBezTo>
                  <a:pt x="2207" y="569"/>
                  <a:pt x="2171" y="444"/>
                  <a:pt x="2101" y="338"/>
                </a:cubicBezTo>
                <a:cubicBezTo>
                  <a:pt x="2030" y="233"/>
                  <a:pt x="1932" y="165"/>
                  <a:pt x="1807" y="134"/>
                </a:cubicBezTo>
                <a:cubicBezTo>
                  <a:pt x="1612" y="800"/>
                  <a:pt x="1416" y="1466"/>
                  <a:pt x="1220" y="2132"/>
                </a:cubicBezTo>
                <a:cubicBezTo>
                  <a:pt x="1332" y="2132"/>
                  <a:pt x="1444" y="2132"/>
                  <a:pt x="1555" y="2132"/>
                </a:cubicBezTo>
                <a:cubicBezTo>
                  <a:pt x="1548" y="2157"/>
                  <a:pt x="1540" y="2182"/>
                  <a:pt x="1532" y="2207"/>
                </a:cubicBezTo>
                <a:cubicBezTo>
                  <a:pt x="1021" y="2207"/>
                  <a:pt x="511" y="2207"/>
                  <a:pt x="0" y="2207"/>
                </a:cubicBezTo>
                <a:cubicBezTo>
                  <a:pt x="7" y="2182"/>
                  <a:pt x="15" y="2157"/>
                  <a:pt x="22" y="2132"/>
                </a:cubicBezTo>
                <a:cubicBezTo>
                  <a:pt x="124" y="2132"/>
                  <a:pt x="226" y="2132"/>
                  <a:pt x="328" y="2132"/>
                </a:cubicBezTo>
                <a:cubicBezTo>
                  <a:pt x="522" y="1466"/>
                  <a:pt x="717" y="800"/>
                  <a:pt x="912" y="134"/>
                </a:cubicBezTo>
                <a:cubicBezTo>
                  <a:pt x="785" y="142"/>
                  <a:pt x="655" y="201"/>
                  <a:pt x="522" y="313"/>
                </a:cubicBezTo>
                <a:cubicBezTo>
                  <a:pt x="388" y="424"/>
                  <a:pt x="277" y="568"/>
                  <a:pt x="189" y="744"/>
                </a:cubicBezTo>
                <a:cubicBezTo>
                  <a:pt x="163" y="744"/>
                  <a:pt x="137" y="744"/>
                  <a:pt x="111" y="744"/>
                </a:cubicBezTo>
                <a:cubicBezTo>
                  <a:pt x="176" y="516"/>
                  <a:pt x="241" y="287"/>
                  <a:pt x="306" y="59"/>
                </a:cubicBezTo>
                <a:close/>
                <a:moveTo>
                  <a:pt x="9737" y="0"/>
                </a:moveTo>
                <a:cubicBezTo>
                  <a:pt x="9598" y="468"/>
                  <a:pt x="9459" y="937"/>
                  <a:pt x="9320" y="1406"/>
                </a:cubicBezTo>
                <a:cubicBezTo>
                  <a:pt x="9392" y="1404"/>
                  <a:pt x="9471" y="1310"/>
                  <a:pt x="9557" y="1124"/>
                </a:cubicBezTo>
                <a:cubicBezTo>
                  <a:pt x="9596" y="1037"/>
                  <a:pt x="9629" y="975"/>
                  <a:pt x="9656" y="939"/>
                </a:cubicBezTo>
                <a:cubicBezTo>
                  <a:pt x="9682" y="903"/>
                  <a:pt x="9718" y="873"/>
                  <a:pt x="9761" y="848"/>
                </a:cubicBezTo>
                <a:cubicBezTo>
                  <a:pt x="9804" y="823"/>
                  <a:pt x="9850" y="810"/>
                  <a:pt x="9898" y="810"/>
                </a:cubicBezTo>
                <a:cubicBezTo>
                  <a:pt x="9962" y="810"/>
                  <a:pt x="10016" y="831"/>
                  <a:pt x="10059" y="873"/>
                </a:cubicBezTo>
                <a:cubicBezTo>
                  <a:pt x="10102" y="914"/>
                  <a:pt x="10123" y="966"/>
                  <a:pt x="10123" y="1026"/>
                </a:cubicBezTo>
                <a:cubicBezTo>
                  <a:pt x="10123" y="1088"/>
                  <a:pt x="10106" y="1139"/>
                  <a:pt x="10070" y="1179"/>
                </a:cubicBezTo>
                <a:cubicBezTo>
                  <a:pt x="10035" y="1219"/>
                  <a:pt x="9990" y="1239"/>
                  <a:pt x="9934" y="1239"/>
                </a:cubicBezTo>
                <a:cubicBezTo>
                  <a:pt x="9881" y="1239"/>
                  <a:pt x="9835" y="1219"/>
                  <a:pt x="9797" y="1179"/>
                </a:cubicBezTo>
                <a:cubicBezTo>
                  <a:pt x="9759" y="1138"/>
                  <a:pt x="9740" y="1089"/>
                  <a:pt x="9740" y="1033"/>
                </a:cubicBezTo>
                <a:cubicBezTo>
                  <a:pt x="9740" y="1002"/>
                  <a:pt x="9747" y="971"/>
                  <a:pt x="9760" y="940"/>
                </a:cubicBezTo>
                <a:cubicBezTo>
                  <a:pt x="9728" y="955"/>
                  <a:pt x="9702" y="977"/>
                  <a:pt x="9683" y="1007"/>
                </a:cubicBezTo>
                <a:cubicBezTo>
                  <a:pt x="9664" y="1037"/>
                  <a:pt x="9632" y="1103"/>
                  <a:pt x="9586" y="1206"/>
                </a:cubicBezTo>
                <a:cubicBezTo>
                  <a:pt x="9568" y="1250"/>
                  <a:pt x="9536" y="1297"/>
                  <a:pt x="9491" y="1347"/>
                </a:cubicBezTo>
                <a:cubicBezTo>
                  <a:pt x="9495" y="1348"/>
                  <a:pt x="9499" y="1349"/>
                  <a:pt x="9503" y="1350"/>
                </a:cubicBezTo>
                <a:cubicBezTo>
                  <a:pt x="9535" y="1342"/>
                  <a:pt x="9567" y="1334"/>
                  <a:pt x="9599" y="1326"/>
                </a:cubicBezTo>
                <a:cubicBezTo>
                  <a:pt x="9629" y="1318"/>
                  <a:pt x="9658" y="1315"/>
                  <a:pt x="9686" y="1315"/>
                </a:cubicBezTo>
                <a:cubicBezTo>
                  <a:pt x="9786" y="1315"/>
                  <a:pt x="9871" y="1340"/>
                  <a:pt x="9939" y="1392"/>
                </a:cubicBezTo>
                <a:cubicBezTo>
                  <a:pt x="10008" y="1443"/>
                  <a:pt x="10043" y="1505"/>
                  <a:pt x="10043" y="1577"/>
                </a:cubicBezTo>
                <a:cubicBezTo>
                  <a:pt x="10043" y="1606"/>
                  <a:pt x="10037" y="1641"/>
                  <a:pt x="10025" y="1681"/>
                </a:cubicBezTo>
                <a:cubicBezTo>
                  <a:pt x="10006" y="1749"/>
                  <a:pt x="9986" y="1817"/>
                  <a:pt x="9967" y="1885"/>
                </a:cubicBezTo>
                <a:cubicBezTo>
                  <a:pt x="9955" y="1924"/>
                  <a:pt x="9949" y="1952"/>
                  <a:pt x="9949" y="1967"/>
                </a:cubicBezTo>
                <a:cubicBezTo>
                  <a:pt x="9949" y="1983"/>
                  <a:pt x="9956" y="1991"/>
                  <a:pt x="9969" y="1991"/>
                </a:cubicBezTo>
                <a:cubicBezTo>
                  <a:pt x="9998" y="1991"/>
                  <a:pt x="10041" y="1916"/>
                  <a:pt x="10100" y="1768"/>
                </a:cubicBezTo>
                <a:cubicBezTo>
                  <a:pt x="10117" y="1775"/>
                  <a:pt x="10135" y="1783"/>
                  <a:pt x="10152" y="1790"/>
                </a:cubicBezTo>
                <a:cubicBezTo>
                  <a:pt x="10084" y="1974"/>
                  <a:pt x="10013" y="2091"/>
                  <a:pt x="9939" y="2141"/>
                </a:cubicBezTo>
                <a:cubicBezTo>
                  <a:pt x="9865" y="2191"/>
                  <a:pt x="9776" y="2216"/>
                  <a:pt x="9674" y="2216"/>
                </a:cubicBezTo>
                <a:cubicBezTo>
                  <a:pt x="9569" y="2216"/>
                  <a:pt x="9488" y="2193"/>
                  <a:pt x="9430" y="2148"/>
                </a:cubicBezTo>
                <a:cubicBezTo>
                  <a:pt x="9372" y="2102"/>
                  <a:pt x="9343" y="2038"/>
                  <a:pt x="9343" y="1957"/>
                </a:cubicBezTo>
                <a:cubicBezTo>
                  <a:pt x="9343" y="1911"/>
                  <a:pt x="9351" y="1860"/>
                  <a:pt x="9368" y="1805"/>
                </a:cubicBezTo>
                <a:cubicBezTo>
                  <a:pt x="9385" y="1746"/>
                  <a:pt x="9402" y="1686"/>
                  <a:pt x="9419" y="1627"/>
                </a:cubicBezTo>
                <a:cubicBezTo>
                  <a:pt x="9425" y="1607"/>
                  <a:pt x="9428" y="1588"/>
                  <a:pt x="9428" y="1571"/>
                </a:cubicBezTo>
                <a:cubicBezTo>
                  <a:pt x="9428" y="1507"/>
                  <a:pt x="9385" y="1475"/>
                  <a:pt x="9299" y="1475"/>
                </a:cubicBezTo>
                <a:cubicBezTo>
                  <a:pt x="9226" y="1719"/>
                  <a:pt x="9153" y="1963"/>
                  <a:pt x="9080" y="2207"/>
                </a:cubicBezTo>
                <a:cubicBezTo>
                  <a:pt x="8844" y="2207"/>
                  <a:pt x="8609" y="2207"/>
                  <a:pt x="8373" y="2207"/>
                </a:cubicBezTo>
                <a:cubicBezTo>
                  <a:pt x="8582" y="1513"/>
                  <a:pt x="8791" y="819"/>
                  <a:pt x="8999" y="125"/>
                </a:cubicBezTo>
                <a:cubicBezTo>
                  <a:pt x="8935" y="125"/>
                  <a:pt x="8871" y="125"/>
                  <a:pt x="8808" y="125"/>
                </a:cubicBezTo>
                <a:cubicBezTo>
                  <a:pt x="8813" y="103"/>
                  <a:pt x="8819" y="81"/>
                  <a:pt x="8825" y="59"/>
                </a:cubicBezTo>
                <a:cubicBezTo>
                  <a:pt x="8832" y="59"/>
                  <a:pt x="8839" y="59"/>
                  <a:pt x="8846" y="59"/>
                </a:cubicBezTo>
                <a:cubicBezTo>
                  <a:pt x="8950" y="59"/>
                  <a:pt x="9100" y="54"/>
                  <a:pt x="9296" y="44"/>
                </a:cubicBezTo>
                <a:cubicBezTo>
                  <a:pt x="9491" y="34"/>
                  <a:pt x="9638" y="19"/>
                  <a:pt x="9737" y="0"/>
                </a:cubicBezTo>
                <a:close/>
                <a:moveTo>
                  <a:pt x="3462" y="0"/>
                </a:moveTo>
                <a:cubicBezTo>
                  <a:pt x="3339" y="412"/>
                  <a:pt x="3215" y="824"/>
                  <a:pt x="3091" y="1236"/>
                </a:cubicBezTo>
                <a:cubicBezTo>
                  <a:pt x="3311" y="963"/>
                  <a:pt x="3529" y="826"/>
                  <a:pt x="3743" y="826"/>
                </a:cubicBezTo>
                <a:cubicBezTo>
                  <a:pt x="3830" y="826"/>
                  <a:pt x="3903" y="852"/>
                  <a:pt x="3963" y="902"/>
                </a:cubicBezTo>
                <a:cubicBezTo>
                  <a:pt x="4022" y="953"/>
                  <a:pt x="4052" y="1015"/>
                  <a:pt x="4052" y="1089"/>
                </a:cubicBezTo>
                <a:cubicBezTo>
                  <a:pt x="4052" y="1146"/>
                  <a:pt x="4035" y="1235"/>
                  <a:pt x="3999" y="1355"/>
                </a:cubicBezTo>
                <a:cubicBezTo>
                  <a:pt x="3953" y="1511"/>
                  <a:pt x="3907" y="1666"/>
                  <a:pt x="3860" y="1822"/>
                </a:cubicBezTo>
                <a:cubicBezTo>
                  <a:pt x="3849" y="1862"/>
                  <a:pt x="3843" y="1895"/>
                  <a:pt x="3843" y="1922"/>
                </a:cubicBezTo>
                <a:cubicBezTo>
                  <a:pt x="3843" y="1931"/>
                  <a:pt x="3847" y="1940"/>
                  <a:pt x="3854" y="1948"/>
                </a:cubicBezTo>
                <a:cubicBezTo>
                  <a:pt x="3861" y="1956"/>
                  <a:pt x="3869" y="1960"/>
                  <a:pt x="3878" y="1960"/>
                </a:cubicBezTo>
                <a:cubicBezTo>
                  <a:pt x="3905" y="1960"/>
                  <a:pt x="3938" y="1932"/>
                  <a:pt x="3977" y="1874"/>
                </a:cubicBezTo>
                <a:cubicBezTo>
                  <a:pt x="4015" y="1817"/>
                  <a:pt x="4049" y="1743"/>
                  <a:pt x="4077" y="1653"/>
                </a:cubicBezTo>
                <a:cubicBezTo>
                  <a:pt x="4099" y="1661"/>
                  <a:pt x="4121" y="1670"/>
                  <a:pt x="4143" y="1678"/>
                </a:cubicBezTo>
                <a:cubicBezTo>
                  <a:pt x="4034" y="2037"/>
                  <a:pt x="3829" y="2216"/>
                  <a:pt x="3528" y="2216"/>
                </a:cubicBezTo>
                <a:cubicBezTo>
                  <a:pt x="3416" y="2216"/>
                  <a:pt x="3326" y="2191"/>
                  <a:pt x="3258" y="2139"/>
                </a:cubicBezTo>
                <a:cubicBezTo>
                  <a:pt x="3190" y="2087"/>
                  <a:pt x="3157" y="2019"/>
                  <a:pt x="3157" y="1935"/>
                </a:cubicBezTo>
                <a:cubicBezTo>
                  <a:pt x="3157" y="1890"/>
                  <a:pt x="3164" y="1841"/>
                  <a:pt x="3179" y="1787"/>
                </a:cubicBezTo>
                <a:cubicBezTo>
                  <a:pt x="3228" y="1618"/>
                  <a:pt x="3278" y="1450"/>
                  <a:pt x="3328" y="1281"/>
                </a:cubicBezTo>
                <a:cubicBezTo>
                  <a:pt x="3341" y="1235"/>
                  <a:pt x="3348" y="1201"/>
                  <a:pt x="3348" y="1180"/>
                </a:cubicBezTo>
                <a:cubicBezTo>
                  <a:pt x="3348" y="1153"/>
                  <a:pt x="3337" y="1140"/>
                  <a:pt x="3315" y="1140"/>
                </a:cubicBezTo>
                <a:cubicBezTo>
                  <a:pt x="3303" y="1140"/>
                  <a:pt x="3289" y="1145"/>
                  <a:pt x="3271" y="1155"/>
                </a:cubicBezTo>
                <a:cubicBezTo>
                  <a:pt x="3254" y="1165"/>
                  <a:pt x="3235" y="1180"/>
                  <a:pt x="3214" y="1199"/>
                </a:cubicBezTo>
                <a:cubicBezTo>
                  <a:pt x="3193" y="1219"/>
                  <a:pt x="3170" y="1243"/>
                  <a:pt x="3144" y="1271"/>
                </a:cubicBezTo>
                <a:cubicBezTo>
                  <a:pt x="3118" y="1300"/>
                  <a:pt x="3089" y="1334"/>
                  <a:pt x="3056" y="1374"/>
                </a:cubicBezTo>
                <a:cubicBezTo>
                  <a:pt x="3053" y="1378"/>
                  <a:pt x="3025" y="1469"/>
                  <a:pt x="2972" y="1646"/>
                </a:cubicBezTo>
                <a:cubicBezTo>
                  <a:pt x="2917" y="1833"/>
                  <a:pt x="2861" y="2020"/>
                  <a:pt x="2805" y="2207"/>
                </a:cubicBezTo>
                <a:cubicBezTo>
                  <a:pt x="2570" y="2207"/>
                  <a:pt x="2334" y="2207"/>
                  <a:pt x="2099" y="2207"/>
                </a:cubicBezTo>
                <a:cubicBezTo>
                  <a:pt x="2307" y="1513"/>
                  <a:pt x="2516" y="819"/>
                  <a:pt x="2725" y="125"/>
                </a:cubicBezTo>
                <a:cubicBezTo>
                  <a:pt x="2661" y="125"/>
                  <a:pt x="2597" y="125"/>
                  <a:pt x="2533" y="125"/>
                </a:cubicBezTo>
                <a:cubicBezTo>
                  <a:pt x="2539" y="103"/>
                  <a:pt x="2545" y="81"/>
                  <a:pt x="2551" y="59"/>
                </a:cubicBezTo>
                <a:cubicBezTo>
                  <a:pt x="2558" y="59"/>
                  <a:pt x="2564" y="59"/>
                  <a:pt x="2571" y="59"/>
                </a:cubicBezTo>
                <a:cubicBezTo>
                  <a:pt x="2676" y="59"/>
                  <a:pt x="2826" y="54"/>
                  <a:pt x="3021" y="44"/>
                </a:cubicBezTo>
                <a:cubicBezTo>
                  <a:pt x="3217" y="34"/>
                  <a:pt x="3364" y="19"/>
                  <a:pt x="346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图片1"/>
          <p:cNvPicPr/>
          <p:nvPr/>
        </p:nvPicPr>
        <p:blipFill>
          <a:blip r:embed="rId1"/>
          <a:stretch/>
        </p:blipFill>
        <p:spPr>
          <a:xfrm>
            <a:off x="828720" y="260280"/>
            <a:ext cx="7343640" cy="5335560"/>
          </a:xfrm>
          <a:prstGeom prst="rect">
            <a:avLst/>
          </a:prstGeom>
          <a:ln w="0">
            <a:noFill/>
          </a:ln>
        </p:spPr>
      </p:pic>
      <p:sp>
        <p:nvSpPr>
          <p:cNvPr id="70" name="勾1 109"/>
          <p:cNvSpPr/>
          <p:nvPr/>
        </p:nvSpPr>
        <p:spPr>
          <a:xfrm>
            <a:off x="3203640" y="4076640"/>
            <a:ext cx="1441440" cy="100800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439795" h="1078336">
                <a:moveTo>
                  <a:pt x="1320032" y="0"/>
                </a:moveTo>
                <a:lnTo>
                  <a:pt x="1439795" y="108600"/>
                </a:lnTo>
                <a:lnTo>
                  <a:pt x="560454" y="1078336"/>
                </a:lnTo>
                <a:lnTo>
                  <a:pt x="0" y="570126"/>
                </a:lnTo>
                <a:lnTo>
                  <a:pt x="100041" y="459801"/>
                </a:lnTo>
                <a:lnTo>
                  <a:pt x="540731" y="859412"/>
                </a:lnTo>
                <a:lnTo>
                  <a:pt x="1320032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15"/>
          <p:cNvPicPr/>
          <p:nvPr/>
        </p:nvPicPr>
        <p:blipFill>
          <a:blip r:embed="rId1"/>
          <a:stretch/>
        </p:blipFill>
        <p:spPr>
          <a:xfrm>
            <a:off x="468360" y="333360"/>
            <a:ext cx="8116920" cy="59040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3">
            <a:hlinkClick r:id="" action="ppaction://hlinkshowjump?jump=previousslide"/>
          </p:cNvPr>
          <p:cNvSpPr/>
          <p:nvPr/>
        </p:nvSpPr>
        <p:spPr>
          <a:xfrm>
            <a:off x="2916360" y="4581360"/>
            <a:ext cx="1368360" cy="503280"/>
          </a:xfrm>
          <a:custGeom>
            <a:avLst/>
            <a:gdLst>
              <a:gd name="textAreaLeft" fmla="*/ 32400 w 1368360"/>
              <a:gd name="textAreaRight" fmla="*/ 1335960 w 136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8701" h="21600">
                <a:moveTo>
                  <a:pt x="0" y="0"/>
                </a:moveTo>
                <a:lnTo>
                  <a:pt x="58701" y="0"/>
                </a:lnTo>
                <a:lnTo>
                  <a:pt x="58701" y="21600"/>
                </a:lnTo>
                <a:lnTo>
                  <a:pt x="0" y="21600"/>
                </a:lnTo>
                <a:close/>
              </a:path>
              <a:path fill="lightenLess" w="58701" h="21600">
                <a:moveTo>
                  <a:pt x="0" y="0"/>
                </a:moveTo>
                <a:lnTo>
                  <a:pt x="58701" y="0"/>
                </a:lnTo>
                <a:lnTo>
                  <a:pt x="57301" y="1400"/>
                </a:lnTo>
                <a:lnTo>
                  <a:pt x="1400" y="1400"/>
                </a:lnTo>
                <a:close/>
              </a:path>
              <a:path fill="darken" w="58701" h="21600">
                <a:moveTo>
                  <a:pt x="58701" y="0"/>
                </a:moveTo>
                <a:lnTo>
                  <a:pt x="58701" y="21600"/>
                </a:lnTo>
                <a:lnTo>
                  <a:pt x="57301" y="20200"/>
                </a:lnTo>
                <a:lnTo>
                  <a:pt x="57301" y="1400"/>
                </a:lnTo>
                <a:close/>
              </a:path>
              <a:path fill="darkenLess" w="58701" h="21600">
                <a:moveTo>
                  <a:pt x="58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301" y="20200"/>
                </a:lnTo>
                <a:close/>
              </a:path>
              <a:path fill="lighten" w="58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4861080" y="4581360"/>
            <a:ext cx="1368360" cy="503280"/>
          </a:xfrm>
          <a:custGeom>
            <a:avLst/>
            <a:gdLst>
              <a:gd name="textAreaLeft" fmla="*/ 32400 w 1368360"/>
              <a:gd name="textAreaRight" fmla="*/ 1335960 w 136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8701" h="21600">
                <a:moveTo>
                  <a:pt x="0" y="0"/>
                </a:moveTo>
                <a:lnTo>
                  <a:pt x="58701" y="0"/>
                </a:lnTo>
                <a:lnTo>
                  <a:pt x="58701" y="21600"/>
                </a:lnTo>
                <a:lnTo>
                  <a:pt x="0" y="21600"/>
                </a:lnTo>
                <a:close/>
              </a:path>
              <a:path fill="lightenLess" w="58701" h="21600">
                <a:moveTo>
                  <a:pt x="0" y="0"/>
                </a:moveTo>
                <a:lnTo>
                  <a:pt x="58701" y="0"/>
                </a:lnTo>
                <a:lnTo>
                  <a:pt x="57301" y="1400"/>
                </a:lnTo>
                <a:lnTo>
                  <a:pt x="1400" y="1400"/>
                </a:lnTo>
                <a:close/>
              </a:path>
              <a:path fill="darken" w="58701" h="21600">
                <a:moveTo>
                  <a:pt x="58701" y="0"/>
                </a:moveTo>
                <a:lnTo>
                  <a:pt x="58701" y="21600"/>
                </a:lnTo>
                <a:lnTo>
                  <a:pt x="57301" y="20200"/>
                </a:lnTo>
                <a:lnTo>
                  <a:pt x="57301" y="1400"/>
                </a:lnTo>
                <a:close/>
              </a:path>
              <a:path fill="darkenLess" w="58701" h="21600">
                <a:moveTo>
                  <a:pt x="58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301" y="20200"/>
                </a:lnTo>
                <a:close/>
              </a:path>
              <a:path fill="lighten" w="58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勾1 109"/>
          <p:cNvSpPr/>
          <p:nvPr/>
        </p:nvSpPr>
        <p:spPr>
          <a:xfrm>
            <a:off x="4861080" y="4653000"/>
            <a:ext cx="1439640" cy="100800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439795" h="1078336">
                <a:moveTo>
                  <a:pt x="1320032" y="0"/>
                </a:moveTo>
                <a:lnTo>
                  <a:pt x="1439795" y="108600"/>
                </a:lnTo>
                <a:lnTo>
                  <a:pt x="560454" y="1078336"/>
                </a:lnTo>
                <a:lnTo>
                  <a:pt x="0" y="570126"/>
                </a:lnTo>
                <a:lnTo>
                  <a:pt x="100041" y="459801"/>
                </a:lnTo>
                <a:lnTo>
                  <a:pt x="540731" y="859412"/>
                </a:lnTo>
                <a:lnTo>
                  <a:pt x="1320032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7"/>
          <p:cNvPicPr/>
          <p:nvPr/>
        </p:nvPicPr>
        <p:blipFill>
          <a:blip r:embed="rId1"/>
          <a:stretch/>
        </p:blipFill>
        <p:spPr>
          <a:xfrm>
            <a:off x="539640" y="477720"/>
            <a:ext cx="8020080" cy="58327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3"/>
          <p:cNvSpPr/>
          <p:nvPr/>
        </p:nvSpPr>
        <p:spPr>
          <a:xfrm>
            <a:off x="3203640" y="4437000"/>
            <a:ext cx="1366920" cy="576360"/>
          </a:xfrm>
          <a:custGeom>
            <a:avLst/>
            <a:gdLst>
              <a:gd name="textAreaLeft" fmla="*/ 37080 w 1366920"/>
              <a:gd name="textAreaRight" fmla="*/ 1329840 w 1366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1209" h="21600">
                <a:moveTo>
                  <a:pt x="0" y="0"/>
                </a:moveTo>
                <a:lnTo>
                  <a:pt x="51209" y="0"/>
                </a:lnTo>
                <a:lnTo>
                  <a:pt x="51209" y="21600"/>
                </a:lnTo>
                <a:lnTo>
                  <a:pt x="0" y="21600"/>
                </a:lnTo>
                <a:close/>
              </a:path>
              <a:path fill="lightenLess" w="51209" h="21600">
                <a:moveTo>
                  <a:pt x="0" y="0"/>
                </a:moveTo>
                <a:lnTo>
                  <a:pt x="51209" y="0"/>
                </a:lnTo>
                <a:lnTo>
                  <a:pt x="49809" y="1400"/>
                </a:lnTo>
                <a:lnTo>
                  <a:pt x="1400" y="1400"/>
                </a:lnTo>
                <a:close/>
              </a:path>
              <a:path fill="darken" w="51209" h="21600">
                <a:moveTo>
                  <a:pt x="51209" y="0"/>
                </a:moveTo>
                <a:lnTo>
                  <a:pt x="51209" y="21600"/>
                </a:lnTo>
                <a:lnTo>
                  <a:pt x="49809" y="20200"/>
                </a:lnTo>
                <a:lnTo>
                  <a:pt x="49809" y="1400"/>
                </a:lnTo>
                <a:close/>
              </a:path>
              <a:path fill="darkenLess" w="51209" h="21600">
                <a:moveTo>
                  <a:pt x="51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09" y="20200"/>
                </a:lnTo>
                <a:close/>
              </a:path>
              <a:path fill="lighten" w="51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4932360" y="4437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勾1 109"/>
          <p:cNvSpPr/>
          <p:nvPr/>
        </p:nvSpPr>
        <p:spPr>
          <a:xfrm>
            <a:off x="5003640" y="4510080"/>
            <a:ext cx="1441440" cy="100800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439795" h="1078336">
                <a:moveTo>
                  <a:pt x="1320032" y="0"/>
                </a:moveTo>
                <a:lnTo>
                  <a:pt x="1439795" y="108600"/>
                </a:lnTo>
                <a:lnTo>
                  <a:pt x="560454" y="1078336"/>
                </a:lnTo>
                <a:lnTo>
                  <a:pt x="0" y="570126"/>
                </a:lnTo>
                <a:lnTo>
                  <a:pt x="100041" y="459801"/>
                </a:lnTo>
                <a:lnTo>
                  <a:pt x="540731" y="859412"/>
                </a:lnTo>
                <a:lnTo>
                  <a:pt x="1320032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19"/>
          <p:cNvPicPr/>
          <p:nvPr/>
        </p:nvPicPr>
        <p:blipFill>
          <a:blip r:embed="rId1"/>
          <a:stretch/>
        </p:blipFill>
        <p:spPr>
          <a:xfrm>
            <a:off x="612720" y="477720"/>
            <a:ext cx="7918560" cy="575964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3"/>
          <p:cNvSpPr/>
          <p:nvPr/>
        </p:nvSpPr>
        <p:spPr>
          <a:xfrm>
            <a:off x="3132000" y="4365720"/>
            <a:ext cx="1656000" cy="574560"/>
          </a:xfrm>
          <a:custGeom>
            <a:avLst/>
            <a:gdLst>
              <a:gd name="textAreaLeft" fmla="*/ 37080 w 1656000"/>
              <a:gd name="textAreaRight" fmla="*/ 1618920 w 1656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62230" h="21600">
                <a:moveTo>
                  <a:pt x="0" y="0"/>
                </a:moveTo>
                <a:lnTo>
                  <a:pt x="62230" y="0"/>
                </a:lnTo>
                <a:lnTo>
                  <a:pt x="62230" y="21600"/>
                </a:lnTo>
                <a:lnTo>
                  <a:pt x="0" y="21600"/>
                </a:lnTo>
                <a:close/>
              </a:path>
              <a:path fill="lightenLess" w="62230" h="21600">
                <a:moveTo>
                  <a:pt x="0" y="0"/>
                </a:moveTo>
                <a:lnTo>
                  <a:pt x="62230" y="0"/>
                </a:lnTo>
                <a:lnTo>
                  <a:pt x="60830" y="1400"/>
                </a:lnTo>
                <a:lnTo>
                  <a:pt x="1400" y="1400"/>
                </a:lnTo>
                <a:close/>
              </a:path>
              <a:path fill="darken" w="62230" h="21600">
                <a:moveTo>
                  <a:pt x="62230" y="0"/>
                </a:moveTo>
                <a:lnTo>
                  <a:pt x="62230" y="21600"/>
                </a:lnTo>
                <a:lnTo>
                  <a:pt x="60830" y="20200"/>
                </a:lnTo>
                <a:lnTo>
                  <a:pt x="60830" y="1400"/>
                </a:lnTo>
                <a:close/>
              </a:path>
              <a:path fill="darkenLess" w="62230" h="21600">
                <a:moveTo>
                  <a:pt x="6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30" y="20200"/>
                </a:lnTo>
                <a:close/>
              </a:path>
              <a:path fill="lighten" w="6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4932360" y="4365720"/>
            <a:ext cx="1655640" cy="574560"/>
          </a:xfrm>
          <a:custGeom>
            <a:avLst/>
            <a:gdLst>
              <a:gd name="textAreaLeft" fmla="*/ 37080 w 1655640"/>
              <a:gd name="textAreaRight" fmla="*/ 1618560 w 1655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62217" h="21600">
                <a:moveTo>
                  <a:pt x="0" y="0"/>
                </a:moveTo>
                <a:lnTo>
                  <a:pt x="62217" y="0"/>
                </a:lnTo>
                <a:lnTo>
                  <a:pt x="62217" y="21600"/>
                </a:lnTo>
                <a:lnTo>
                  <a:pt x="0" y="21600"/>
                </a:lnTo>
                <a:close/>
              </a:path>
              <a:path fill="lightenLess" w="62217" h="21600">
                <a:moveTo>
                  <a:pt x="0" y="0"/>
                </a:moveTo>
                <a:lnTo>
                  <a:pt x="62217" y="0"/>
                </a:lnTo>
                <a:lnTo>
                  <a:pt x="60817" y="1400"/>
                </a:lnTo>
                <a:lnTo>
                  <a:pt x="1400" y="1400"/>
                </a:lnTo>
                <a:close/>
              </a:path>
              <a:path fill="darken" w="62217" h="21600">
                <a:moveTo>
                  <a:pt x="62217" y="0"/>
                </a:moveTo>
                <a:lnTo>
                  <a:pt x="62217" y="21600"/>
                </a:lnTo>
                <a:lnTo>
                  <a:pt x="60817" y="20200"/>
                </a:lnTo>
                <a:lnTo>
                  <a:pt x="60817" y="1400"/>
                </a:lnTo>
                <a:close/>
              </a:path>
              <a:path fill="darkenLess" w="62217" h="21600">
                <a:moveTo>
                  <a:pt x="622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17" y="20200"/>
                </a:lnTo>
                <a:close/>
              </a:path>
              <a:path fill="lighten" w="622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勾1 109"/>
          <p:cNvSpPr/>
          <p:nvPr/>
        </p:nvSpPr>
        <p:spPr>
          <a:xfrm>
            <a:off x="5148360" y="4437000"/>
            <a:ext cx="1439640" cy="100800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439795" h="1078336">
                <a:moveTo>
                  <a:pt x="1320032" y="0"/>
                </a:moveTo>
                <a:lnTo>
                  <a:pt x="1439795" y="108600"/>
                </a:lnTo>
                <a:lnTo>
                  <a:pt x="560454" y="1078336"/>
                </a:lnTo>
                <a:lnTo>
                  <a:pt x="0" y="570126"/>
                </a:lnTo>
                <a:lnTo>
                  <a:pt x="100041" y="459801"/>
                </a:lnTo>
                <a:lnTo>
                  <a:pt x="540731" y="859412"/>
                </a:lnTo>
                <a:lnTo>
                  <a:pt x="1320032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684360" y="404640"/>
            <a:ext cx="7867440" cy="5761080"/>
            <a:chOff x="684360" y="404640"/>
            <a:chExt cx="7867440" cy="5761080"/>
          </a:xfrm>
        </p:grpSpPr>
        <p:pic>
          <p:nvPicPr>
            <p:cNvPr id="84" name="Picture 3" descr="13"/>
            <p:cNvPicPr/>
            <p:nvPr/>
          </p:nvPicPr>
          <p:blipFill>
            <a:blip r:embed="rId1"/>
            <a:stretch/>
          </p:blipFill>
          <p:spPr>
            <a:xfrm>
              <a:off x="684360" y="404640"/>
              <a:ext cx="7867440" cy="57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AutoShape 4"/>
            <p:cNvSpPr/>
            <p:nvPr/>
          </p:nvSpPr>
          <p:spPr>
            <a:xfrm>
              <a:off x="3276360" y="4221000"/>
              <a:ext cx="1654200" cy="574560"/>
            </a:xfrm>
            <a:custGeom>
              <a:avLst/>
              <a:gdLst>
                <a:gd name="textAreaLeft" fmla="*/ 37080 w 1654200"/>
                <a:gd name="textAreaRight" fmla="*/ 1617120 w 1654200"/>
                <a:gd name="textAreaTop" fmla="*/ 37080 h 574560"/>
                <a:gd name="textAreaBottom" fmla="*/ 537480 h 574560"/>
              </a:gdLst>
              <a:ahLst/>
              <a:rect l="textAreaLeft" t="textAreaTop" r="textAreaRight" b="textAreaBottom"/>
              <a:pathLst>
                <a:path w="62163" h="21600">
                  <a:moveTo>
                    <a:pt x="0" y="0"/>
                  </a:moveTo>
                  <a:lnTo>
                    <a:pt x="62163" y="0"/>
                  </a:lnTo>
                  <a:lnTo>
                    <a:pt x="62163" y="21600"/>
                  </a:lnTo>
                  <a:lnTo>
                    <a:pt x="0" y="21600"/>
                  </a:lnTo>
                  <a:close/>
                </a:path>
                <a:path fill="lightenLess" w="62163" h="21600">
                  <a:moveTo>
                    <a:pt x="0" y="0"/>
                  </a:moveTo>
                  <a:lnTo>
                    <a:pt x="62163" y="0"/>
                  </a:lnTo>
                  <a:lnTo>
                    <a:pt x="60763" y="1400"/>
                  </a:lnTo>
                  <a:lnTo>
                    <a:pt x="1400" y="1400"/>
                  </a:lnTo>
                  <a:close/>
                </a:path>
                <a:path fill="darken" w="62163" h="21600">
                  <a:moveTo>
                    <a:pt x="62163" y="0"/>
                  </a:moveTo>
                  <a:lnTo>
                    <a:pt x="62163" y="21600"/>
                  </a:lnTo>
                  <a:lnTo>
                    <a:pt x="60763" y="20200"/>
                  </a:lnTo>
                  <a:lnTo>
                    <a:pt x="60763" y="1400"/>
                  </a:lnTo>
                  <a:close/>
                </a:path>
                <a:path fill="darkenLess" w="62163" h="21600">
                  <a:moveTo>
                    <a:pt x="6216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0763" y="20200"/>
                  </a:lnTo>
                  <a:close/>
                </a:path>
                <a:path fill="lighten" w="6216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a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5"/>
            <p:cNvSpPr/>
            <p:nvPr/>
          </p:nvSpPr>
          <p:spPr>
            <a:xfrm>
              <a:off x="5076360" y="4221000"/>
              <a:ext cx="1653840" cy="574560"/>
            </a:xfrm>
            <a:custGeom>
              <a:avLst/>
              <a:gdLst>
                <a:gd name="textAreaLeft" fmla="*/ 37080 w 1653840"/>
                <a:gd name="textAreaRight" fmla="*/ 1616760 w 1653840"/>
                <a:gd name="textAreaTop" fmla="*/ 37080 h 574560"/>
                <a:gd name="textAreaBottom" fmla="*/ 537480 h 574560"/>
              </a:gdLst>
              <a:ahLst/>
              <a:rect l="textAreaLeft" t="textAreaTop" r="textAreaRight" b="textAreaBottom"/>
              <a:pathLst>
                <a:path w="62149" h="21600">
                  <a:moveTo>
                    <a:pt x="0" y="0"/>
                  </a:moveTo>
                  <a:lnTo>
                    <a:pt x="62149" y="0"/>
                  </a:lnTo>
                  <a:lnTo>
                    <a:pt x="62149" y="21600"/>
                  </a:lnTo>
                  <a:lnTo>
                    <a:pt x="0" y="21600"/>
                  </a:lnTo>
                  <a:close/>
                </a:path>
                <a:path fill="lightenLess" w="62149" h="21600">
                  <a:moveTo>
                    <a:pt x="0" y="0"/>
                  </a:moveTo>
                  <a:lnTo>
                    <a:pt x="62149" y="0"/>
                  </a:lnTo>
                  <a:lnTo>
                    <a:pt x="60749" y="1400"/>
                  </a:lnTo>
                  <a:lnTo>
                    <a:pt x="1400" y="1400"/>
                  </a:lnTo>
                  <a:close/>
                </a:path>
                <a:path fill="darken" w="62149" h="21600">
                  <a:moveTo>
                    <a:pt x="62149" y="0"/>
                  </a:moveTo>
                  <a:lnTo>
                    <a:pt x="62149" y="21600"/>
                  </a:lnTo>
                  <a:lnTo>
                    <a:pt x="60749" y="20200"/>
                  </a:lnTo>
                  <a:lnTo>
                    <a:pt x="60749" y="1400"/>
                  </a:lnTo>
                  <a:close/>
                </a:path>
                <a:path fill="darkenLess" w="62149" h="21600">
                  <a:moveTo>
                    <a:pt x="6214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0749" y="20200"/>
                  </a:lnTo>
                  <a:close/>
                </a:path>
                <a:path fill="lighten" w="6214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ea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勾1 109"/>
          <p:cNvSpPr/>
          <p:nvPr/>
        </p:nvSpPr>
        <p:spPr>
          <a:xfrm>
            <a:off x="3564000" y="4292640"/>
            <a:ext cx="1439640" cy="100800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439795" h="1078336">
                <a:moveTo>
                  <a:pt x="1320032" y="0"/>
                </a:moveTo>
                <a:lnTo>
                  <a:pt x="1439795" y="108600"/>
                </a:lnTo>
                <a:lnTo>
                  <a:pt x="560454" y="1078336"/>
                </a:lnTo>
                <a:lnTo>
                  <a:pt x="0" y="570126"/>
                </a:lnTo>
                <a:lnTo>
                  <a:pt x="100041" y="459801"/>
                </a:lnTo>
                <a:lnTo>
                  <a:pt x="540731" y="859412"/>
                </a:lnTo>
                <a:lnTo>
                  <a:pt x="1320032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"/>
          <p:cNvSpPr/>
          <p:nvPr/>
        </p:nvSpPr>
        <p:spPr>
          <a:xfrm>
            <a:off x="2019240" y="3052800"/>
            <a:ext cx="5105520" cy="604800"/>
          </a:xfrm>
          <a:prstGeom prst="rect">
            <a:avLst/>
          </a:prstGeom>
          <a:solidFill>
            <a:srgbClr val="7dc03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280e"/>
                </a:solidFill>
                <a:latin typeface="GungsuhChe"/>
                <a:ea typeface="GungsuhChe"/>
              </a:rPr>
              <a:t>well do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7"/>
          <p:cNvSpPr/>
          <p:nvPr/>
        </p:nvSpPr>
        <p:spPr>
          <a:xfrm>
            <a:off x="2019240" y="3052800"/>
            <a:ext cx="257400" cy="752400"/>
          </a:xfrm>
          <a:custGeom>
            <a:avLst/>
            <a:gdLst>
              <a:gd name="textAreaLeft" fmla="*/ 0 w 257400"/>
              <a:gd name="textAreaRight" fmla="*/ 257760 w 25740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257175" h="753667">
                <a:moveTo>
                  <a:pt x="0" y="0"/>
                </a:moveTo>
                <a:lnTo>
                  <a:pt x="257175" y="148480"/>
                </a:lnTo>
                <a:lnTo>
                  <a:pt x="257175" y="753667"/>
                </a:lnTo>
                <a:lnTo>
                  <a:pt x="0" y="605187"/>
                </a:lnTo>
                <a:lnTo>
                  <a:pt x="0" y="0"/>
                </a:lnTo>
                <a:close/>
              </a:path>
            </a:pathLst>
          </a:custGeom>
          <a:solidFill>
            <a:srgbClr val="7dc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0" y="3200400"/>
            <a:ext cx="2276640" cy="604800"/>
          </a:xfrm>
          <a:prstGeom prst="rect">
            <a:avLst/>
          </a:prstGeom>
          <a:solidFill>
            <a:srgbClr val="7dc03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11"/>
          <p:cNvSpPr/>
          <p:nvPr/>
        </p:nvSpPr>
        <p:spPr>
          <a:xfrm flipH="1">
            <a:off x="6866640" y="3052800"/>
            <a:ext cx="257400" cy="752400"/>
          </a:xfrm>
          <a:custGeom>
            <a:avLst/>
            <a:gdLst>
              <a:gd name="textAreaLeft" fmla="*/ -360 w 257400"/>
              <a:gd name="textAreaRight" fmla="*/ 257400 w 25740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257175" h="753667">
                <a:moveTo>
                  <a:pt x="0" y="0"/>
                </a:moveTo>
                <a:lnTo>
                  <a:pt x="257175" y="148480"/>
                </a:lnTo>
                <a:lnTo>
                  <a:pt x="257175" y="753667"/>
                </a:lnTo>
                <a:lnTo>
                  <a:pt x="0" y="605187"/>
                </a:lnTo>
                <a:lnTo>
                  <a:pt x="0" y="0"/>
                </a:lnTo>
                <a:close/>
              </a:path>
            </a:pathLst>
          </a:custGeom>
          <a:solidFill>
            <a:srgbClr val="7dc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6867360" y="3200400"/>
            <a:ext cx="2276640" cy="604800"/>
          </a:xfrm>
          <a:prstGeom prst="rect">
            <a:avLst/>
          </a:prstGeom>
          <a:solidFill>
            <a:srgbClr val="7dc03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3"/>
          <p:cNvSpPr/>
          <p:nvPr/>
        </p:nvSpPr>
        <p:spPr>
          <a:xfrm>
            <a:off x="2276640" y="3654360"/>
            <a:ext cx="45907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e28e"/>
                </a:solidFill>
                <a:latin typeface="Arial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PM_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QQ图片20150506192323"/>
          <p:cNvPicPr/>
          <p:nvPr/>
        </p:nvPicPr>
        <p:blipFill>
          <a:blip r:embed="rId2"/>
          <a:stretch/>
        </p:blipFill>
        <p:spPr>
          <a:xfrm>
            <a:off x="611280" y="44280"/>
            <a:ext cx="2303280" cy="3103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IMG_20150403_105214"/>
          <p:cNvPicPr/>
          <p:nvPr/>
        </p:nvPicPr>
        <p:blipFill>
          <a:blip r:embed="rId3"/>
          <a:srcRect l="15874" t="9349" r="38913" b="0"/>
          <a:stretch/>
        </p:blipFill>
        <p:spPr>
          <a:xfrm>
            <a:off x="611280" y="3213000"/>
            <a:ext cx="2387520" cy="3591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203640" y="1125360"/>
            <a:ext cx="51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was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a student in </a:t>
            </a:r>
            <a:r>
              <a:rPr b="0" lang="zh-CN" sz="3200" spc="-1" strike="noStrike">
                <a:solidFill>
                  <a:srgbClr val="99cc00"/>
                </a:solidFill>
                <a:latin typeface="Comic Sans MS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276720" y="4221000"/>
            <a:ext cx="51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am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a teacher </a:t>
            </a:r>
            <a:r>
              <a:rPr b="0" lang="zh-CN" sz="3600" spc="-1" strike="noStrike">
                <a:solidFill>
                  <a:srgbClr val="99cc00"/>
                </a:solidFill>
                <a:latin typeface="Comic Sans MS"/>
              </a:rPr>
              <a:t>now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10:16:19Z</dcterms:created>
  <dc:creator/>
  <dc:description/>
  <cp:keywords/>
  <dc:language>en-US</dc:language>
  <cp:lastModifiedBy>chicken君</cp:lastModifiedBy>
  <dcterms:modified xsi:type="dcterms:W3CDTF">2017-11-13T15:40:51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