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4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3.jpeg" ContentType="image/jpeg"/>
  <Override PartName="/ppt/media/image12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1.gif" ContentType="image/gi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2D8-8F4E-48D1-9280-35684BE5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495-2A41-4CB7-A1FE-7E540AE8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23D-01C6-4CDE-B21F-200E1926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545-EA9E-42FE-A0D8-E4ED55A3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C07-BDD4-4A58-AE9F-5FDF6224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45A-1561-43D0-B5C7-BEF70FC3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063-56E3-4E58-BBDE-A73B9A6F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1FB-4908-414E-B3E5-07D865B9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169-AA4F-4897-9336-261368AE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7D9-A459-4D2D-A128-1EFA7CBE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1D2-75F8-415E-A6AF-DC83C313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0BF-5E6F-4A22-8827-E7521DCB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DE41-4D7D-4D03-85AD-06DEE33B1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Lesson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ho Is Sing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T0158F~1"/>
          <p:cNvPicPr/>
          <p:nvPr/>
        </p:nvPicPr>
        <p:blipFill>
          <a:blip r:embed="rId1"/>
          <a:stretch/>
        </p:blipFill>
        <p:spPr>
          <a:xfrm>
            <a:off x="0" y="-685800"/>
            <a:ext cx="4334040" cy="4724280"/>
          </a:xfrm>
          <a:prstGeom prst="rect">
            <a:avLst/>
          </a:prstGeom>
          <a:ln w="0">
            <a:noFill/>
          </a:ln>
        </p:spPr>
      </p:pic>
      <p:sp>
        <p:nvSpPr>
          <p:cNvPr id="68" name="WordArt 8"/>
          <p:cNvSpPr txBox="1"/>
          <p:nvPr/>
        </p:nvSpPr>
        <p:spPr>
          <a:xfrm>
            <a:off x="1905120" y="4343400"/>
            <a:ext cx="6248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This is a man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T01DD8~1"/>
          <p:cNvPicPr/>
          <p:nvPr/>
        </p:nvPicPr>
        <p:blipFill>
          <a:blip r:embed="rId1"/>
          <a:stretch/>
        </p:blipFill>
        <p:spPr>
          <a:xfrm>
            <a:off x="0" y="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2286000" y="4343400"/>
            <a:ext cx="5257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This is a woman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T0130C~1"/>
          <p:cNvPicPr/>
          <p:nvPr/>
        </p:nvPicPr>
        <p:blipFill>
          <a:blip r:embed="rId1"/>
          <a:stretch/>
        </p:blipFill>
        <p:spPr>
          <a:xfrm>
            <a:off x="2209680" y="533520"/>
            <a:ext cx="449604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752480" y="464832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 is a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baby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752480" y="579132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The baby is sleep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380880" y="19051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man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behind m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sing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219320" y="2617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后面的女人正在唱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矩形 10" descr=""/>
          <p:cNvPicPr/>
          <p:nvPr/>
        </p:nvPicPr>
        <p:blipFill>
          <a:blip r:embed="rId1"/>
          <a:stretch/>
        </p:blipFill>
        <p:spPr>
          <a:xfrm>
            <a:off x="3078000" y="609480"/>
            <a:ext cx="2988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5"/>
          <p:cNvSpPr/>
          <p:nvPr/>
        </p:nvSpPr>
        <p:spPr>
          <a:xfrm>
            <a:off x="457200" y="1981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is talking to the man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behind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1219320" y="2743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正在和你后面的的男人谈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矩形 10" descr=""/>
          <p:cNvPicPr/>
          <p:nvPr/>
        </p:nvPicPr>
        <p:blipFill>
          <a:blip r:embed="rId1"/>
          <a:stretch/>
        </p:blipFill>
        <p:spPr>
          <a:xfrm>
            <a:off x="3078000" y="609480"/>
            <a:ext cx="2988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6"/>
          <p:cNvSpPr/>
          <p:nvPr/>
        </p:nvSpPr>
        <p:spPr>
          <a:xfrm>
            <a:off x="533520" y="21337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aby is sleeping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295280" y="30481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婴儿现在正在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矩形 10" descr=""/>
          <p:cNvPicPr/>
          <p:nvPr/>
        </p:nvPicPr>
        <p:blipFill>
          <a:blip r:embed="rId1"/>
          <a:stretch/>
        </p:blipFill>
        <p:spPr>
          <a:xfrm>
            <a:off x="3078000" y="609480"/>
            <a:ext cx="2988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矩形 1" descr=""/>
          <p:cNvPicPr/>
          <p:nvPr/>
        </p:nvPicPr>
        <p:blipFill>
          <a:blip r:embed="rId1"/>
          <a:stretch/>
        </p:blipFill>
        <p:spPr>
          <a:xfrm>
            <a:off x="3078000" y="609480"/>
            <a:ext cx="2988000" cy="927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990720" y="19810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talking?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在交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ny is talk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C:\Users\Administrator\AppData\Roaming\Tencent\Users\834288591\QQ\WinTemp\RichOle\IC4C8IJM6Q$%Z77]EC3V{~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C:\Users\Administrator\AppData\Roaming\Tencent\Users\834288591\QQ\WinTemp\RichOle\I0G]6P_X{9(X~Y8ST_PUD%Q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C:\Users\Administrator\AppData\Roaming\Tencent\Users\834288591\QQ\WinTemp\RichOle\I5@%YI0[2H)SW[TSA8~8]L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u=152853096,1322074782&amp;fm=21&amp;gp=0"/>
          <p:cNvPicPr/>
          <p:nvPr/>
        </p:nvPicPr>
        <p:blipFill>
          <a:blip r:embed="rId1"/>
          <a:stretch/>
        </p:blipFill>
        <p:spPr>
          <a:xfrm>
            <a:off x="1905120" y="533520"/>
            <a:ext cx="5029200" cy="4267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355760" y="-130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6002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447920" y="5410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600200" y="4876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girl is cr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C:\Users\Administrator\AppData\Roaming\Tencent\Users\834288591\QQ\WinTemp\RichOle\60@L@9J0D4LEL0TM1S59[4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Picture 1" descr="C:\Users\Administrator\AppData\Roaming\Tencent\Users\834288591\QQ\WinTemp\RichOle\W%~4BP9~712()K]RXB25VBH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1040" cy="16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" descr="C:\Users\Administrator\AppData\Roaming\Tencent\Users\834288591\QQ\WinTemp\RichOle\}BZ1[ULKPH[47A7KU@_8TFO.jpg"/>
            <p:cNvPicPr/>
            <p:nvPr/>
          </p:nvPicPr>
          <p:blipFill>
            <a:blip r:embed="rId2"/>
            <a:stretch/>
          </p:blipFill>
          <p:spPr>
            <a:xfrm>
              <a:off x="0" y="1635840"/>
              <a:ext cx="9144000" cy="5222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C:\Users\Administrator\AppData\Roaming\Tencent\Users\834288591\QQ\WinTemp\RichOle\NAYYLZF$Y72_4KRO)%NHFLX.png"/>
          <p:cNvPicPr/>
          <p:nvPr/>
        </p:nvPicPr>
        <p:blipFill>
          <a:blip r:embed="rId1"/>
          <a:stretch/>
        </p:blipFill>
        <p:spPr>
          <a:xfrm>
            <a:off x="3352680" y="1219320"/>
            <a:ext cx="2229120" cy="2314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286000" y="4038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 boy is run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5" name="Picture 1" descr="C:\Users\Administrator\AppData\Roaming\Tencent\Users\834288591\QQ\WinTemp\RichOle\W%~4BP9~712()K]RXB25VBH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1040" cy="16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" descr="C:\Users\Administrator\AppData\Roaming\Tencent\Users\834288591\QQ\WinTemp\RichOle\}BZ1[ULKPH[47A7KU@_8TFO.jpg"/>
            <p:cNvPicPr/>
            <p:nvPr/>
          </p:nvPicPr>
          <p:blipFill>
            <a:blip r:embed="rId2"/>
            <a:stretch/>
          </p:blipFill>
          <p:spPr>
            <a:xfrm>
              <a:off x="0" y="1635840"/>
              <a:ext cx="9144000" cy="522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2" descr="C:\Users\Administrator\AppData\Roaming\Tencent\Users\834288591\QQ\WinTemp\RichOle\($ETVSE)]$KFF9V@4[(DF_I.png"/>
          <p:cNvPicPr/>
          <p:nvPr/>
        </p:nvPicPr>
        <p:blipFill>
          <a:blip r:embed="rId3"/>
          <a:stretch/>
        </p:blipFill>
        <p:spPr>
          <a:xfrm>
            <a:off x="1828800" y="609480"/>
            <a:ext cx="525780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1905120" y="68580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o is tal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C:\Users\Administrator\AppData\Roaming\Tencent\Users\834288591\QQ\WinTemp\RichOle\}WQBJHZATFH61EMG_Q$SIE3.png"/>
          <p:cNvPicPr/>
          <p:nvPr/>
        </p:nvPicPr>
        <p:blipFill>
          <a:blip r:embed="rId1"/>
          <a:stretch/>
        </p:blipFill>
        <p:spPr>
          <a:xfrm>
            <a:off x="3657600" y="121932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1752480" y="411480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woman is talk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C:\Users\Administrator\AppData\Roaming\Tencent\Users\834288591\QQ\WinTemp\RichOle\I5@%YI0[2H)SW[TSA8~8]L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C:\Users\Administrator\AppData\Roaming\Tencent\Users\834288591\QQ\WinTemp\RichOle\0{O2L]B0NH$3FI2}(MK87PC.png"/>
          <p:cNvPicPr/>
          <p:nvPr/>
        </p:nvPicPr>
        <p:blipFill>
          <a:blip r:embed="rId2"/>
          <a:stretch/>
        </p:blipFill>
        <p:spPr>
          <a:xfrm>
            <a:off x="1828800" y="762120"/>
            <a:ext cx="4952880" cy="990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752480" y="0"/>
            <a:ext cx="54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o is sing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o is wal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o is jump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C:\Users\Administrator\AppData\Roaming\Tencent\Users\834288591\QQ\WinTemp\RichOle\8(}HCSXXN@B3)22}6ZN(}BH.pn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Administrator\AppData\Roaming\Tencent\Users\834288591\QQ\WinTemp\RichOle\8W`Z4DB_2J`[R[C(6J24N4P.png"/>
          <p:cNvPicPr/>
          <p:nvPr/>
        </p:nvPicPr>
        <p:blipFill>
          <a:blip r:embed="rId2"/>
          <a:stretch/>
        </p:blipFill>
        <p:spPr>
          <a:xfrm>
            <a:off x="0" y="2286000"/>
            <a:ext cx="6094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C:\Users\Administrator\AppData\Roaming\Tencent\Users\834288591\QQ\WinTemp\RichOle\A2[8%81L2P)NG3P3FEV_%(L.png"/>
          <p:cNvPicPr/>
          <p:nvPr/>
        </p:nvPicPr>
        <p:blipFill>
          <a:blip r:embed="rId1"/>
          <a:stretch/>
        </p:blipFill>
        <p:spPr>
          <a:xfrm>
            <a:off x="304920" y="2438280"/>
            <a:ext cx="8610480" cy="1495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Administrator\AppData\Roaming\Tencent\Users\834288591\QQ\WinTemp\RichOle\TTVB6L9[C405QCE[OQFOK$3.png"/>
          <p:cNvPicPr/>
          <p:nvPr/>
        </p:nvPicPr>
        <p:blipFill>
          <a:blip r:embed="rId2"/>
          <a:stretch/>
        </p:blipFill>
        <p:spPr>
          <a:xfrm>
            <a:off x="0" y="2590920"/>
            <a:ext cx="1066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C:\Users\Administrator\AppData\Roaming\Tencent\Users\834288591\QQ\WinTemp\RichOle\R]HU488PV}W7IRD9{ARP(CU.png"/>
          <p:cNvPicPr/>
          <p:nvPr/>
        </p:nvPicPr>
        <p:blipFill>
          <a:blip r:embed="rId1"/>
          <a:stretch/>
        </p:blipFill>
        <p:spPr>
          <a:xfrm>
            <a:off x="533520" y="2362320"/>
            <a:ext cx="861048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Administrator\AppData\Roaming\Tencent\Users\834288591\QQ\WinTemp\RichOle\TTVB6L9[C405QCE[OQFOK$3.png"/>
          <p:cNvPicPr/>
          <p:nvPr/>
        </p:nvPicPr>
        <p:blipFill>
          <a:blip r:embed="rId2"/>
          <a:stretch/>
        </p:blipFill>
        <p:spPr>
          <a:xfrm>
            <a:off x="228600" y="2514600"/>
            <a:ext cx="1066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u=4114779873,1814821855&amp;fm=21&amp;gp=0"/>
          <p:cNvPicPr/>
          <p:nvPr/>
        </p:nvPicPr>
        <p:blipFill>
          <a:blip r:embed="rId1"/>
          <a:stretch/>
        </p:blipFill>
        <p:spPr>
          <a:xfrm>
            <a:off x="2057400" y="380880"/>
            <a:ext cx="510552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523880" y="457200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The cat is loo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out of the wind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u=647762367,4026468769&amp;fm=23&amp;gp=0[1]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3886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143000" y="49528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The cat is rea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a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7a40f1f6aa4b9b4[1]"/>
          <p:cNvPicPr/>
          <p:nvPr/>
        </p:nvPicPr>
        <p:blipFill>
          <a:blip r:embed="rId1"/>
          <a:stretch/>
        </p:blipFill>
        <p:spPr>
          <a:xfrm>
            <a:off x="1905120" y="914400"/>
            <a:ext cx="5715000" cy="3505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136240" y="5181480"/>
            <a:ext cx="503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The bear is ru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ing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u=2079161103,3828284671&amp;fm=21&amp;gp=0[1]"/>
          <p:cNvPicPr/>
          <p:nvPr/>
        </p:nvPicPr>
        <p:blipFill>
          <a:blip r:embed="rId1"/>
          <a:stretch/>
        </p:blipFill>
        <p:spPr>
          <a:xfrm>
            <a:off x="1600200" y="609480"/>
            <a:ext cx="579132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14400" y="4952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The girl is playing ping-p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76c0b8a13701218e[1]"/>
          <p:cNvPicPr/>
          <p:nvPr/>
        </p:nvPicPr>
        <p:blipFill>
          <a:blip r:embed="rId1"/>
          <a:stretch/>
        </p:blipFill>
        <p:spPr>
          <a:xfrm>
            <a:off x="2895480" y="83808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050840" y="467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752480" y="5181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The pig is s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a so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--------loo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--------pl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-------draw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-------re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-------sin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--------cr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-------tal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------slee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23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--------hav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--------ma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-------s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-----r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矩形 9" descr=""/>
          <p:cNvPicPr/>
          <p:nvPr/>
        </p:nvPicPr>
        <p:blipFill>
          <a:blip r:embed="rId1"/>
          <a:stretch/>
        </p:blipFill>
        <p:spPr>
          <a:xfrm>
            <a:off x="762120" y="384120"/>
            <a:ext cx="73152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现在进行时口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动词加上</a:t>
            </a:r>
            <a:r>
              <a:rPr b="1" lang="en-US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-ing, </a:t>
            </a:r>
            <a:r>
              <a:rPr b="1" lang="zh-CN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这种形式真有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哑</a:t>
            </a:r>
            <a:r>
              <a:rPr b="1" lang="en-US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e</a:t>
            </a:r>
            <a:r>
              <a:rPr b="1" lang="zh-CN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结尾去掉</a:t>
            </a:r>
            <a:r>
              <a:rPr b="1" lang="en-US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e, </a:t>
            </a:r>
            <a:r>
              <a:rPr b="1" lang="zh-CN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然后再加</a:t>
            </a:r>
            <a:r>
              <a:rPr b="1" lang="en-US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-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结尾如果是辅元辅，双写再加</a:t>
            </a:r>
            <a:r>
              <a:rPr b="1" lang="en-US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-ing</a:t>
            </a:r>
            <a:r>
              <a:rPr b="1" lang="zh-CN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记住</a:t>
            </a:r>
            <a:r>
              <a:rPr b="1" lang="en-US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listen</a:t>
            </a:r>
            <a:r>
              <a:rPr b="1" lang="zh-CN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是特例，直接加上</a:t>
            </a:r>
            <a:r>
              <a:rPr b="1" lang="en-US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-ing</a:t>
            </a:r>
            <a:r>
              <a:rPr b="1" lang="zh-CN" sz="32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914400" y="41148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-------hav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-------ma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10080" y="419112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-------s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n------r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666880" y="548640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-------list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06:11:53Z</dcterms:created>
  <dc:creator/>
  <dc:description/>
  <cp:keywords/>
  <dc:language>en-US</dc:language>
  <cp:lastModifiedBy>chicken君</cp:lastModifiedBy>
  <dcterms:modified xsi:type="dcterms:W3CDTF">2017-11-13T13:57:29Z</dcterms:modified>
  <cp:revision>24</cp:revision>
  <dc:subject/>
  <dc:title>Lesson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