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7C8-D13C-49E8-8CEC-ED3B02C3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077-F343-492D-893F-6A70C06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3EC-449E-4340-AF86-49F03C40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1E-633B-4552-B35D-A3A6C4C6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C43-4A2F-4D90-83B4-6FC1612F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257-4F3C-4941-9ED2-2D74E894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CD3-A285-4DFC-A3CD-2DC829F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422-A753-4742-88CB-BAAA1E35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465-92D9-40DF-9977-117722B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B86-C6B4-46EE-A53E-F8D4292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E50-C79B-4AB5-9B74-8044948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4F6-D44E-4C3A-B339-E7E68A7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CBFD-28DF-4F8D-A25F-4DE2CFF3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00275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124000" y="2492280"/>
            <a:ext cx="6300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76360" y="2133720"/>
            <a:ext cx="799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82560" y="4221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The Palace Muse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0" y="260280"/>
            <a:ext cx="68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冀教版五年级英语下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u=3276544798,3759685166&amp;gp=32"/>
          <p:cNvPicPr/>
          <p:nvPr/>
        </p:nvPicPr>
        <p:blipFill>
          <a:blip r:embed="rId2"/>
          <a:stretch/>
        </p:blipFill>
        <p:spPr>
          <a:xfrm>
            <a:off x="2987640" y="620640"/>
            <a:ext cx="41306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taking a pictur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u=3124206451,2402969919&amp;gp=20"/>
          <p:cNvPicPr/>
          <p:nvPr/>
        </p:nvPicPr>
        <p:blipFill>
          <a:blip r:embed="rId2"/>
          <a:stretch/>
        </p:blipFill>
        <p:spPr>
          <a:xfrm>
            <a:off x="4140360" y="2781360"/>
            <a:ext cx="390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taking picture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=2364511431,1063962926&amp;gp=30"/>
          <p:cNvPicPr/>
          <p:nvPr/>
        </p:nvPicPr>
        <p:blipFill>
          <a:blip r:embed="rId2"/>
          <a:stretch/>
        </p:blipFill>
        <p:spPr>
          <a:xfrm>
            <a:off x="2987640" y="1628640"/>
            <a:ext cx="309420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y I take your(a)  pictu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u=3152549669,1115267895&amp;gp=40"/>
          <p:cNvPicPr/>
          <p:nvPr/>
        </p:nvPicPr>
        <p:blipFill>
          <a:blip r:embed="rId2"/>
          <a:stretch/>
        </p:blipFill>
        <p:spPr>
          <a:xfrm>
            <a:off x="1403280" y="-27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765000"/>
            <a:ext cx="856908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Part 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3429000"/>
            <a:ext cx="49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t the Pa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Museum</a:t>
            </a: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故 宫"/>
          <p:cNvPicPr/>
          <p:nvPr/>
        </p:nvPicPr>
        <p:blipFill>
          <a:blip r:embed="rId3"/>
          <a:stretch/>
        </p:blipFill>
        <p:spPr>
          <a:xfrm>
            <a:off x="5364000" y="2708280"/>
            <a:ext cx="3529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the passage then answer the qusetion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，然后回答下面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is the weather toda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What colour is the sk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 What colour is the Palace Museu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. Is it beautifu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. How old is the Palace Museu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 it ol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516720" y="1628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012000" y="234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835280" y="33577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Red and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27640" y="3933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Yes,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659640" y="4581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500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059280" y="5300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Yes.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oes Danny want to take a pictu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. Are cameras eas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. Is it easy for Dann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. May I help Dann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. What’s the matter with Dann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42920" y="765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he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29272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y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6000" y="263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. it’s h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35640" y="342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you m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16000" y="472428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nny hurts his no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33920" y="189000"/>
            <a:ext cx="5410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轻松课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0" y="907920"/>
            <a:ext cx="889308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些单词我认识（选择填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            B           C    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me_ 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re         ra          ro         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)  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t_ _ 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ure      are       ere        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)  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_ _ 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al          el        ea           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)   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_ _ n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an        on        un           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)   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_ _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ur         ar        er          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是纠错小能手（找错并正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0" y="83664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y 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l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ict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?(       )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      B            C            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mer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as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   (       )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       B      C    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2484360" y="2060640"/>
            <a:ext cx="4280040" cy="26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erlin Sans FB Demi"/>
              </a:rPr>
              <a:t>See you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4000" y="1066680"/>
            <a:ext cx="856908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Part 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2706840"/>
            <a:ext cx="841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Camera  and  film</a:t>
            </a: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6668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83664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5667480" y="4361040"/>
            <a:ext cx="1911240" cy="396720"/>
            <a:chOff x="5667480" y="4361040"/>
            <a:chExt cx="1911240" cy="396720"/>
          </a:xfrm>
        </p:grpSpPr>
        <p:sp>
          <p:nvSpPr>
            <p:cNvPr id="54" name="Text Box 5"/>
            <p:cNvSpPr/>
            <p:nvPr/>
          </p:nvSpPr>
          <p:spPr>
            <a:xfrm>
              <a:off x="5667480" y="4361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7394400" y="436104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0" y="333360"/>
            <a:ext cx="9143280" cy="1439640"/>
            <a:chOff x="0" y="333360"/>
            <a:chExt cx="9143280" cy="1439640"/>
          </a:xfrm>
        </p:grpSpPr>
        <p:sp>
          <p:nvSpPr>
            <p:cNvPr id="57" name="AutoShape 8"/>
            <p:cNvSpPr/>
            <p:nvPr/>
          </p:nvSpPr>
          <p:spPr>
            <a:xfrm>
              <a:off x="0" y="333360"/>
              <a:ext cx="8919720" cy="1439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0" y="513360"/>
              <a:ext cx="9143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0"/>
          <p:cNvSpPr/>
          <p:nvPr/>
        </p:nvSpPr>
        <p:spPr>
          <a:xfrm>
            <a:off x="7543800" y="41911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故 宫"/>
          <p:cNvPicPr/>
          <p:nvPr/>
        </p:nvPicPr>
        <p:blipFill>
          <a:blip r:embed="rId2"/>
          <a:stretch/>
        </p:blipFill>
        <p:spPr>
          <a:xfrm>
            <a:off x="4211640" y="2708280"/>
            <a:ext cx="4932360" cy="4149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4356000" y="1916280"/>
            <a:ext cx="478800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he Palace Mus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0" y="404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going to the Palace Museum    today.     I want to take my cam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179280" y="2492280"/>
            <a:ext cx="1871640" cy="2449440"/>
          </a:xfrm>
          <a:prstGeom prst="upArrowCallout">
            <a:avLst>
              <a:gd name="adj1" fmla="val 25002"/>
              <a:gd name="adj2" fmla="val 25000"/>
              <a:gd name="adj3" fmla="val 21812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79280" y="3645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ame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4360" y="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’s  a camera ?                I  can show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20070406094158272"/>
          <p:cNvPicPr/>
          <p:nvPr/>
        </p:nvPicPr>
        <p:blipFill>
          <a:blip r:embed="rId2"/>
          <a:stretch/>
        </p:blipFill>
        <p:spPr>
          <a:xfrm>
            <a:off x="2124000" y="1484280"/>
            <a:ext cx="417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his is a  cam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W020060907388682657150"/>
          <p:cNvPicPr/>
          <p:nvPr/>
        </p:nvPicPr>
        <p:blipFill>
          <a:blip r:embed="rId2"/>
          <a:srcRect l="0" t="0" r="-1035" b="8014"/>
          <a:stretch/>
        </p:blipFill>
        <p:spPr>
          <a:xfrm>
            <a:off x="2195640" y="1052640"/>
            <a:ext cx="432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They are camera</a:t>
            </a:r>
            <a:r>
              <a:rPr b="0" lang="en-US" sz="66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20070406094158272"/>
          <p:cNvPicPr/>
          <p:nvPr/>
        </p:nvPicPr>
        <p:blipFill>
          <a:blip r:embed="rId2"/>
          <a:stretch/>
        </p:blipFill>
        <p:spPr>
          <a:xfrm>
            <a:off x="324000" y="0"/>
            <a:ext cx="4176720" cy="410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W020060907388682657150"/>
          <p:cNvPicPr/>
          <p:nvPr/>
        </p:nvPicPr>
        <p:blipFill>
          <a:blip r:embed="rId3"/>
          <a:srcRect l="0" t="0" r="-1035" b="9357"/>
          <a:stretch/>
        </p:blipFill>
        <p:spPr>
          <a:xfrm>
            <a:off x="4572000" y="69228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fil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u=3080407084,3886598753&amp;gp=4"/>
          <p:cNvPicPr/>
          <p:nvPr/>
        </p:nvPicPr>
        <p:blipFill>
          <a:blip r:embed="rId2"/>
          <a:stretch/>
        </p:blipFill>
        <p:spPr>
          <a:xfrm>
            <a:off x="1835280" y="1268280"/>
            <a:ext cx="3733560" cy="3961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24000" y="50846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Film go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in the camer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508720" y="314172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This is fil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se are film</a:t>
            </a: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34438006"/>
          <p:cNvPicPr/>
          <p:nvPr/>
        </p:nvPicPr>
        <p:blipFill>
          <a:blip r:embed="rId2"/>
          <a:stretch/>
        </p:blipFill>
        <p:spPr>
          <a:xfrm>
            <a:off x="1692360" y="620640"/>
            <a:ext cx="4824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am pu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 film in my cam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u=3227282067,1166644587&amp;gp=4"/>
          <p:cNvPicPr/>
          <p:nvPr/>
        </p:nvPicPr>
        <p:blipFill>
          <a:blip r:embed="rId2"/>
          <a:stretch/>
        </p:blipFill>
        <p:spPr>
          <a:xfrm>
            <a:off x="250920" y="333360"/>
            <a:ext cx="4681440" cy="404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u=3938976386,1183981175&amp;gp=48"/>
          <p:cNvPicPr/>
          <p:nvPr/>
        </p:nvPicPr>
        <p:blipFill>
          <a:blip r:embed="rId3"/>
          <a:stretch/>
        </p:blipFill>
        <p:spPr>
          <a:xfrm>
            <a:off x="5508720" y="476280"/>
            <a:ext cx="3316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17:59Z</dcterms:created>
  <dc:creator/>
  <dc:description/>
  <dc:language>en-US</dc:language>
  <cp:lastModifiedBy>微软用户</cp:lastModifiedBy>
  <dcterms:modified xsi:type="dcterms:W3CDTF">2016-04-23T13:48:03Z</dcterms:modified>
  <cp:revision>34</cp:revision>
  <dc:subject/>
  <dc:title>幻灯片 1</dc:title>
</cp:coreProperties>
</file>