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D26A-8A5E-4A3F-BB8F-4B11F599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73F-627F-44BF-86E3-DB98B94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8A7-7B85-40BA-8D1D-891901CB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192-75CD-4B5D-9C2B-343486F95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F931-CE53-4359-A747-D4FEC15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70D-AB70-4183-9090-D28BC541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FA1-14C9-453E-A624-87C0CD98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651C-85C3-4E17-A74F-AC52A3BB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E82-B84E-47FF-AF58-6B30129F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27DD-1652-4284-97A7-7B3BFE9F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93A-A5D2-462A-BC6B-A7155BF8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3E5-F3F8-4AC8-B5AF-7B191E16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67EA-941A-4E66-9A8D-ECEEE67BE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9"/>
          <p:cNvSpPr txBox="1"/>
          <p:nvPr/>
        </p:nvSpPr>
        <p:spPr>
          <a:xfrm>
            <a:off x="2700360" y="2924280"/>
            <a:ext cx="4464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Gifts for every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WordArt 17"/>
          <p:cNvSpPr txBox="1"/>
          <p:nvPr/>
        </p:nvSpPr>
        <p:spPr>
          <a:xfrm>
            <a:off x="468360" y="333360"/>
            <a:ext cx="4824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冀教版五年级英语下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6086520" y="404640"/>
            <a:ext cx="15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Arial"/>
              </a:rPr>
              <a:t>Unit 4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95280" y="1557360"/>
            <a:ext cx="432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ff0066"/>
                </a:solidFill>
                <a:latin typeface="Times New Roman"/>
              </a:rPr>
              <a:t>Lesson 2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7"/>
          <p:cNvSpPr txBox="1"/>
          <p:nvPr/>
        </p:nvSpPr>
        <p:spPr>
          <a:xfrm>
            <a:off x="1403280" y="2205000"/>
            <a:ext cx="590400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Goodbye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gifts"/>
          <p:cNvPicPr/>
          <p:nvPr/>
        </p:nvPicPr>
        <p:blipFill>
          <a:blip r:embed="rId1"/>
          <a:stretch/>
        </p:blipFill>
        <p:spPr>
          <a:xfrm>
            <a:off x="611280" y="98100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46" name="WordArt 12"/>
          <p:cNvSpPr txBox="1"/>
          <p:nvPr/>
        </p:nvSpPr>
        <p:spPr>
          <a:xfrm>
            <a:off x="5003640" y="2565360"/>
            <a:ext cx="327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送给每个人的礼物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7" name="WordArt 13"/>
          <p:cNvSpPr txBox="1"/>
          <p:nvPr/>
        </p:nvSpPr>
        <p:spPr>
          <a:xfrm>
            <a:off x="5508720" y="3860640"/>
            <a:ext cx="2520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Gifts for everyon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12114-Carnation"/>
          <p:cNvPicPr/>
          <p:nvPr/>
        </p:nvPicPr>
        <p:blipFill>
          <a:blip r:embed="rId1"/>
          <a:stretch/>
        </p:blipFill>
        <p:spPr>
          <a:xfrm>
            <a:off x="1371600" y="762120"/>
            <a:ext cx="4572000" cy="37018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826920" y="4581360"/>
            <a:ext cx="58676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ome flowers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hese flowers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e </a:t>
            </a:r>
            <a:r>
              <a:rPr b="0" lang="en-US" sz="28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8"/>
          <p:cNvSpPr/>
          <p:nvPr/>
        </p:nvSpPr>
        <p:spPr>
          <a:xfrm>
            <a:off x="755640" y="692280"/>
            <a:ext cx="61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y father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bough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a rin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This rin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26920" y="3357720"/>
            <a:ext cx="6248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y brother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bought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a ba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This bag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is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for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my m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167652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hat did they buy for their m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104"/>
          <p:cNvPicPr/>
          <p:nvPr/>
        </p:nvPicPr>
        <p:blipFill>
          <a:blip r:embed="rId1"/>
          <a:stretch/>
        </p:blipFill>
        <p:spPr>
          <a:xfrm>
            <a:off x="1332000" y="1628640"/>
            <a:ext cx="6337080" cy="396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=1189237137,1314363358&amp;gp=2"/>
          <p:cNvPicPr/>
          <p:nvPr/>
        </p:nvPicPr>
        <p:blipFill>
          <a:blip r:embed="rId1"/>
          <a:stretch/>
        </p:blipFill>
        <p:spPr>
          <a:xfrm>
            <a:off x="457200" y="152280"/>
            <a:ext cx="1295280" cy="970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30492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cy, a c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200400" y="2286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______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e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_ i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e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house"/>
          <p:cNvPicPr/>
          <p:nvPr/>
        </p:nvPicPr>
        <p:blipFill>
          <a:blip r:embed="rId2"/>
          <a:stretch/>
        </p:blipFill>
        <p:spPr>
          <a:xfrm>
            <a:off x="304920" y="1600200"/>
            <a:ext cx="1676160" cy="12142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3200400" y="1600200"/>
            <a:ext cx="5943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hous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__ i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057400" y="1676520"/>
            <a:ext cx="114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200332704149c-03-001m"/>
          <p:cNvPicPr/>
          <p:nvPr/>
        </p:nvPicPr>
        <p:blipFill>
          <a:blip r:embed="rId3"/>
          <a:stretch/>
        </p:blipFill>
        <p:spPr>
          <a:xfrm>
            <a:off x="393840" y="2819520"/>
            <a:ext cx="976320" cy="1066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1"/>
          <p:cNvSpPr/>
          <p:nvPr/>
        </p:nvSpPr>
        <p:spPr>
          <a:xfrm>
            <a:off x="3124080" y="2895480"/>
            <a:ext cx="6019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ome fruit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___ ar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276720" y="419112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dres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_ i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1447920" y="569736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bottle of cream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e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_________________ is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he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6" descr="annasui430-1"/>
          <p:cNvPicPr/>
          <p:nvPr/>
        </p:nvPicPr>
        <p:blipFill>
          <a:blip r:embed="rId4"/>
          <a:stretch/>
        </p:blipFill>
        <p:spPr>
          <a:xfrm>
            <a:off x="546120" y="4038480"/>
            <a:ext cx="1017720" cy="1227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7"/>
          <p:cNvSpPr/>
          <p:nvPr/>
        </p:nvSpPr>
        <p:spPr>
          <a:xfrm>
            <a:off x="1371600" y="289548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1752480" y="426708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 Lei, a 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9" descr="02851070303"/>
          <p:cNvPicPr/>
          <p:nvPr/>
        </p:nvPicPr>
        <p:blipFill>
          <a:blip r:embed="rId5"/>
          <a:stretch/>
        </p:blipFill>
        <p:spPr>
          <a:xfrm>
            <a:off x="30492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0"/>
          <p:cNvSpPr/>
          <p:nvPr/>
        </p:nvSpPr>
        <p:spPr>
          <a:xfrm>
            <a:off x="838080" y="52578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 Mei, a bottle of c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1"/>
          <p:cNvSpPr/>
          <p:nvPr/>
        </p:nvSpPr>
        <p:spPr>
          <a:xfrm>
            <a:off x="3202200" y="2286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u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2"/>
          <p:cNvSpPr/>
          <p:nvPr/>
        </p:nvSpPr>
        <p:spPr>
          <a:xfrm>
            <a:off x="5259960" y="228600"/>
            <a:ext cx="10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a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3"/>
          <p:cNvSpPr/>
          <p:nvPr/>
        </p:nvSpPr>
        <p:spPr>
          <a:xfrm>
            <a:off x="3201840" y="83808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c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4"/>
          <p:cNvSpPr/>
          <p:nvPr/>
        </p:nvSpPr>
        <p:spPr>
          <a:xfrm>
            <a:off x="3277440" y="160020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5"/>
          <p:cNvSpPr/>
          <p:nvPr/>
        </p:nvSpPr>
        <p:spPr>
          <a:xfrm>
            <a:off x="3200760" y="2209680"/>
            <a:ext cx="17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6"/>
          <p:cNvSpPr/>
          <p:nvPr/>
        </p:nvSpPr>
        <p:spPr>
          <a:xfrm>
            <a:off x="3126240" y="2895480"/>
            <a:ext cx="85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201480" y="3581280"/>
            <a:ext cx="18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ese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8"/>
          <p:cNvSpPr/>
          <p:nvPr/>
        </p:nvSpPr>
        <p:spPr>
          <a:xfrm>
            <a:off x="3279240" y="4191120"/>
            <a:ext cx="105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Li L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3277800" y="4800600"/>
            <a:ext cx="163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0"/>
          <p:cNvSpPr/>
          <p:nvPr/>
        </p:nvSpPr>
        <p:spPr>
          <a:xfrm>
            <a:off x="1450080" y="5715000"/>
            <a:ext cx="14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Han M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1"/>
          <p:cNvSpPr/>
          <p:nvPr/>
        </p:nvSpPr>
        <p:spPr>
          <a:xfrm>
            <a:off x="1449000" y="6338880"/>
            <a:ext cx="305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imes New Roman"/>
              </a:rPr>
              <a:t>This bottle of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5"/>
          <p:cNvSpPr/>
          <p:nvPr/>
        </p:nvSpPr>
        <p:spPr>
          <a:xfrm>
            <a:off x="3809880" y="996840"/>
            <a:ext cx="4419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6" descr="L30-1"/>
          <p:cNvPicPr/>
          <p:nvPr/>
        </p:nvPicPr>
        <p:blipFill>
          <a:blip r:embed="rId1"/>
          <a:stretch/>
        </p:blipFill>
        <p:spPr>
          <a:xfrm>
            <a:off x="304920" y="228600"/>
            <a:ext cx="24350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L30-2"/>
          <p:cNvPicPr/>
          <p:nvPr/>
        </p:nvPicPr>
        <p:blipFill>
          <a:blip r:embed="rId2"/>
          <a:stretch/>
        </p:blipFill>
        <p:spPr>
          <a:xfrm>
            <a:off x="304920" y="1905120"/>
            <a:ext cx="2536560" cy="119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L30-3"/>
          <p:cNvPicPr/>
          <p:nvPr/>
        </p:nvPicPr>
        <p:blipFill>
          <a:blip r:embed="rId3"/>
          <a:stretch/>
        </p:blipFill>
        <p:spPr>
          <a:xfrm>
            <a:off x="457200" y="3352680"/>
            <a:ext cx="2362320" cy="1697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9" descr="L30-4"/>
          <p:cNvPicPr/>
          <p:nvPr/>
        </p:nvPicPr>
        <p:blipFill>
          <a:blip r:embed="rId4"/>
          <a:stretch/>
        </p:blipFill>
        <p:spPr>
          <a:xfrm>
            <a:off x="0" y="5257800"/>
            <a:ext cx="3886200" cy="1189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0"/>
          <p:cNvSpPr/>
          <p:nvPr/>
        </p:nvSpPr>
        <p:spPr>
          <a:xfrm>
            <a:off x="3429000" y="380880"/>
            <a:ext cx="5486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: What did Jenny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uy 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t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: Sh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kit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Stev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3505320" y="190512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: What did Danny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uy 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K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: H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429000" y="350532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: What did Jenny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uy 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r W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: Sh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3962520" y="5105520"/>
            <a:ext cx="51814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: What did Danny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uy 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r W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: H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4419720" y="2590920"/>
            <a:ext cx="380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hat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K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4495680" y="4114800"/>
            <a:ext cx="4038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picture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r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6"/>
          <p:cNvSpPr/>
          <p:nvPr/>
        </p:nvSpPr>
        <p:spPr>
          <a:xfrm>
            <a:off x="4876920" y="5911920"/>
            <a:ext cx="396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bought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a T-shirt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Mr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3520" y="533160"/>
            <a:ext cx="6248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Steven like the gift? Why or why n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hat Danny bought  fit K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does Mr Wood put the picture Jenny gave hi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T-shirt Danny bought fit Mr W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43000" y="129528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Yes, he likes it. Because green is his favourite colo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116000" y="306864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. It’s too sm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116000" y="443700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e puts it above his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042920" y="580536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. It’s too small for h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09480" y="761760"/>
            <a:ext cx="647712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词语辨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n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abov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上面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指一种物体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直接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在另一种物体的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表面之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abov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指一种物体在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空间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里悬于另一种物体的</a:t>
            </a:r>
            <a:r>
              <a:rPr b="0" lang="zh-CN" sz="2800" spc="-1" strike="noStrike">
                <a:solidFill>
                  <a:srgbClr val="ff0066"/>
                </a:solidFill>
                <a:latin typeface="Comic Sans MS"/>
              </a:rPr>
              <a:t>上方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离开表面的上面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，并不是直接在该物体的上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.g. 1) The bird is flying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abov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小鸟在我们的上方飞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) They sat down </a:t>
            </a: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he se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他们在座位上坐下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4-24T06:24:54Z</dcterms:modified>
  <cp:revision>3</cp:revision>
  <dc:subject/>
  <dc:title>幻灯片 1</dc:title>
</cp:coreProperties>
</file>