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B7B-AEC1-4BD3-B712-59B0B1F8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462-00C1-4D7C-8F22-E30E0EAD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E7D-D1A8-47B5-910A-98218D94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9F8-6386-4B62-A90D-B40E65A1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9AB-3C04-400D-B4DC-40A0734C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B4C-0B38-45E7-8706-DDBB9DDA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0A7-D5AE-48A4-B99C-E9E54709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A93-AC4A-45E0-A13C-B5A397EE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8EF-5AD2-4B5C-993F-45509295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0F3-52C4-4152-BB99-9E745D4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4B4-5C0F-4CEB-872B-5179C7C4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B8F-A2FA-4705-85AD-BF2B0E6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8304-E330-4BA2-A62E-93962099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" Target="slide3.xml"/><Relationship Id="rId4" Type="http://schemas.openxmlformats.org/officeDocument/2006/relationships/image" Target="../media/image2.gif"/><Relationship Id="rId5" Type="http://schemas.openxmlformats.org/officeDocument/2006/relationships/slide" Target="slide10.xml"/><Relationship Id="rId6" Type="http://schemas.openxmlformats.org/officeDocument/2006/relationships/image" Target="../media/image2.gif"/><Relationship Id="rId7" Type="http://schemas.openxmlformats.org/officeDocument/2006/relationships/slide" Target="slide13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76312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Arial"/>
              </a:rPr>
              <a:t>Lesson 8 </a:t>
            </a:r>
            <a:br>
              <a:rPr sz="4800"/>
            </a:br>
            <a:r>
              <a:rPr b="1" i="1" lang="en-US" sz="4800" spc="-1" strike="noStrike">
                <a:solidFill>
                  <a:srgbClr val="0066ff"/>
                </a:solidFill>
                <a:latin typeface="Arial"/>
              </a:rPr>
              <a:t>Tian’anmen Squ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国旗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68360" y="5589720"/>
            <a:ext cx="1533600" cy="68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国旗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5589720"/>
            <a:ext cx="1533600" cy="68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国旗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00720" y="5589720"/>
            <a:ext cx="1533240" cy="68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国旗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732720" y="5589720"/>
            <a:ext cx="1533240" cy="687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539640" y="63705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484360" y="6381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abou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72000" y="63705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748560" y="6375240"/>
            <a:ext cx="21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7400" y="358128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WordArt 20"/>
          <p:cNvSpPr txBox="1"/>
          <p:nvPr/>
        </p:nvSpPr>
        <p:spPr>
          <a:xfrm>
            <a:off x="304920" y="228600"/>
            <a:ext cx="4914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五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64668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0676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an’anme Square is big!” says Li Ming. “It is Tuesday, but there are many people her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!” says Jenny. “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here are many children pla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: the children are loud. They are laughing loudly. The people are quiet. They are flying kites quie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ee some men flying kites!” says Danny. “Let’s fly a kite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jenny fly a kite? Yes! Jenny is having fun. “This is easy!” says Jenny. Can Danny fly a k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Oh! This is hard! Help! There is too much str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Danny! Are you okay?” asks Je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! I hurt my arm!” says Danny. “Don’t worry. I can help you,” says Jenny. “Let’s put a bandage on your arm.” “Thanks.” Danny becomes quiet. He stands quiet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ildren are loud. They are laughing loudly. The people are quiet. They are flying kites quietly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那些孩子很喧闹。他们在大声地笑。那些人很安静。他们在静静地放风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ud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形容词 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高升的；大声的；喧闹的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udly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是副词，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大声地；喧闹地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例如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answer the question in a loud voice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请大声回答这个问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talk loudly. The baby is sleeping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别这么大声地说话，小孩正在睡觉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et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是形容词 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安静的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etly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是副词 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安静地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例如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be quiet in class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在课堂上你应该安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 quiet night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一个多么安静的晚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is reading a book quietly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他正在安静地读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Danny!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可怜的丹尼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adj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贫穷的；可怜的（反义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rich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富有的）。</a:t>
            </a:r>
            <a:r>
              <a:rPr b="1" lang="zh-CN" sz="2600" spc="-1" strike="noStrike">
                <a:solidFill>
                  <a:srgbClr val="ff0066"/>
                </a:solidFill>
                <a:latin typeface="Arial"/>
              </a:rPr>
              <a:t>例如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is poor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他很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as a poor memory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他的记忆力不好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boy!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可怜的孩子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注意：有些形容词前加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后变成名词，表示一类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or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穷人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ich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有钱人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young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年轻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ld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老年人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ood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好人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d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坏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must take good care of the old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我们必须很好的照顾老年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young are like the sun in the morning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年轻人像早晨的太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1600" y="504720"/>
            <a:ext cx="755316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with a partner. Draw a map of Tian’anme Square. Describe your maps to each other. What are the people doing? Try to us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oudly, quietly, slow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quick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children playing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许多孩子正在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句子一方面表示客观存在，“在那儿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同时又表示 “某人正在做某事”。若分解开来，可表达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children. They are playing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girl reading English. (There is a girl. She is reading English.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个女孩正在读英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orry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担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ry v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烦恼；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担心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ried adj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担心的，烦恼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rries me that my goes to school by bike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儿子骑自行车上学很让我担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orry about me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为我担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always worries about the smallest things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总为一些微不足道的事情担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elt worried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感到担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WordArt 4" descr=""/>
          <p:cNvPicPr/>
          <p:nvPr/>
        </p:nvPicPr>
        <p:blipFill>
          <a:blip r:embed="rId2"/>
          <a:stretch/>
        </p:blipFill>
        <p:spPr>
          <a:xfrm>
            <a:off x="1212840" y="1822320"/>
            <a:ext cx="66754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95640" y="549360"/>
            <a:ext cx="255600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22520" y="1197000"/>
            <a:ext cx="62625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ly   v (flew, flown)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飞；放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laugh   v.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ard   adj.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难的；努力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uietly   adj.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安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ring  n.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oor   adj.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可怜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worry   v.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ut   v.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andage   n.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绷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ecome   v.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ever visit Tian’anme Square? If yes, when? If no, why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visit Tian’anmen square? Why or why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to Dan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easy!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很容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形容词 “容易的；简单的”（反义词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, har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困难的）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副词“容易地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sson is easy to learn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一课容易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easy question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是个简单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n reach the apples easily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能很轻松地够到苹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said than done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比做容易。（谚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 easy!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口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稍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7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7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7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7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7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7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7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7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10188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, no! This is hard!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噢，不！ 这太难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adj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硬的，艰难的，难懂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nd is very hard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面很坚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is so hard that I can’t answer it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问题太难了，我回答不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s a hard life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过着艰苦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see some men flying kites!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says Danny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 fly a kite.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丹尼说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我看见一些人放风筝，咱们放风筝吧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是动词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看见；看到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，强调看的结果，常用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sb. do sth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sb. doing sth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两种结构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sb. do sth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强调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看见整个行动或整个事件或行为的全过程。</a:t>
            </a:r>
            <a:r>
              <a:rPr b="1" lang="zh-CN" sz="2300" spc="-1" strike="noStrike">
                <a:solidFill>
                  <a:srgbClr val="333399"/>
                </a:solidFill>
                <a:latin typeface="Arial"/>
              </a:rPr>
              <a:t>例如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saw him cross the road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我看见他过了马路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little girl saw it happen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一个小女孩看见了整个事件发生的过程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sb. doing sth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强调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看见行动或事件正在进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300" spc="-1" strike="noStrike">
                <a:solidFill>
                  <a:srgbClr val="333399"/>
                </a:solidFill>
                <a:latin typeface="Arial"/>
              </a:rPr>
              <a:t>例如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saw them playing football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我看见他们正在踢足球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saw him coming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我看见他走过来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ly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是动词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飞；乘飞机前往；放（风筝）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；名词：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light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飞行。</a:t>
            </a:r>
            <a:r>
              <a:rPr b="1" lang="zh-CN" sz="2300" spc="-1" strike="noStrike">
                <a:solidFill>
                  <a:srgbClr val="ff0066"/>
                </a:solidFill>
                <a:latin typeface="Arial"/>
              </a:rPr>
              <a:t>例如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e birds are flying in the air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一些鸟正在空中飞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y are flying kites in the park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他们正在公园放风筝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表建议，意为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让我们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……”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le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 +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动词原形。</a:t>
            </a:r>
            <a:r>
              <a:rPr b="1" lang="zh-CN" sz="2300" spc="-1" strike="noStrike">
                <a:solidFill>
                  <a:srgbClr val="ff0066"/>
                </a:solidFill>
                <a:latin typeface="Arial"/>
              </a:rPr>
              <a:t>例如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 go home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咱们回家吧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 have a rest.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让我们休息一下吧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Jenny fly a kite? Yes! Jenny is having fun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詹妮会放风筝吗？是的， 詹妮正玩得开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能力，否定形式在其后面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缩写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变一般疑问句时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n’t ride a motorbike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不会骑摩托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lend me your bike?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能借给我你的自行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un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玩得开心”，也可以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good time; enjoy yourself.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做某事中获得乐趣” 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un doing sth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 lot of fun learning and speaking English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学说英语中我们获得了许多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9120" y="10188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 I hurt my arm!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好！我伤着了胳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rt v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伤害；使疼痛；损伤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hoes are so tight that my feet hurt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的鞋太紧了，脚被挤痛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hurt his leg badly when he fell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迈克跌了一跤，腿伤得很厉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ead hurts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头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7640" y="442440"/>
            <a:ext cx="88930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ut a bandage on your arm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让我们把绷带绑到你的胳膊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put the books on the be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别把书放在床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imei put the apples on the table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梅梅把苹果放在桌子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穿上；戴上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反义词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ff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脱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put on her new coat and went out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女孩穿上她的新外套出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put on his glasses to read the letter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戴上眼镜看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的词组还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off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迟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awa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收起来，放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ow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下，记下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into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进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out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熄灭， 关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ogether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4-23T13:56:2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