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9B54-291B-4FE7-B958-206464FCC75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A250-7C50-4888-9D31-9C30C8BCEC6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EA4C-09AD-4B8C-9AF2-16E2ABF954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57AB-CA04-46F8-9939-9B25DA5E738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4994-260B-4296-8002-5587EEA8577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ACD4-0EC2-4063-B793-AB5851F87DD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4AE8-A5B9-4288-BC21-EA479E0D08E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09FD-10A8-4D77-A495-93E645E8E52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AC1F-775E-41B5-964D-845D06551DC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5BE0-905C-4E5A-AF4F-355F9D1E54E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A2B7-621B-428C-99B0-85C34E02558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1D71-D48B-4177-9068-616F71335E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3429-FD72-4CAC-A416-6037A342694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165C-F303-4172-94C2-C90381C0B59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1291-5465-4BBB-8590-9C367AC3990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7EF0-A9F5-4D86-9A05-3D065A57D27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F29F-3728-49C0-9F12-89AD0592743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7F31-103B-4F9F-86A0-9C9A38937AD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0F62-0EBD-4E89-B39D-0A223EF856C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96C3-DB05-4B33-80CB-6FE9779D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2AB2-5BF1-46A4-BB61-85B6F2DC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F14D-0CA3-4110-8602-E38F1273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19F9-5E1F-4128-92D5-D8C6EC4B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2406-1027-487F-8FD9-C322F721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6D52-C89C-4C12-BA4D-FEE41381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86C4-4F9D-4697-8065-D6EB4EA9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D879-77A7-4509-B399-7B38A200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F45F-2915-4732-B08F-5DD06D2C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27E-F9D1-42D9-94F0-3556470D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32C8-A9A5-43FC-8173-80A1787D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24DF-2C33-4E7C-8801-6E11803D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C3F2-FE0A-4C23-A8E3-5089448E8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987640" y="2492280"/>
            <a:ext cx="46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ing 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1187280" y="260280"/>
            <a:ext cx="701388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9900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Unit 1 Seasons and Weather</a:t>
            </a:r>
            <a:endParaRPr b="1" lang="en-US" sz="4800" spc="1" strike="noStrike">
              <a:ln w="12600">
                <a:solidFill>
                  <a:srgbClr val="ffffff"/>
                </a:solidFill>
                <a:miter/>
              </a:ln>
              <a:solidFill>
                <a:srgbClr val="9900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remove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winter"/>
          <p:cNvPicPr/>
          <p:nvPr/>
        </p:nvPicPr>
        <p:blipFill>
          <a:blip r:embed="rId1"/>
          <a:stretch/>
        </p:blipFill>
        <p:spPr>
          <a:xfrm>
            <a:off x="755640" y="476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995640" y="6021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~]F{R_X7{4${CNC93M27}]2"/>
          <p:cNvPicPr/>
          <p:nvPr/>
        </p:nvPicPr>
        <p:blipFill>
          <a:blip r:embed="rId1"/>
          <a:stretch/>
        </p:blipFill>
        <p:spPr>
          <a:xfrm>
            <a:off x="1403280" y="1844640"/>
            <a:ext cx="6769080" cy="4537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614520" y="404640"/>
            <a:ext cx="667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Kate and Mrs. Br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42880" y="1557360"/>
            <a:ext cx="780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listen, what are they tal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7166160" y="34290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333080" y="2781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s.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{Z(X3~QT5{5_A`@Q70`(L`6"/>
          <p:cNvPicPr/>
          <p:nvPr/>
        </p:nvPicPr>
        <p:blipFill>
          <a:blip r:embed="rId1"/>
          <a:stretch/>
        </p:blipFill>
        <p:spPr>
          <a:xfrm>
            <a:off x="0" y="-82440"/>
            <a:ext cx="914400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402840" y="333360"/>
            <a:ext cx="519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ad and discus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39640" y="1341360"/>
            <a:ext cx="69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What’s the weather like to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539280" y="3213000"/>
            <a:ext cx="61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Does Kate like sunny 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611280" y="48690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Does Kate like rainy da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1044360" y="2276640"/>
            <a:ext cx="348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sunny to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188720" y="3933720"/>
            <a:ext cx="33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es, she do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972360" y="5589720"/>
            <a:ext cx="34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, she doesn’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{Z(X3~QT5{5_A`@Q70`(L`6"/>
          <p:cNvPicPr/>
          <p:nvPr/>
        </p:nvPicPr>
        <p:blipFill>
          <a:blip r:embed="rId1"/>
          <a:stretch/>
        </p:blipFill>
        <p:spPr>
          <a:xfrm>
            <a:off x="0" y="-82440"/>
            <a:ext cx="914400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)ZG~PHZ{(BMJ%[I8J~$UHTH"/>
          <p:cNvPicPr/>
          <p:nvPr/>
        </p:nvPicPr>
        <p:blipFill>
          <a:blip r:embed="rId1"/>
          <a:stretch/>
        </p:blipFill>
        <p:spPr>
          <a:xfrm>
            <a:off x="0" y="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1045440" y="177336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ain comes from clou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901080" y="28526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, they aren’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902160" y="4221000"/>
            <a:ext cx="58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re is too much water in a black cloud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UR{GTM(4NPG3(`Q~HFIS4@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huangyibiankuang2_0015"/>
          <p:cNvPicPr/>
          <p:nvPr/>
        </p:nvPicPr>
        <p:blipFill>
          <a:blip r:embed="rId1"/>
          <a:stretch/>
        </p:blipFill>
        <p:spPr>
          <a:xfrm>
            <a:off x="0" y="228600"/>
            <a:ext cx="8534520" cy="66294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590920" y="1447920"/>
            <a:ext cx="5410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me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Read the reading on page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Find out more reading about wea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b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WordArt 3" descr=""/>
          <p:cNvPicPr/>
          <p:nvPr/>
        </p:nvPicPr>
        <p:blipFill>
          <a:blip r:embed="rId2"/>
          <a:stretch/>
        </p:blipFill>
        <p:spPr>
          <a:xfrm>
            <a:off x="920880" y="-341280"/>
            <a:ext cx="682776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"/>
                            </p:stCondLst>
                            <p:childTnLst>
                              <p:par>
                                <p:cTn id="227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50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R7018"/>
          <p:cNvPicPr/>
          <p:nvPr/>
        </p:nvPicPr>
        <p:blipFill>
          <a:blip r:embed="rId1"/>
          <a:srcRect l="0" t="2609" r="0" b="5347"/>
          <a:stretch/>
        </p:blipFill>
        <p:spPr>
          <a:xfrm>
            <a:off x="1042920" y="-171360"/>
            <a:ext cx="8353440" cy="6669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1763640" y="2060640"/>
            <a:ext cx="67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lay  a  ga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rainy"/>
          <p:cNvPicPr/>
          <p:nvPr/>
        </p:nvPicPr>
        <p:blipFill>
          <a:blip r:embed="rId1"/>
          <a:stretch/>
        </p:blipFill>
        <p:spPr>
          <a:xfrm>
            <a:off x="971640" y="33336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0" y="0"/>
            <a:ext cx="67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ook and gu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995640" y="59500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loudy"/>
          <p:cNvPicPr/>
          <p:nvPr/>
        </p:nvPicPr>
        <p:blipFill>
          <a:blip r:embed="rId1"/>
          <a:stretch/>
        </p:blipFill>
        <p:spPr>
          <a:xfrm>
            <a:off x="90000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3995640" y="59500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sunny"/>
          <p:cNvPicPr/>
          <p:nvPr/>
        </p:nvPicPr>
        <p:blipFill>
          <a:blip r:embed="rId1"/>
          <a:stretch/>
        </p:blipFill>
        <p:spPr>
          <a:xfrm>
            <a:off x="755640" y="5493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3995640" y="59500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n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windy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3995640" y="59500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all"/>
          <p:cNvPicPr/>
          <p:nvPr/>
        </p:nvPicPr>
        <p:blipFill>
          <a:blip r:embed="rId1"/>
          <a:stretch/>
        </p:blipFill>
        <p:spPr>
          <a:xfrm>
            <a:off x="684360" y="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3995640" y="59500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spring"/>
          <p:cNvPicPr/>
          <p:nvPr/>
        </p:nvPicPr>
        <p:blipFill>
          <a:blip r:embed="rId1"/>
          <a:stretch/>
        </p:blipFill>
        <p:spPr>
          <a:xfrm>
            <a:off x="971640" y="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3995640" y="59500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summer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3708360" y="61657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8T02:02:24Z</dcterms:created>
  <dc:creator/>
  <dc:description/>
  <dc:language>en-US</dc:language>
  <cp:lastModifiedBy/>
  <dcterms:modified xsi:type="dcterms:W3CDTF">2016-12-28T02:02:28Z</dcterms:modified>
  <cp:revision>1</cp:revision>
  <dc:subject/>
  <dc:title/>
</cp:coreProperties>
</file>