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gif" ContentType="image/gif"/>
  <Override PartName="/ppt/media/image15.png" ContentType="image/png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8.png" ContentType="image/png"/>
  <Override PartName="/ppt/media/image16.png" ContentType="image/png"/>
  <Override PartName="/ppt/media/image22.jpeg" ContentType="image/jpeg"/>
  <Override PartName="/ppt/media/image14.png" ContentType="image/png"/>
  <Override PartName="/ppt/media/image19.png" ContentType="image/png"/>
  <Override PartName="/ppt/media/image18.jpeg" ContentType="image/jpeg"/>
  <Override PartName="/ppt/media/image17.gif" ContentType="image/gif"/>
  <Override PartName="/ppt/media/image2.jpeg" ContentType="image/jpeg"/>
  <Override PartName="/ppt/media/image1.png" ContentType="image/png"/>
  <Override PartName="/ppt/media/image24.png" ContentType="image/png"/>
  <Override PartName="/ppt/media/image21.gif" ContentType="image/gif"/>
  <Override PartName="/ppt/media/image3.gif" ContentType="image/gif"/>
  <Override PartName="/ppt/media/image2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1B56-E1D6-492D-B460-F7483CDE79F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8F38-9DE5-497A-9FDE-40836580392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09CB-0F21-4817-BE8A-1286D85B919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11E1-2C4F-492B-866A-2B598838CC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B1B7-7E15-442A-8859-1C15685E48E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CFAC-8460-4D4B-B008-416307BA72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CAEF-52F9-437D-A9CC-153E1066830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E19A-00BE-48EF-948D-F64061528C5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8A58-B679-4EBF-A76B-560C6CE7BD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AD87-6291-49C4-935B-97AA1848A9D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D411-84D7-4176-965D-D5B92AE031F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418D-7681-40B5-A8F9-ED25B236D69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4C8-183F-44F3-B2E6-EBE4C937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472E-0A19-4132-9A7E-2EC62351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A6E8-AE6D-4348-A969-FFB44E28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194B-78AC-4552-9211-3D06E20B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1253-AD10-40A5-9366-083BA611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7580-CF7A-4525-B3D1-82F8A204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2B89-9DA5-4245-83AA-987A80D0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D69A-2DA7-4CBB-85A1-B79DEADF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0A52-960C-4E33-804B-FD98DD0E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D797-0917-4D4D-ABAE-C2DED497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3CD6-6845-4411-9300-C7860C8A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B83A-88EB-4BF5-B321-2B02DBF2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6FBE-FCD6-469B-81E9-9927D8BE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0B74-5AAD-459F-8333-FF94B76E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EC70-109A-4563-AAF3-690779C0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5768-7C61-4C28-BFA8-D5167C45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7DE1-43D1-4B88-8BCE-69337F05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2078-CE1E-493D-B213-093A17D4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AD30-3EEC-4DD8-9625-01EF927E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7C32-2B08-490D-9791-83C3AE92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0369-080A-4BB5-B46D-EEB766BE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735B-F08B-423D-8729-C4A118F0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4DC7-8AE9-4010-AA88-1B3B547A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5B3D-7EAC-41EE-AF4F-53AD1BE8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1BF6-5532-4675-B28A-1796367C3C2E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2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1106-EB38-4B07-9D1F-0BDF6AAF9A6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gi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png"/><Relationship Id="rId3" Type="http://schemas.openxmlformats.org/officeDocument/2006/relationships/image" Target="../media/image28.png"/><Relationship Id="rId4" Type="http://schemas.openxmlformats.org/officeDocument/2006/relationships/image" Target="../media/image26.gif"/><Relationship Id="rId5" Type="http://schemas.openxmlformats.org/officeDocument/2006/relationships/image" Target="../media/image23.png"/><Relationship Id="rId6" Type="http://schemas.openxmlformats.org/officeDocument/2006/relationships/image" Target="../media/image27.jpeg"/><Relationship Id="rId7" Type="http://schemas.openxmlformats.org/officeDocument/2006/relationships/image" Target="../media/image26.gif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达人秀"/>
          <p:cNvPicPr/>
          <p:nvPr/>
        </p:nvPicPr>
        <p:blipFill>
          <a:blip r:embed="rId1"/>
          <a:srcRect l="0" t="0" r="0" b="33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3725640" y="180324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66"/>
                </a:solidFill>
                <a:latin typeface="Arial"/>
              </a:rPr>
              <a:t>Unit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260360" y="3284640"/>
            <a:ext cx="730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Seasons and Weat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proxy"/>
          <p:cNvPicPr/>
          <p:nvPr/>
        </p:nvPicPr>
        <p:blipFill>
          <a:blip r:embed="rId1"/>
          <a:srcRect l="0" t="0" r="0" b="7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-195480" y="0"/>
            <a:ext cx="3089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Garamond"/>
              </a:rPr>
              <a:t>Guangzh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023aw"/>
          <p:cNvPicPr/>
          <p:nvPr/>
        </p:nvPicPr>
        <p:blipFill>
          <a:blip r:embed="rId2"/>
          <a:stretch/>
        </p:blipFill>
        <p:spPr>
          <a:xfrm>
            <a:off x="179280" y="836640"/>
            <a:ext cx="1908360" cy="7635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1044720" y="4437000"/>
            <a:ext cx="6984720" cy="8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it snowy in Guangzh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00080" y="5734080"/>
            <a:ext cx="8173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o, it isn’t. It’s not so col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in Guangzhou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3">
            <a:lum bright="30000"/>
          </a:blip>
          <a:srcRect l="37928" t="41183" r="52388" b="49594"/>
          <a:stretch/>
        </p:blipFill>
        <p:spPr>
          <a:xfrm>
            <a:off x="8245440" y="5589720"/>
            <a:ext cx="863640" cy="72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mohe"/>
          <p:cNvPicPr/>
          <p:nvPr/>
        </p:nvPicPr>
        <p:blipFill>
          <a:blip r:embed="rId1"/>
          <a:stretch/>
        </p:blipFill>
        <p:spPr>
          <a:xfrm>
            <a:off x="0" y="0"/>
            <a:ext cx="4572000" cy="34304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-2160" y="2852640"/>
            <a:ext cx="3079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t’s cold and snow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0" y="0"/>
            <a:ext cx="110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aramond"/>
              </a:rPr>
              <a:t>Har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>
            <a:lum bright="30000"/>
          </a:blip>
          <a:srcRect l="37928" t="41183" r="52388" b="49594"/>
          <a:stretch/>
        </p:blipFill>
        <p:spPr>
          <a:xfrm>
            <a:off x="3132000" y="2781360"/>
            <a:ext cx="720720" cy="604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3"/>
          <a:srcRect l="8010" t="8016" r="43008" b="22024"/>
          <a:stretch/>
        </p:blipFill>
        <p:spPr>
          <a:xfrm>
            <a:off x="3924360" y="2781360"/>
            <a:ext cx="649080" cy="622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023aw"/>
          <p:cNvPicPr/>
          <p:nvPr/>
        </p:nvPicPr>
        <p:blipFill>
          <a:blip r:embed="rId4"/>
          <a:stretch/>
        </p:blipFill>
        <p:spPr>
          <a:xfrm>
            <a:off x="0" y="620640"/>
            <a:ext cx="1152360" cy="461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old"/>
          <p:cNvPicPr/>
          <p:nvPr/>
        </p:nvPicPr>
        <p:blipFill>
          <a:blip r:embed="rId5"/>
          <a:stretch/>
        </p:blipFill>
        <p:spPr>
          <a:xfrm>
            <a:off x="3564000" y="112536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proxy"/>
          <p:cNvPicPr/>
          <p:nvPr/>
        </p:nvPicPr>
        <p:blipFill>
          <a:blip r:embed="rId6"/>
          <a:srcRect l="0" t="0" r="0" b="6383"/>
          <a:stretch/>
        </p:blipFill>
        <p:spPr>
          <a:xfrm>
            <a:off x="4824360" y="0"/>
            <a:ext cx="4319640" cy="3357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4859280" y="0"/>
            <a:ext cx="1727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aramond"/>
              </a:rPr>
              <a:t>Guangzh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023aw"/>
          <p:cNvPicPr/>
          <p:nvPr/>
        </p:nvPicPr>
        <p:blipFill>
          <a:blip r:embed="rId7"/>
          <a:stretch/>
        </p:blipFill>
        <p:spPr>
          <a:xfrm>
            <a:off x="5076720" y="476280"/>
            <a:ext cx="901800" cy="360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5649120" y="2781360"/>
            <a:ext cx="2419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t’s not so c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8">
            <a:lum bright="30000"/>
          </a:blip>
          <a:srcRect l="37928" t="41183" r="52388" b="49594"/>
          <a:stretch/>
        </p:blipFill>
        <p:spPr>
          <a:xfrm>
            <a:off x="8172360" y="2781360"/>
            <a:ext cx="503280" cy="4222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5"/>
          <p:cNvSpPr/>
          <p:nvPr/>
        </p:nvSpPr>
        <p:spPr>
          <a:xfrm>
            <a:off x="826920" y="3933720"/>
            <a:ext cx="748836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weather is different in Harbin and Guangzhou in wi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哈尔滨和广州冬天的天气不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6351-111201112J3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3"/>
          <p:cNvSpPr txBox="1"/>
          <p:nvPr/>
        </p:nvSpPr>
        <p:spPr>
          <a:xfrm>
            <a:off x="272880" y="4648320"/>
            <a:ext cx="887112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It's cold in winter.</a:t>
            </a:r>
            <a:endParaRPr b="1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195640" y="6093000"/>
            <a:ext cx="576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118"/>
          <p:cNvPicPr/>
          <p:nvPr/>
        </p:nvPicPr>
        <p:blipFill>
          <a:blip r:embed="rId2"/>
          <a:stretch/>
        </p:blipFill>
        <p:spPr>
          <a:xfrm>
            <a:off x="1765440" y="276120"/>
            <a:ext cx="1800000" cy="23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" descr="12190522566372.jpg"/>
          <p:cNvPicPr/>
          <p:nvPr/>
        </p:nvPicPr>
        <p:blipFill>
          <a:blip r:embed="rId1"/>
          <a:stretch/>
        </p:blipFill>
        <p:spPr>
          <a:xfrm>
            <a:off x="179280" y="404640"/>
            <a:ext cx="8713800" cy="615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623453240"/>
          <p:cNvPicPr/>
          <p:nvPr/>
        </p:nvPicPr>
        <p:blipFill>
          <a:blip r:embed="rId1"/>
          <a:stretch/>
        </p:blipFill>
        <p:spPr>
          <a:xfrm>
            <a:off x="0" y="-15840"/>
            <a:ext cx="9217080" cy="6900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2916360" y="2637000"/>
            <a:ext cx="4176720" cy="241092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’s pla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de and se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捉迷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6908740"/>
          <p:cNvPicPr/>
          <p:nvPr/>
        </p:nvPicPr>
        <p:blipFill>
          <a:blip r:embed="rId1"/>
          <a:srcRect l="0" t="806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5"/>
          <p:cNvSpPr/>
          <p:nvPr/>
        </p:nvSpPr>
        <p:spPr>
          <a:xfrm flipV="1">
            <a:off x="4284720" y="763920"/>
            <a:ext cx="4824360" cy="2016360"/>
          </a:xfrm>
          <a:prstGeom prst="cloudCallout">
            <a:avLst>
              <a:gd name="adj1" fmla="val -66972"/>
              <a:gd name="adj2" fmla="val -32708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572000" y="1484280"/>
            <a:ext cx="43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I like travel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6818c128356d11e2a54022000a1fbd84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826920" y="4508640"/>
            <a:ext cx="777564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’s the weather like in Guangzh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475640" y="5805360"/>
            <a:ext cx="6113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______and______.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-195480" y="0"/>
            <a:ext cx="3089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Garamond"/>
              </a:rPr>
              <a:t>Guangzh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2"/>
          <a:srcRect l="35868" t="30624" r="36265" b="32666"/>
          <a:stretch/>
        </p:blipFill>
        <p:spPr>
          <a:xfrm>
            <a:off x="5796000" y="5805360"/>
            <a:ext cx="838080" cy="609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rain"/>
          <p:cNvPicPr/>
          <p:nvPr/>
        </p:nvPicPr>
        <p:blipFill>
          <a:blip r:embed="rId3"/>
          <a:srcRect l="0" t="0" r="0" b="27719"/>
          <a:stretch/>
        </p:blipFill>
        <p:spPr>
          <a:xfrm>
            <a:off x="6948360" y="119700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4">
            <a:lum bright="18000"/>
          </a:blip>
          <a:srcRect l="24002" t="25339" r="66460" b="68670"/>
          <a:stretch/>
        </p:blipFill>
        <p:spPr>
          <a:xfrm>
            <a:off x="6732720" y="5805360"/>
            <a:ext cx="1008000" cy="563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/>
          <p:cNvPicPr/>
          <p:nvPr/>
        </p:nvPicPr>
        <p:blipFill>
          <a:blip r:embed="rId5">
            <a:lum bright="18000"/>
          </a:blip>
          <a:srcRect l="24002" t="25339" r="66460" b="68670"/>
          <a:stretch/>
        </p:blipFill>
        <p:spPr>
          <a:xfrm>
            <a:off x="7343640" y="0"/>
            <a:ext cx="1800360" cy="10065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2"/>
          <p:cNvSpPr/>
          <p:nvPr/>
        </p:nvSpPr>
        <p:spPr>
          <a:xfrm>
            <a:off x="2268360" y="5805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a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4356000" y="5805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lo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011ak"/>
          <p:cNvPicPr/>
          <p:nvPr/>
        </p:nvPicPr>
        <p:blipFill>
          <a:blip r:embed="rId6"/>
          <a:stretch/>
        </p:blipFill>
        <p:spPr>
          <a:xfrm>
            <a:off x="179280" y="836640"/>
            <a:ext cx="2268720" cy="90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tiananm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2268360" y="6021360"/>
            <a:ext cx="4248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t’s______and____</a:t>
            </a:r>
            <a:r>
              <a:rPr b="1" lang="en-US" sz="3600" spc="-1" strike="noStrike">
                <a:solidFill>
                  <a:srgbClr val="0000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sunny2"/>
          <p:cNvPicPr/>
          <p:nvPr/>
        </p:nvPicPr>
        <p:blipFill>
          <a:blip r:embed="rId2"/>
          <a:srcRect l="6248" t="0" r="6248" b="24110"/>
          <a:stretch/>
        </p:blipFill>
        <p:spPr>
          <a:xfrm>
            <a:off x="6630840" y="0"/>
            <a:ext cx="2513160" cy="1793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39600" y="0"/>
            <a:ext cx="19652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Garamond"/>
              </a:rPr>
              <a:t>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971640" y="4653000"/>
            <a:ext cx="7559640" cy="78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’s the weather like in Beij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3">
            <a:lum bright="12000"/>
          </a:blip>
          <a:srcRect l="81005" t="29635" r="11002" b="60669"/>
          <a:stretch/>
        </p:blipFill>
        <p:spPr>
          <a:xfrm>
            <a:off x="5796000" y="6021360"/>
            <a:ext cx="685800" cy="647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2916360" y="602136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5003640" y="602136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4">
            <a:lum bright="12000"/>
          </a:blip>
          <a:srcRect l="40999" t="28671" r="49913" b="64670"/>
          <a:stretch/>
        </p:blipFill>
        <p:spPr>
          <a:xfrm>
            <a:off x="6516720" y="6021360"/>
            <a:ext cx="865080" cy="620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017aq"/>
          <p:cNvPicPr/>
          <p:nvPr/>
        </p:nvPicPr>
        <p:blipFill>
          <a:blip r:embed="rId5"/>
          <a:stretch/>
        </p:blipFill>
        <p:spPr>
          <a:xfrm>
            <a:off x="179280" y="765000"/>
            <a:ext cx="1368360" cy="7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Img226325666"/>
          <p:cNvPicPr/>
          <p:nvPr/>
        </p:nvPicPr>
        <p:blipFill>
          <a:blip r:embed="rId1"/>
          <a:srcRect l="0" t="0" r="3531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2395080" y="5516640"/>
            <a:ext cx="3089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t’s windy .</a:t>
            </a:r>
            <a:r>
              <a:rPr b="1" lang="en-US" sz="3600" spc="-1" strike="noStrike">
                <a:solidFill>
                  <a:srgbClr val="333399"/>
                </a:solidFill>
                <a:latin typeface="Garamond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windy"/>
          <p:cNvPicPr/>
          <p:nvPr/>
        </p:nvPicPr>
        <p:blipFill>
          <a:blip r:embed="rId2"/>
          <a:srcRect l="0" t="0" r="-1495" b="0"/>
          <a:stretch/>
        </p:blipFill>
        <p:spPr>
          <a:xfrm>
            <a:off x="0" y="2438280"/>
            <a:ext cx="3276720" cy="3227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windy"/>
          <p:cNvPicPr/>
          <p:nvPr/>
        </p:nvPicPr>
        <p:blipFill>
          <a:blip r:embed="rId3"/>
          <a:srcRect l="0" t="0" r="53114" b="21512"/>
          <a:stretch/>
        </p:blipFill>
        <p:spPr>
          <a:xfrm>
            <a:off x="4038480" y="0"/>
            <a:ext cx="3733920" cy="6248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windy"/>
          <p:cNvPicPr/>
          <p:nvPr/>
        </p:nvPicPr>
        <p:blipFill>
          <a:blip r:embed="rId4"/>
          <a:srcRect l="0" t="0" r="53114" b="53114"/>
          <a:stretch/>
        </p:blipFill>
        <p:spPr>
          <a:xfrm>
            <a:off x="609480" y="0"/>
            <a:ext cx="3733920" cy="37339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7"/>
          <p:cNvSpPr/>
          <p:nvPr/>
        </p:nvSpPr>
        <p:spPr>
          <a:xfrm>
            <a:off x="6954840" y="115920"/>
            <a:ext cx="2347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Garamond"/>
              </a:rPr>
              <a:t>Xinji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900000" y="4508640"/>
            <a:ext cx="755964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’s the weather like in Xinjia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j00007"/>
          <p:cNvPicPr/>
          <p:nvPr/>
        </p:nvPicPr>
        <p:blipFill>
          <a:blip r:embed="rId5"/>
          <a:stretch/>
        </p:blipFill>
        <p:spPr>
          <a:xfrm>
            <a:off x="4427640" y="5445000"/>
            <a:ext cx="1143000" cy="744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006af"/>
          <p:cNvPicPr/>
          <p:nvPr/>
        </p:nvPicPr>
        <p:blipFill>
          <a:blip r:embed="rId6"/>
          <a:stretch/>
        </p:blipFill>
        <p:spPr>
          <a:xfrm>
            <a:off x="7091280" y="1052640"/>
            <a:ext cx="2052720" cy="82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moh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1928520" y="5740560"/>
            <a:ext cx="404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t’s cold and snow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cold"/>
          <p:cNvPicPr/>
          <p:nvPr/>
        </p:nvPicPr>
        <p:blipFill>
          <a:blip r:embed="rId2"/>
          <a:stretch/>
        </p:blipFill>
        <p:spPr>
          <a:xfrm>
            <a:off x="6156360" y="1844640"/>
            <a:ext cx="2627280" cy="2627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96480" y="228600"/>
            <a:ext cx="20109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Garamond"/>
              </a:rPr>
              <a:t>Harb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755640" y="4653000"/>
            <a:ext cx="7488360" cy="78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’s the weather like in Harb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3">
            <a:lum bright="30000"/>
          </a:blip>
          <a:srcRect l="37928" t="41183" r="52388" b="49594"/>
          <a:stretch/>
        </p:blipFill>
        <p:spPr>
          <a:xfrm>
            <a:off x="6084720" y="5589720"/>
            <a:ext cx="863640" cy="723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4"/>
          <a:srcRect l="7996" t="8000" r="43003" b="22017"/>
          <a:stretch/>
        </p:blipFill>
        <p:spPr>
          <a:xfrm>
            <a:off x="7093080" y="5589720"/>
            <a:ext cx="793800" cy="761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023aw"/>
          <p:cNvPicPr/>
          <p:nvPr/>
        </p:nvPicPr>
        <p:blipFill>
          <a:blip r:embed="rId5"/>
          <a:stretch/>
        </p:blipFill>
        <p:spPr>
          <a:xfrm>
            <a:off x="179280" y="1052640"/>
            <a:ext cx="190836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8T02:09:47Z</dcterms:created>
  <dc:creator/>
  <dc:description/>
  <dc:language>en-US</dc:language>
  <cp:lastModifiedBy/>
  <dcterms:modified xsi:type="dcterms:W3CDTF">2016-12-28T02:10:34Z</dcterms:modified>
  <cp:revision>1</cp:revision>
  <dc:subject/>
  <dc:title/>
</cp:coreProperties>
</file>