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19.png" ContentType="image/pn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B39F-9CCF-495A-B9F9-DD3888743C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E36D-44E4-41A9-9D0C-CE9BD72311D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124B-3491-4DE7-8AB4-554B8356A8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6C55-04CB-44C2-838E-66236EAAF2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17F0-8ED7-403C-AB8E-4AD981DCF9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296F-73F2-4900-B631-ACA42A8C43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A0D6-C401-4323-B3F7-9E219A4582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C8B8-3CDA-4F87-9596-C0E2DCC60A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E152-6417-4BA6-B92F-A7923E4070A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BCDB-B202-4110-8F63-949FE69F5DA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C59D-5C81-42CA-ACF1-A1570AD326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1E99-50D1-4986-9B93-5C625D6097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C03F-FEA9-4EFC-9E54-3EB31C4316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BABB-83EF-4E11-9BF8-F23ED2BA91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FB46-057D-48B1-B7B7-702797D46C0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23F1-2709-4780-B5C1-93EEC8A183F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C26B-F04F-49A0-8830-E7166E35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B0DA-4DE6-4383-8AC9-9EFB5C4C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3E5B-CC61-4331-B3BF-71A10301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C1A6-1A64-4D3B-BC88-9CD91536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D8FB-3EB2-4031-B2CB-359AF684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339F-1C0D-4DEE-8F50-71E1781D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6E19-DC1F-4161-A54B-FBE3ADE3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ED00-E632-4BBD-956E-03E16D66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DBA4-D54A-4372-9245-A7CD2E22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D10D-01BA-4688-9961-4CD0139B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1DC9-7C7A-4093-A8F2-164A001C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4B57-9ED7-4F91-9DDD-2C4A3505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2202-1D9E-487D-A2DE-526B59966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tmp/home/.config/libreoffice/4/user/gallery/windy.wav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ogo"/>
          <p:cNvPicPr/>
          <p:nvPr/>
        </p:nvPicPr>
        <p:blipFill>
          <a:blip r:embed="rId1"/>
          <a:stretch/>
        </p:blipFill>
        <p:spPr>
          <a:xfrm>
            <a:off x="4800600" y="3429000"/>
            <a:ext cx="465948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4" descr="1327287_085916054_2.jpg"/>
          <p:cNvPicPr/>
          <p:nvPr/>
        </p:nvPicPr>
        <p:blipFill>
          <a:blip r:embed="rId2"/>
          <a:srcRect l="0" t="0" r="0" b="4715"/>
          <a:stretch/>
        </p:blipFill>
        <p:spPr>
          <a:xfrm rot="21207600">
            <a:off x="-74160" y="-307800"/>
            <a:ext cx="4227480" cy="428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4819680" y="762120"/>
            <a:ext cx="387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 2 Mo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914400" y="4572000"/>
            <a:ext cx="351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ade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2" descr="哈尼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矩形 3" descr=""/>
          <p:cNvPicPr/>
          <p:nvPr/>
        </p:nvPicPr>
        <p:blipFill>
          <a:blip r:embed="rId2"/>
          <a:stretch/>
        </p:blipFill>
        <p:spPr>
          <a:xfrm>
            <a:off x="512640" y="55440"/>
            <a:ext cx="3778200" cy="124308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852840" y="5715000"/>
            <a:ext cx="785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go ice skating i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nter holid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882000" y="1828800"/>
            <a:ext cx="31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inter holiday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寒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旋转 一月11"/>
          <p:cNvPicPr/>
          <p:nvPr/>
        </p:nvPicPr>
        <p:blipFill>
          <a:blip r:embed="rId1"/>
          <a:stretch/>
        </p:blipFill>
        <p:spPr>
          <a:xfrm>
            <a:off x="0" y="2057400"/>
            <a:ext cx="3581280" cy="4362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旋转 2月11"/>
          <p:cNvPicPr/>
          <p:nvPr/>
        </p:nvPicPr>
        <p:blipFill>
          <a:blip r:embed="rId2"/>
          <a:stretch/>
        </p:blipFill>
        <p:spPr>
          <a:xfrm>
            <a:off x="5375160" y="1981080"/>
            <a:ext cx="3768840" cy="428796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620280" y="5638680"/>
            <a:ext cx="20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anu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6181560" y="548640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ebr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2036520" y="228600"/>
            <a:ext cx="49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nter holida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1759680" y="1066680"/>
            <a:ext cx="59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in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anua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Februa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3" descr="222.jpg"/>
          <p:cNvPicPr/>
          <p:nvPr/>
        </p:nvPicPr>
        <p:blipFill>
          <a:blip r:embed="rId1"/>
          <a:srcRect l="0" t="0" r="0" b="100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1907640" y="106668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旋转 图像五月"/>
          <p:cNvPicPr/>
          <p:nvPr/>
        </p:nvPicPr>
        <p:blipFill>
          <a:blip r:embed="rId1"/>
          <a:stretch/>
        </p:blipFill>
        <p:spPr>
          <a:xfrm>
            <a:off x="0" y="0"/>
            <a:ext cx="2362320" cy="3276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旋转 一月11"/>
          <p:cNvPicPr/>
          <p:nvPr/>
        </p:nvPicPr>
        <p:blipFill>
          <a:blip r:embed="rId2"/>
          <a:stretch/>
        </p:blipFill>
        <p:spPr>
          <a:xfrm>
            <a:off x="4724280" y="0"/>
            <a:ext cx="2057400" cy="3352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旋转 2月11"/>
          <p:cNvPicPr/>
          <p:nvPr/>
        </p:nvPicPr>
        <p:blipFill>
          <a:blip r:embed="rId3"/>
          <a:stretch/>
        </p:blipFill>
        <p:spPr>
          <a:xfrm>
            <a:off x="6858000" y="0"/>
            <a:ext cx="2286000" cy="33526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614880" y="274320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4811400" y="2743200"/>
            <a:ext cx="20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anu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6943680" y="274320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ebr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2792160" y="1523880"/>
            <a:ext cx="142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右大括号 9"/>
          <p:cNvSpPr/>
          <p:nvPr/>
        </p:nvSpPr>
        <p:spPr>
          <a:xfrm rot="5400000">
            <a:off x="6570360" y="2970360"/>
            <a:ext cx="803160" cy="1904760"/>
          </a:xfrm>
          <a:custGeom>
            <a:avLst/>
            <a:gdLst>
              <a:gd name="textAreaLeft" fmla="*/ 0 w 803160"/>
              <a:gd name="textAreaRight" fmla="*/ 290160 w 803160"/>
              <a:gd name="textAreaTop" fmla="*/ 20880 h 1904760"/>
              <a:gd name="textAreaBottom" fmla="*/ 18838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0"/>
                  <a:pt x="10800" y="759"/>
                </a:cubicBezTo>
                <a:lnTo>
                  <a:pt x="10800" y="10041"/>
                </a:lnTo>
                <a:cubicBezTo>
                  <a:pt x="10800" y="10421"/>
                  <a:pt x="16200" y="10800"/>
                  <a:pt x="21600" y="10800"/>
                </a:cubicBezTo>
                <a:cubicBezTo>
                  <a:pt x="16200" y="10800"/>
                  <a:pt x="10800" y="11180"/>
                  <a:pt x="10800" y="11559"/>
                </a:cubicBezTo>
                <a:lnTo>
                  <a:pt x="10800" y="20841"/>
                </a:lnTo>
                <a:cubicBezTo>
                  <a:pt x="10800" y="21221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5806800" y="4343400"/>
            <a:ext cx="26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ter holi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3138120" y="434340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Ma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4768920" y="5257800"/>
            <a:ext cx="23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月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寒假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前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旋转 图像五月"/>
          <p:cNvPicPr/>
          <p:nvPr/>
        </p:nvPicPr>
        <p:blipFill>
          <a:blip r:embed="rId1"/>
          <a:stretch/>
        </p:blipFill>
        <p:spPr>
          <a:xfrm>
            <a:off x="6553080" y="0"/>
            <a:ext cx="2362320" cy="327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旋转 一月11"/>
          <p:cNvPicPr/>
          <p:nvPr/>
        </p:nvPicPr>
        <p:blipFill>
          <a:blip r:embed="rId2"/>
          <a:stretch/>
        </p:blipFill>
        <p:spPr>
          <a:xfrm>
            <a:off x="0" y="0"/>
            <a:ext cx="2057400" cy="3352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旋转 2月11"/>
          <p:cNvPicPr/>
          <p:nvPr/>
        </p:nvPicPr>
        <p:blipFill>
          <a:blip r:embed="rId3"/>
          <a:stretch/>
        </p:blipFill>
        <p:spPr>
          <a:xfrm>
            <a:off x="2209680" y="0"/>
            <a:ext cx="2286000" cy="33526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7320600" y="266688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10800" y="2743200"/>
            <a:ext cx="20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anu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2371680" y="274320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ebr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4933440" y="1447920"/>
            <a:ext cx="12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右大括号 9"/>
          <p:cNvSpPr/>
          <p:nvPr/>
        </p:nvSpPr>
        <p:spPr>
          <a:xfrm rot="5400000">
            <a:off x="1617480" y="2877840"/>
            <a:ext cx="803160" cy="1905120"/>
          </a:xfrm>
          <a:custGeom>
            <a:avLst/>
            <a:gdLst>
              <a:gd name="textAreaLeft" fmla="*/ 0 w 803160"/>
              <a:gd name="textAreaRight" fmla="*/ 290160 w 803160"/>
              <a:gd name="textAreaTop" fmla="*/ 20880 h 1905120"/>
              <a:gd name="textAreaBottom" fmla="*/ 18842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0"/>
                  <a:pt x="10800" y="759"/>
                </a:cubicBezTo>
                <a:lnTo>
                  <a:pt x="10800" y="10041"/>
                </a:lnTo>
                <a:cubicBezTo>
                  <a:pt x="10800" y="10421"/>
                  <a:pt x="16200" y="10800"/>
                  <a:pt x="21600" y="10800"/>
                </a:cubicBezTo>
                <a:cubicBezTo>
                  <a:pt x="16200" y="10800"/>
                  <a:pt x="10800" y="11180"/>
                  <a:pt x="10800" y="11559"/>
                </a:cubicBezTo>
                <a:lnTo>
                  <a:pt x="10800" y="20841"/>
                </a:lnTo>
                <a:cubicBezTo>
                  <a:pt x="10800" y="21221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624960" y="4267080"/>
            <a:ext cx="26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ter holi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4126680" y="4495680"/>
            <a:ext cx="48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 is after winter holi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4495680" y="5334120"/>
            <a:ext cx="37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月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寒假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后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劳动节.jpg"/>
          <p:cNvPicPr/>
          <p:nvPr/>
        </p:nvPicPr>
        <p:blipFill>
          <a:blip r:embed="rId1"/>
          <a:srcRect l="0" t="0" r="0" b="85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ajisai5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3"/>
          <p:cNvGrpSpPr/>
          <p:nvPr/>
        </p:nvGrpSpPr>
        <p:grpSpPr>
          <a:xfrm>
            <a:off x="533520" y="0"/>
            <a:ext cx="7924680" cy="1523880"/>
            <a:chOff x="533520" y="0"/>
            <a:chExt cx="7924680" cy="1523880"/>
          </a:xfrm>
        </p:grpSpPr>
        <p:sp>
          <p:nvSpPr>
            <p:cNvPr id="54" name="AutoShape 8"/>
            <p:cNvSpPr/>
            <p:nvPr/>
          </p:nvSpPr>
          <p:spPr>
            <a:xfrm>
              <a:off x="533520" y="0"/>
              <a:ext cx="7862760" cy="1523880"/>
            </a:xfrm>
            <a:prstGeom prst="cloudCallout">
              <a:avLst>
                <a:gd name="adj1" fmla="val -38796"/>
                <a:gd name="adj2" fmla="val 66356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838080" y="318960"/>
              <a:ext cx="7620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What can you do in spring?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22" descr="春活动"/>
          <p:cNvPicPr/>
          <p:nvPr/>
        </p:nvPicPr>
        <p:blipFill>
          <a:blip r:embed="rId2"/>
          <a:stretch/>
        </p:blipFill>
        <p:spPr>
          <a:xfrm>
            <a:off x="1600200" y="1219320"/>
            <a:ext cx="6019920" cy="4514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8"/>
          <p:cNvSpPr/>
          <p:nvPr/>
        </p:nvSpPr>
        <p:spPr>
          <a:xfrm>
            <a:off x="1486800" y="5715000"/>
            <a:ext cx="647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Comic Sans MS"/>
              </a:rPr>
              <a:t>I can ride my bik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9" descr="2859144_130852074_2副本"/>
          <p:cNvPicPr/>
          <p:nvPr/>
        </p:nvPicPr>
        <p:blipFill>
          <a:blip r:embed="rId3"/>
          <a:stretch/>
        </p:blipFill>
        <p:spPr>
          <a:xfrm>
            <a:off x="2060640" y="2666880"/>
            <a:ext cx="1917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ajisai5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0"/>
          <p:cNvGrpSpPr/>
          <p:nvPr/>
        </p:nvGrpSpPr>
        <p:grpSpPr>
          <a:xfrm>
            <a:off x="228600" y="76320"/>
            <a:ext cx="8610120" cy="1523880"/>
            <a:chOff x="228600" y="76320"/>
            <a:chExt cx="8610120" cy="1523880"/>
          </a:xfrm>
        </p:grpSpPr>
        <p:sp>
          <p:nvSpPr>
            <p:cNvPr id="61" name="AutoShape 11"/>
            <p:cNvSpPr/>
            <p:nvPr/>
          </p:nvSpPr>
          <p:spPr>
            <a:xfrm>
              <a:off x="228600" y="76320"/>
              <a:ext cx="8543160" cy="1523880"/>
            </a:xfrm>
            <a:prstGeom prst="cloudCallout">
              <a:avLst>
                <a:gd name="adj1" fmla="val -38796"/>
                <a:gd name="adj2" fmla="val 66356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559440" y="395280"/>
              <a:ext cx="8279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What can you do in summer?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13"/>
          <p:cNvSpPr/>
          <p:nvPr/>
        </p:nvSpPr>
        <p:spPr>
          <a:xfrm>
            <a:off x="208800" y="5791320"/>
            <a:ext cx="878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Comic Sans MS"/>
              </a:rPr>
              <a:t>I can go to the swimming poo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5" descr="夏活动"/>
          <p:cNvPicPr/>
          <p:nvPr/>
        </p:nvPicPr>
        <p:blipFill>
          <a:blip r:embed="rId2"/>
          <a:stretch/>
        </p:blipFill>
        <p:spPr>
          <a:xfrm>
            <a:off x="1752480" y="16765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图片2"/>
          <p:cNvPicPr/>
          <p:nvPr/>
        </p:nvPicPr>
        <p:blipFill>
          <a:blip r:embed="rId3"/>
          <a:stretch/>
        </p:blipFill>
        <p:spPr>
          <a:xfrm>
            <a:off x="6323040" y="912960"/>
            <a:ext cx="144936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ajisai5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533520" y="76320"/>
            <a:ext cx="7924680" cy="1523880"/>
            <a:chOff x="533520" y="76320"/>
            <a:chExt cx="7924680" cy="1523880"/>
          </a:xfrm>
        </p:grpSpPr>
        <p:sp>
          <p:nvSpPr>
            <p:cNvPr id="68" name="AutoShape 12"/>
            <p:cNvSpPr/>
            <p:nvPr/>
          </p:nvSpPr>
          <p:spPr>
            <a:xfrm>
              <a:off x="533520" y="76320"/>
              <a:ext cx="7862760" cy="1523880"/>
            </a:xfrm>
            <a:prstGeom prst="cloudCallout">
              <a:avLst>
                <a:gd name="adj1" fmla="val -38796"/>
                <a:gd name="adj2" fmla="val 66356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3"/>
            <p:cNvSpPr/>
            <p:nvPr/>
          </p:nvSpPr>
          <p:spPr>
            <a:xfrm>
              <a:off x="838080" y="395280"/>
              <a:ext cx="7620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What can you do in fall?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15"/>
          <p:cNvSpPr/>
          <p:nvPr/>
        </p:nvSpPr>
        <p:spPr>
          <a:xfrm>
            <a:off x="1468080" y="5638680"/>
            <a:ext cx="640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Comic Sans MS"/>
              </a:rPr>
              <a:t>I can play outsid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7" descr="秋活动"/>
          <p:cNvPicPr/>
          <p:nvPr/>
        </p:nvPicPr>
        <p:blipFill>
          <a:blip r:embed="rId2"/>
          <a:stretch/>
        </p:blipFill>
        <p:spPr>
          <a:xfrm>
            <a:off x="1828800" y="14479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ajisai5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10"/>
          <p:cNvGrpSpPr/>
          <p:nvPr/>
        </p:nvGrpSpPr>
        <p:grpSpPr>
          <a:xfrm>
            <a:off x="533520" y="76320"/>
            <a:ext cx="8076600" cy="1523880"/>
            <a:chOff x="533520" y="76320"/>
            <a:chExt cx="8076600" cy="1523880"/>
          </a:xfrm>
        </p:grpSpPr>
        <p:sp>
          <p:nvSpPr>
            <p:cNvPr id="74" name="AutoShape 11"/>
            <p:cNvSpPr/>
            <p:nvPr/>
          </p:nvSpPr>
          <p:spPr>
            <a:xfrm>
              <a:off x="533520" y="76320"/>
              <a:ext cx="8013600" cy="1523880"/>
            </a:xfrm>
            <a:prstGeom prst="cloudCallout">
              <a:avLst>
                <a:gd name="adj1" fmla="val -38796"/>
                <a:gd name="adj2" fmla="val 66356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2"/>
            <p:cNvSpPr/>
            <p:nvPr/>
          </p:nvSpPr>
          <p:spPr>
            <a:xfrm>
              <a:off x="843840" y="395280"/>
              <a:ext cx="7766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What can you do in winter?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13"/>
          <p:cNvSpPr/>
          <p:nvPr/>
        </p:nvSpPr>
        <p:spPr>
          <a:xfrm>
            <a:off x="1493280" y="5638680"/>
            <a:ext cx="69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Comic Sans MS"/>
              </a:rPr>
              <a:t>I can go ice skat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6" descr="冬活动"/>
          <p:cNvPicPr/>
          <p:nvPr/>
        </p:nvPicPr>
        <p:blipFill>
          <a:blip r:embed="rId2"/>
          <a:stretch/>
        </p:blipFill>
        <p:spPr>
          <a:xfrm>
            <a:off x="1981080" y="14479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1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79" name="Picture 13" descr=""/>
            <p:cNvPicPr/>
            <p:nvPr/>
          </p:nvPicPr>
          <p:blipFill>
            <a:blip r:embed="rId1"/>
            <a:srcRect l="21942" t="27366" r="37454" b="30319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Rectangle 14"/>
            <p:cNvSpPr/>
            <p:nvPr/>
          </p:nvSpPr>
          <p:spPr>
            <a:xfrm>
              <a:off x="361080" y="434520"/>
              <a:ext cx="8418960" cy="608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5"/>
          <p:cNvSpPr/>
          <p:nvPr/>
        </p:nvSpPr>
        <p:spPr>
          <a:xfrm>
            <a:off x="685800" y="42670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It’s fa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windy">
            <a:hlinkClick r:id="rId2"/>
          </p:cNvPr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4800600" y="990720"/>
            <a:ext cx="3733920" cy="3060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83" name="Picture 11" descr="%5Bwallcoo"/>
          <p:cNvPicPr/>
          <p:nvPr/>
        </p:nvPicPr>
        <p:blipFill>
          <a:blip r:embed="rId4"/>
          <a:stretch/>
        </p:blipFill>
        <p:spPr>
          <a:xfrm>
            <a:off x="838080" y="990720"/>
            <a:ext cx="3733920" cy="30477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84" name="矩形 10"/>
          <p:cNvSpPr/>
          <p:nvPr/>
        </p:nvSpPr>
        <p:spPr>
          <a:xfrm>
            <a:off x="1638000" y="5105520"/>
            <a:ext cx="694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n we go ice skating 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>
            <a:lum bright="6000"/>
          </a:blip>
          <a:srcRect l="22688" t="13585" r="7176" b="17512"/>
          <a:stretch/>
        </p:blipFill>
        <p:spPr>
          <a:xfrm>
            <a:off x="0" y="0"/>
            <a:ext cx="9396360" cy="6923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a3"/>
          <p:cNvPicPr/>
          <p:nvPr/>
        </p:nvPicPr>
        <p:blipFill>
          <a:blip r:embed="rId2"/>
          <a:stretch/>
        </p:blipFill>
        <p:spPr>
          <a:xfrm>
            <a:off x="3733920" y="3505320"/>
            <a:ext cx="2133360" cy="2477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1106280" y="2286000"/>
            <a:ext cx="7227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can we go ice sk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0" descr="55.jpg"/>
          <p:cNvPicPr/>
          <p:nvPr/>
        </p:nvPicPr>
        <p:blipFill>
          <a:blip r:embed="rId1"/>
          <a:stretch/>
        </p:blipFill>
        <p:spPr>
          <a:xfrm>
            <a:off x="0" y="-46080"/>
            <a:ext cx="9372600" cy="6904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1"/>
          <p:cNvSpPr/>
          <p:nvPr/>
        </p:nvSpPr>
        <p:spPr>
          <a:xfrm>
            <a:off x="310680" y="533520"/>
            <a:ext cx="495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n we go ice sk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ay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五月份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12" descr="1327287_085916054_2.jpg"/>
          <p:cNvPicPr/>
          <p:nvPr/>
        </p:nvPicPr>
        <p:blipFill>
          <a:blip r:embed="rId2"/>
          <a:stretch/>
        </p:blipFill>
        <p:spPr>
          <a:xfrm rot="20565000">
            <a:off x="6248160" y="1676520"/>
            <a:ext cx="15764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bi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919800" y="533520"/>
            <a:ext cx="73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can we go ice skati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02:15:42Z</dcterms:created>
  <dc:creator/>
  <dc:description/>
  <dc:language>en-US</dc:language>
  <cp:lastModifiedBy/>
  <dcterms:modified xsi:type="dcterms:W3CDTF">2016-12-28T02:16:14Z</dcterms:modified>
  <cp:revision>1</cp:revision>
  <dc:subject/>
  <dc:title/>
</cp:coreProperties>
</file>