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C11-71AF-4368-B622-7643089825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04A-574B-49A5-A73A-C4EEAAA803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FFE5-5974-4B99-90CA-7FC3B66D4B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9F5-28BE-43EC-B465-3F804506D2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803-F563-4C87-8565-F81C216165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C89-DBCE-4CE5-8803-10FD8AEFEE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4C0-80F9-4F12-817F-CF6FE91F97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A30-F33B-475D-868E-F4221058FA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9A78-FBF7-4EF0-93E4-5C78D86164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64B3-1F30-4E95-AE9A-9B5AC57955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3A2-2B6D-452D-8D94-9829E1DEE0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6F6-5C2F-4746-8908-B3E632AC5D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12E-4B5F-48D3-99DD-7D7DCAA1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312-C43A-455F-9EC6-9E5F05E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4FD-0B47-486D-BA1A-3A529872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17F-8062-4A4F-88D8-F254D946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8B9-F00B-4E3C-B0A3-DCC8B59E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895-A69E-494E-98C9-5F55C83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FB9-6731-4A3F-BAB6-93C4158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172-B63A-401A-9BF5-5DF4AA4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CCF-FF87-413C-9358-0ABC0A7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BB-7FF5-4A24-832A-2D7B7AC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92E-01A6-4F09-86F2-25EAE52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75A-02FA-47D6-871E-14D051D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49F-0E73-4652-9574-E6C11EBC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ogo"/>
          <p:cNvPicPr/>
          <p:nvPr/>
        </p:nvPicPr>
        <p:blipFill>
          <a:blip r:embed="rId1"/>
          <a:stretch/>
        </p:blipFill>
        <p:spPr>
          <a:xfrm>
            <a:off x="4800600" y="3429000"/>
            <a:ext cx="4659480" cy="3429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819680" y="762120"/>
            <a:ext cx="38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 2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8" name="内容占位符 3" descr="psds214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53680" y="685800"/>
            <a:ext cx="350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ter holiday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 or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618840" y="19810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588040" y="20574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701640" y="3048120"/>
            <a:ext cx="31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is ______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910880" y="297180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24320" y="4267080"/>
            <a:ext cx="197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gogo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6" name="内容占位符 3" descr="732473_111209742284_2.jpg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935320" y="0"/>
            <a:ext cx="31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you t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27840" y="609480"/>
            <a:ext cx="50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go wants to ___________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09480" y="167652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can go ice skating in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12800" y="22096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holiday is in_______ or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695160" y="274320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is ______winter hol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685800" y="114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he can’t. It’s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762120" y="3276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gogo can go to the 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五级英语优质课图片23"/>
          <p:cNvPicPr/>
          <p:nvPr/>
        </p:nvPicPr>
        <p:blipFill>
          <a:blip r:embed="rId2"/>
          <a:stretch/>
        </p:blipFill>
        <p:spPr>
          <a:xfrm>
            <a:off x="1371600" y="1219320"/>
            <a:ext cx="3179880" cy="41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五级英语优质课图片22"/>
          <p:cNvPicPr/>
          <p:nvPr/>
        </p:nvPicPr>
        <p:blipFill>
          <a:blip r:embed="rId3"/>
          <a:stretch/>
        </p:blipFill>
        <p:spPr>
          <a:xfrm>
            <a:off x="4572000" y="1219320"/>
            <a:ext cx="3306600" cy="4174920"/>
          </a:xfrm>
          <a:prstGeom prst="rect">
            <a:avLst/>
          </a:prstGeom>
          <a:ln w="0">
            <a:noFill/>
          </a:ln>
        </p:spPr>
      </p:pic>
      <p:pic>
        <p:nvPicPr>
          <p:cNvPr id="52" name="矩形 3" descr=""/>
          <p:cNvPicPr/>
          <p:nvPr/>
        </p:nvPicPr>
        <p:blipFill>
          <a:blip r:embed="rId4"/>
          <a:stretch/>
        </p:blipFill>
        <p:spPr>
          <a:xfrm>
            <a:off x="208080" y="-274680"/>
            <a:ext cx="39002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五级英语优质课图片22"/>
          <p:cNvPicPr/>
          <p:nvPr/>
        </p:nvPicPr>
        <p:blipFill>
          <a:blip r:embed="rId2"/>
          <a:stretch/>
        </p:blipFill>
        <p:spPr>
          <a:xfrm>
            <a:off x="380880" y="22860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608120" y="3049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go ice sk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五级英语优质课图片23"/>
          <p:cNvPicPr/>
          <p:nvPr/>
        </p:nvPicPr>
        <p:blipFill>
          <a:blip r:embed="rId3"/>
          <a:stretch/>
        </p:blipFill>
        <p:spPr>
          <a:xfrm>
            <a:off x="380880" y="12193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594440" y="129528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’t go ice skating now. It’s May. It’s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五级英语优质课图片22"/>
          <p:cNvPicPr/>
          <p:nvPr/>
        </p:nvPicPr>
        <p:blipFill>
          <a:blip r:embed="rId4"/>
          <a:stretch/>
        </p:blipFill>
        <p:spPr>
          <a:xfrm>
            <a:off x="304920" y="2133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1645560" y="220968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n we go ice sk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5"/>
          <a:srcRect l="70316" t="28124" r="14065" b="57297"/>
          <a:stretch/>
        </p:blipFill>
        <p:spPr>
          <a:xfrm>
            <a:off x="304920" y="3048120"/>
            <a:ext cx="685800" cy="761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1620720" y="327672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go ice skating in winter holi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五级英语优质课图片22"/>
          <p:cNvPicPr/>
          <p:nvPr/>
        </p:nvPicPr>
        <p:blipFill>
          <a:blip r:embed="rId6"/>
          <a:stretch/>
        </p:blipFill>
        <p:spPr>
          <a:xfrm>
            <a:off x="304920" y="4114800"/>
            <a:ext cx="761760" cy="68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2"/>
          <p:cNvSpPr/>
          <p:nvPr/>
        </p:nvSpPr>
        <p:spPr>
          <a:xfrm>
            <a:off x="1711800" y="419112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winter holida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五级英语优质课图片23"/>
          <p:cNvPicPr/>
          <p:nvPr/>
        </p:nvPicPr>
        <p:blipFill>
          <a:blip r:embed="rId7"/>
          <a:stretch/>
        </p:blipFill>
        <p:spPr>
          <a:xfrm>
            <a:off x="304920" y="5029200"/>
            <a:ext cx="761760" cy="685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1753920" y="502920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in January or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4" descr="五级英语优质课图片22"/>
          <p:cNvPicPr/>
          <p:nvPr/>
        </p:nvPicPr>
        <p:blipFill>
          <a:blip r:embed="rId2"/>
          <a:stretch/>
        </p:blipFill>
        <p:spPr>
          <a:xfrm>
            <a:off x="380880" y="22860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619280" y="30492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fore winter holi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rcRect l="70316" t="28124" r="14065" b="57297"/>
          <a:stretch/>
        </p:blipFill>
        <p:spPr>
          <a:xfrm>
            <a:off x="380880" y="137160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683000" y="152388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, May is after winter hol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五级英语优质课图片22"/>
          <p:cNvPicPr/>
          <p:nvPr/>
        </p:nvPicPr>
        <p:blipFill>
          <a:blip r:embed="rId4"/>
          <a:stretch/>
        </p:blipFill>
        <p:spPr>
          <a:xfrm>
            <a:off x="380880" y="274320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1681560" y="2819520"/>
            <a:ext cx="40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is after winter hol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, let’s go to the 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Fill in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i ,my name is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like winter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冬天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ery mu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cause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can go ________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bing.jpg"/>
          <p:cNvPicPr/>
          <p:nvPr/>
        </p:nvPicPr>
        <p:blipFill>
          <a:blip r:embed="rId1"/>
          <a:srcRect l="0" t="0" r="0" b="5249"/>
          <a:stretch/>
        </p:blipFill>
        <p:spPr>
          <a:xfrm>
            <a:off x="6400800" y="304920"/>
            <a:ext cx="223056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5343840" y="396252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ce sk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inter holiday is in ______o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11.jpg"/>
          <p:cNvPicPr/>
          <p:nvPr/>
        </p:nvPicPr>
        <p:blipFill>
          <a:blip r:embed="rId1"/>
          <a:srcRect l="0" t="0" r="0" b="5769"/>
          <a:stretch/>
        </p:blipFill>
        <p:spPr>
          <a:xfrm>
            <a:off x="4952880" y="0"/>
            <a:ext cx="396252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972600" y="51055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5" descr="bizhi-1440-102850.jpg"/>
          <p:cNvPicPr/>
          <p:nvPr/>
        </p:nvPicPr>
        <p:blipFill>
          <a:blip r:embed="rId2"/>
          <a:stretch/>
        </p:blipFill>
        <p:spPr>
          <a:xfrm>
            <a:off x="228600" y="6858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5954760" y="518148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533520" y="6858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May now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s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s after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9" descr="hj.jpg"/>
          <p:cNvPicPr/>
          <p:nvPr/>
        </p:nvPicPr>
        <p:blipFill>
          <a:blip r:embed="rId2"/>
          <a:stretch/>
        </p:blipFill>
        <p:spPr>
          <a:xfrm>
            <a:off x="4419720" y="1295280"/>
            <a:ext cx="1371600" cy="1262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2590920" y="2209680"/>
            <a:ext cx="7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2066760" y="1828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ter 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3133440" y="3581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ter 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Gogo"/>
          <p:cNvPicPr/>
          <p:nvPr/>
        </p:nvPicPr>
        <p:blipFill>
          <a:blip r:embed="rId1"/>
          <a:stretch/>
        </p:blipFill>
        <p:spPr>
          <a:xfrm>
            <a:off x="5334120" y="228600"/>
            <a:ext cx="4190760" cy="3084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98520" y="32767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go wants to ___________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e can’t. It’s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15880" y="327672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 ice sk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7" descr="2009141752913_2.jpg"/>
          <p:cNvPicPr/>
          <p:nvPr/>
        </p:nvPicPr>
        <p:blipFill>
          <a:blip r:embed="rId2"/>
          <a:stretch/>
        </p:blipFill>
        <p:spPr>
          <a:xfrm>
            <a:off x="5715000" y="4343400"/>
            <a:ext cx="308448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3663000" y="42670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3" name="内容占位符 3" descr="u=4229226191,379613088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3429000" y="220968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can go ice skat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hj.jpg"/>
          <p:cNvPicPr/>
          <p:nvPr/>
        </p:nvPicPr>
        <p:blipFill>
          <a:blip r:embed="rId2"/>
          <a:srcRect l="0" t="0" r="0" b="18513"/>
          <a:stretch/>
        </p:blipFill>
        <p:spPr>
          <a:xfrm rot="1227600">
            <a:off x="6865560" y="3881160"/>
            <a:ext cx="1486080" cy="1114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596040" y="327672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ter hol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15:42Z</dcterms:created>
  <dc:creator/>
  <dc:description/>
  <dc:language>en-US</dc:language>
  <cp:lastModifiedBy/>
  <dcterms:modified xsi:type="dcterms:W3CDTF">2016-12-28T02:16:34Z</dcterms:modified>
  <cp:revision>1</cp:revision>
  <dc:subject/>
  <dc:title/>
</cp:coreProperties>
</file>