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4F22D-F1D1-4962-82F2-C85E987D21E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84762-2880-4DAF-BE26-444966AA7B8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E1C64-66A9-47F0-800A-C240A56FB11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11355-7A19-493E-BA34-779B16A3BB6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E2F42-2386-4368-A254-6654D62DA15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2DB36-FCD7-42E1-8F5D-CDCF3EDE108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53AFB-0DA7-4DDE-A5B8-014855FB41E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D5CBC-5F5F-4BCD-A20A-DCFAB730057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220D8-96B3-44D5-BB58-C5160A0C84B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904BA-123C-4BF8-997C-EFA46C5D93B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92959-B803-48C9-B02E-67497ABBDEA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4E5F-F23E-42CD-802B-B0081FE5801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67151-833C-4325-94B2-31436B22D20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81E23-A519-4933-9AAE-7E9CB52B9B4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E567-A8E4-41D8-952C-C1F080DF4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D705-ACF8-41C5-9C29-09BCD9846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1C7E-280C-4DB7-8CCD-091A5BB14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337F-8921-42AD-B513-80B6EA276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CBC7-24F9-40EE-A9EE-19F7F3831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1A00-C9B1-4040-8270-F21EAC2D1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321A-954A-494B-9D71-A60292A8A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5103-05E0-4255-A394-2818D143C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1200-7D9B-40AA-A9E6-45A66FB31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F79D-9415-4CDF-A2E5-5086CD99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1990-65B0-47AA-9446-A14F8B96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9B32-F7A2-4E30-8BDF-3BBA26D0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D3EB9-90F4-4374-B033-4EEA0F323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.xml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1.xml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1.xml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1.xml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201012291528435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WordArt 6"/>
          <p:cNvSpPr txBox="1"/>
          <p:nvPr/>
        </p:nvSpPr>
        <p:spPr>
          <a:xfrm>
            <a:off x="539640" y="260280"/>
            <a:ext cx="338472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January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2" name="WordArt 7"/>
          <p:cNvSpPr txBox="1"/>
          <p:nvPr/>
        </p:nvSpPr>
        <p:spPr>
          <a:xfrm>
            <a:off x="4932360" y="476280"/>
            <a:ext cx="3922560" cy="152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February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3" name="WordArt 8"/>
          <p:cNvSpPr txBox="1"/>
          <p:nvPr/>
        </p:nvSpPr>
        <p:spPr>
          <a:xfrm>
            <a:off x="611280" y="2421000"/>
            <a:ext cx="3168720" cy="13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March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4" name="WordArt 9"/>
          <p:cNvSpPr txBox="1"/>
          <p:nvPr/>
        </p:nvSpPr>
        <p:spPr>
          <a:xfrm>
            <a:off x="5219640" y="2565360"/>
            <a:ext cx="3168720" cy="123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April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5" name="WordArt 10"/>
          <p:cNvSpPr txBox="1"/>
          <p:nvPr/>
        </p:nvSpPr>
        <p:spPr>
          <a:xfrm>
            <a:off x="5292720" y="4724280"/>
            <a:ext cx="302436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Jun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6" name="WordArt 11"/>
          <p:cNvSpPr txBox="1"/>
          <p:nvPr/>
        </p:nvSpPr>
        <p:spPr>
          <a:xfrm>
            <a:off x="826920" y="4797360"/>
            <a:ext cx="2664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May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11062320486917"/>
          <p:cNvPicPr/>
          <p:nvPr/>
        </p:nvPicPr>
        <p:blipFill>
          <a:blip r:embed="rId1"/>
          <a:srcRect l="0" t="0" r="0" b="312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WordArt 6"/>
          <p:cNvSpPr txBox="1"/>
          <p:nvPr/>
        </p:nvSpPr>
        <p:spPr>
          <a:xfrm>
            <a:off x="900000" y="260280"/>
            <a:ext cx="2016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July</a:t>
            </a:r>
            <a:endParaRPr b="1" lang="en-US" sz="8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34" name="WordArt 7"/>
          <p:cNvSpPr txBox="1"/>
          <p:nvPr/>
        </p:nvSpPr>
        <p:spPr>
          <a:xfrm>
            <a:off x="4500720" y="333360"/>
            <a:ext cx="263844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August</a:t>
            </a:r>
            <a:endParaRPr b="1" lang="en-US" sz="8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35" name="WordArt 8"/>
          <p:cNvSpPr txBox="1"/>
          <p:nvPr/>
        </p:nvSpPr>
        <p:spPr>
          <a:xfrm>
            <a:off x="539640" y="2565360"/>
            <a:ext cx="3527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September</a:t>
            </a:r>
            <a:endParaRPr b="1" lang="en-US" sz="6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36" name="WordArt 9"/>
          <p:cNvSpPr txBox="1"/>
          <p:nvPr/>
        </p:nvSpPr>
        <p:spPr>
          <a:xfrm>
            <a:off x="4788000" y="2349360"/>
            <a:ext cx="2520720" cy="11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October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37" name="WordArt 10"/>
          <p:cNvSpPr txBox="1"/>
          <p:nvPr/>
        </p:nvSpPr>
        <p:spPr>
          <a:xfrm>
            <a:off x="755640" y="4221000"/>
            <a:ext cx="316872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December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38" name="WordArt 11"/>
          <p:cNvSpPr txBox="1"/>
          <p:nvPr/>
        </p:nvSpPr>
        <p:spPr>
          <a:xfrm>
            <a:off x="4788000" y="4149720"/>
            <a:ext cx="32572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November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539640" y="942840"/>
            <a:ext cx="8569440" cy="57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1       2</a:t>
            </a:r>
            <a:r>
              <a:rPr b="1" lang="en-US" sz="4800" spc="-1" strike="noStrike" baseline="30000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        3</a:t>
            </a:r>
            <a:r>
              <a:rPr b="1" lang="en-US" sz="4800" spc="-1" strike="noStrike" baseline="30000">
                <a:solidFill>
                  <a:srgbClr val="ff3300"/>
                </a:solidFill>
                <a:latin typeface="Arial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4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en-US" sz="4800" spc="-1" strike="noStrike" baseline="30000">
                <a:solidFill>
                  <a:srgbClr val="33339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7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8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9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10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12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13 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14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15</a:t>
            </a:r>
            <a:r>
              <a:rPr b="1" lang="en-US" sz="4800" spc="-1" strike="noStrike" baseline="30000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17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18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19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20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21</a:t>
            </a:r>
            <a:r>
              <a:rPr b="1" lang="en-US" sz="4800" spc="-1" strike="noStrike" baseline="30000">
                <a:solidFill>
                  <a:srgbClr val="ff3300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   22</a:t>
            </a:r>
            <a:r>
              <a:rPr b="1" lang="en-US" sz="4800" spc="-1" strike="noStrike" baseline="30000">
                <a:solidFill>
                  <a:srgbClr val="ff3300"/>
                </a:solidFill>
                <a:latin typeface="Arial"/>
              </a:rPr>
              <a:t>     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  23</a:t>
            </a:r>
            <a:r>
              <a:rPr b="1" lang="en-US" sz="4800" spc="-1" strike="noStrike" baseline="30000">
                <a:solidFill>
                  <a:srgbClr val="ff3300"/>
                </a:solidFill>
                <a:latin typeface="Arial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24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25</a:t>
            </a:r>
            <a:r>
              <a:rPr b="1" lang="en-US" sz="4800" spc="-1" strike="noStrike" baseline="30000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27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28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29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30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31</a:t>
            </a:r>
            <a:r>
              <a:rPr b="1" lang="en-US" sz="4800" spc="-1" strike="noStrike" baseline="30000">
                <a:solidFill>
                  <a:srgbClr val="ff3300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2700360" y="216000"/>
            <a:ext cx="3240000" cy="765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基数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1767960" y="997920"/>
            <a:ext cx="164340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华文新魏"/>
              </a:rPr>
              <a:t>基数词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3"/>
          <p:cNvSpPr/>
          <p:nvPr/>
        </p:nvSpPr>
        <p:spPr>
          <a:xfrm>
            <a:off x="4211640" y="2924280"/>
            <a:ext cx="1152360" cy="504720"/>
          </a:xfrm>
          <a:prstGeom prst="rightArrow">
            <a:avLst>
              <a:gd name="adj1" fmla="val 50000"/>
              <a:gd name="adj2" fmla="val 570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6160680" y="1009800"/>
            <a:ext cx="164340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华文新魏"/>
              </a:rPr>
              <a:t>序数词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324000" y="907920"/>
            <a:ext cx="8569080" cy="48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3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4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5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6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7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8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9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1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1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1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1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16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17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18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19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2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2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2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2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2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26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27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28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29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3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179280" y="692280"/>
            <a:ext cx="2592360" cy="93636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179280" y="2781360"/>
            <a:ext cx="2592360" cy="208764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d009b3de9c82d1580a528d5d810a19d8bd3e420e"/>
          <p:cNvPicPr/>
          <p:nvPr/>
        </p:nvPicPr>
        <p:blipFill>
          <a:blip r:embed="rId1"/>
          <a:srcRect l="3322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WordArt 2"/>
          <p:cNvSpPr txBox="1"/>
          <p:nvPr/>
        </p:nvSpPr>
        <p:spPr>
          <a:xfrm>
            <a:off x="1258920" y="907920"/>
            <a:ext cx="756108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Unit 3  Dates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9" name="WordArt 4"/>
          <p:cNvSpPr txBox="1"/>
          <p:nvPr/>
        </p:nvSpPr>
        <p:spPr>
          <a:xfrm rot="418800">
            <a:off x="6372360" y="2997360"/>
            <a:ext cx="1979640" cy="14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56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日期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56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11062320486917"/>
          <p:cNvPicPr/>
          <p:nvPr/>
        </p:nvPicPr>
        <p:blipFill>
          <a:blip r:embed="rId1"/>
          <a:srcRect l="0" t="0" r="0" b="312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WordArt 5"/>
          <p:cNvSpPr txBox="1"/>
          <p:nvPr/>
        </p:nvSpPr>
        <p:spPr>
          <a:xfrm>
            <a:off x="2124000" y="1341360"/>
            <a:ext cx="532764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Vocabulary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u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2009062119452547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home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29440" y="6273720"/>
            <a:ext cx="719280" cy="540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back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7721640" y="6381720"/>
            <a:ext cx="306360" cy="306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Next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675640" y="6362640"/>
            <a:ext cx="306360" cy="30636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7"/>
          <p:cNvSpPr/>
          <p:nvPr/>
        </p:nvSpPr>
        <p:spPr>
          <a:xfrm>
            <a:off x="0" y="1003320"/>
            <a:ext cx="9144000" cy="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611280" y="-200160"/>
            <a:ext cx="7994520" cy="30200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5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Ju</a:t>
            </a:r>
            <a:r>
              <a:rPr b="1" lang="en-US" sz="9600" spc="-1" strike="noStrike">
                <a:solidFill>
                  <a:srgbClr val="ff33cc"/>
                </a:solidFill>
                <a:latin typeface="Times New Roman"/>
              </a:rPr>
              <a:t>l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-33480" y="147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0"/>
          <p:cNvSpPr/>
          <p:nvPr/>
        </p:nvSpPr>
        <p:spPr>
          <a:xfrm>
            <a:off x="-33480" y="1474920"/>
            <a:ext cx="9144000" cy="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1"/>
          <p:cNvSpPr/>
          <p:nvPr/>
        </p:nvSpPr>
        <p:spPr>
          <a:xfrm>
            <a:off x="-33480" y="538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2"/>
          <p:cNvSpPr/>
          <p:nvPr/>
        </p:nvSpPr>
        <p:spPr>
          <a:xfrm>
            <a:off x="0" y="1474920"/>
            <a:ext cx="9144000" cy="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3"/>
          <p:cNvSpPr/>
          <p:nvPr/>
        </p:nvSpPr>
        <p:spPr>
          <a:xfrm>
            <a:off x="0" y="1474920"/>
            <a:ext cx="9144000" cy="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4"/>
          <p:cNvSpPr/>
          <p:nvPr/>
        </p:nvSpPr>
        <p:spPr>
          <a:xfrm>
            <a:off x="0" y="1474920"/>
            <a:ext cx="9144000" cy="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5"/>
          <p:cNvSpPr/>
          <p:nvPr/>
        </p:nvSpPr>
        <p:spPr>
          <a:xfrm>
            <a:off x="0" y="1474920"/>
            <a:ext cx="9144000" cy="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84360" y="2257560"/>
          <a:ext cx="7991280" cy="3908160"/>
        </p:xfrm>
        <a:graphic>
          <a:graphicData uri="http://schemas.openxmlformats.org/drawingml/2006/table">
            <a:tbl>
              <a:tblPr/>
              <a:tblGrid>
                <a:gridCol w="1174680"/>
                <a:gridCol w="1114200"/>
                <a:gridCol w="1114560"/>
                <a:gridCol w="1112760"/>
                <a:gridCol w="1114560"/>
                <a:gridCol w="1114560"/>
                <a:gridCol w="1245960"/>
              </a:tblGrid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un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n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e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d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u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i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at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64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4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5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11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64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12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18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19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25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64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26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p:transition>
    <p:circl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gu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OOOPIC_meilifangcheng_20090303791e5418f2a90a7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home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29440" y="6273720"/>
            <a:ext cx="719280" cy="540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back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7721640" y="6381720"/>
            <a:ext cx="306360" cy="306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Next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675640" y="6362640"/>
            <a:ext cx="306360" cy="30636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7"/>
          <p:cNvSpPr/>
          <p:nvPr/>
        </p:nvSpPr>
        <p:spPr>
          <a:xfrm>
            <a:off x="684360" y="-128880"/>
            <a:ext cx="7994520" cy="30200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5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Au</a:t>
            </a:r>
            <a:r>
              <a:rPr b="1" lang="en-US" sz="9600" spc="-1" strike="noStrike">
                <a:solidFill>
                  <a:srgbClr val="ff33cc"/>
                </a:solidFill>
                <a:latin typeface="Times New Roman"/>
              </a:rPr>
              <a:t>gus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8"/>
          <p:cNvSpPr/>
          <p:nvPr/>
        </p:nvSpPr>
        <p:spPr>
          <a:xfrm>
            <a:off x="0" y="1474920"/>
            <a:ext cx="9144000" cy="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684360" y="2257560"/>
          <a:ext cx="7991280" cy="3908160"/>
        </p:xfrm>
        <a:graphic>
          <a:graphicData uri="http://schemas.openxmlformats.org/drawingml/2006/table">
            <a:tbl>
              <a:tblPr/>
              <a:tblGrid>
                <a:gridCol w="1174680"/>
                <a:gridCol w="1112760"/>
                <a:gridCol w="1114560"/>
                <a:gridCol w="1114200"/>
                <a:gridCol w="1112760"/>
                <a:gridCol w="1114560"/>
                <a:gridCol w="1247760"/>
              </a:tblGrid>
              <a:tr h="695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u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i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a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p:transition>
    <p:circl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pt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7b0fc126403e7620908f9d5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home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29440" y="6273720"/>
            <a:ext cx="719280" cy="540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back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7721640" y="6381720"/>
            <a:ext cx="306360" cy="306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Next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675640" y="6362640"/>
            <a:ext cx="306360" cy="3063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7"/>
          <p:cNvSpPr/>
          <p:nvPr/>
        </p:nvSpPr>
        <p:spPr>
          <a:xfrm>
            <a:off x="684360" y="-35280"/>
            <a:ext cx="7994520" cy="30200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5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Sep</a:t>
            </a:r>
            <a:r>
              <a:rPr b="1" lang="en-US" sz="9600" spc="-1" strike="noStrike">
                <a:solidFill>
                  <a:srgbClr val="ff33cc"/>
                </a:solidFill>
                <a:latin typeface="Times New Roman"/>
              </a:rPr>
              <a:t>tem</a:t>
            </a:r>
            <a:r>
              <a:rPr b="1" lang="en-US" sz="9600" spc="-1" strike="noStrike">
                <a:solidFill>
                  <a:srgbClr val="006600"/>
                </a:solidFill>
                <a:latin typeface="Times New Roman"/>
              </a:rPr>
              <a:t>be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0" y="1474920"/>
            <a:ext cx="9144000" cy="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0" y="1474920"/>
            <a:ext cx="9144000" cy="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84360" y="2201760"/>
          <a:ext cx="7991280" cy="3908520"/>
        </p:xfrm>
        <a:graphic>
          <a:graphicData uri="http://schemas.openxmlformats.org/drawingml/2006/table">
            <a:tbl>
              <a:tblPr/>
              <a:tblGrid>
                <a:gridCol w="885600"/>
                <a:gridCol w="1162080"/>
                <a:gridCol w="1160640"/>
                <a:gridCol w="1160280"/>
                <a:gridCol w="1162080"/>
                <a:gridCol w="1160640"/>
                <a:gridCol w="1299960"/>
              </a:tblGrid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un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n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e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d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u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i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at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5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fff"/>
                    </a:solidFill>
                  </a:tcPr>
                </a:tc>
              </a:tr>
              <a:tr h="641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5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5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0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ff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5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1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5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7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fff"/>
                    </a:solidFill>
                  </a:tcPr>
                </a:tc>
              </a:tr>
              <a:tr h="641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5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8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5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4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ff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5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5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fff"/>
                    </a:solidFill>
                  </a:tcPr>
                </a:tc>
              </a:tr>
            </a:tbl>
          </a:graphicData>
        </a:graphic>
      </p:graphicFrame>
    </p:spTree>
  </p:cSld>
  <p:transition>
    <p:circl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cto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200909300051176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home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29440" y="6273720"/>
            <a:ext cx="719280" cy="540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back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7721640" y="6381720"/>
            <a:ext cx="306360" cy="306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Next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675640" y="6362640"/>
            <a:ext cx="306360" cy="3063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7"/>
          <p:cNvSpPr/>
          <p:nvPr/>
        </p:nvSpPr>
        <p:spPr>
          <a:xfrm>
            <a:off x="684360" y="-55800"/>
            <a:ext cx="7994520" cy="3020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5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Oc</a:t>
            </a:r>
            <a:r>
              <a:rPr b="1" lang="en-US" sz="9600" spc="-1" strike="noStrike">
                <a:solidFill>
                  <a:srgbClr val="ff33cc"/>
                </a:solidFill>
                <a:latin typeface="Times New Roman"/>
              </a:rPr>
              <a:t>to</a:t>
            </a:r>
            <a:r>
              <a:rPr b="1" lang="en-US" sz="9600" spc="-1" strike="noStrike">
                <a:solidFill>
                  <a:srgbClr val="006600"/>
                </a:solidFill>
                <a:latin typeface="Times New Roman"/>
              </a:rPr>
              <a:t>be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0" y="1474920"/>
            <a:ext cx="9144000" cy="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0" y="1474920"/>
            <a:ext cx="9144000" cy="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0" y="1201680"/>
            <a:ext cx="9144000" cy="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84360" y="2257560"/>
          <a:ext cx="7991280" cy="3908160"/>
        </p:xfrm>
        <a:graphic>
          <a:graphicData uri="http://schemas.openxmlformats.org/drawingml/2006/table">
            <a:tbl>
              <a:tblPr/>
              <a:tblGrid>
                <a:gridCol w="1198440"/>
                <a:gridCol w="1236600"/>
                <a:gridCol w="1096920"/>
                <a:gridCol w="1166760"/>
                <a:gridCol w="1167120"/>
                <a:gridCol w="1096920"/>
                <a:gridCol w="1028520"/>
              </a:tblGrid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un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n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e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d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u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i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at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64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3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ff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4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10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fff"/>
                    </a:solidFill>
                  </a:tcPr>
                </a:tc>
              </a:tr>
              <a:tr h="64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11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17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ff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18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24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fff"/>
                    </a:solidFill>
                  </a:tcPr>
                </a:tc>
              </a:tr>
              <a:tr h="64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25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31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fff"/>
                    </a:solidFill>
                  </a:tcPr>
                </a:tc>
              </a:tr>
            </a:tbl>
          </a:graphicData>
        </a:graphic>
      </p:graphicFrame>
    </p:spTree>
  </p:cSld>
  <p:transition>
    <p:circl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4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4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4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4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4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v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July-December.wav" descr=""/>
          <p:cNvPicPr/>
          <p:nvPr/>
        </p:nvPicPr>
        <p:blipFill>
          <a:blip r:embed="rId1"/>
          <a:stretch/>
        </p:blipFill>
        <p:spPr>
          <a:xfrm>
            <a:off x="2324160" y="37101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0130000034157312346012485085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5"/>
          <p:cNvSpPr/>
          <p:nvPr/>
        </p:nvSpPr>
        <p:spPr>
          <a:xfrm>
            <a:off x="684360" y="-322560"/>
            <a:ext cx="7994520" cy="3020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5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1" lang="en-US" sz="9600" spc="-1" strike="noStrike">
                <a:solidFill>
                  <a:srgbClr val="ff33cc"/>
                </a:solidFill>
                <a:latin typeface="Times New Roman"/>
              </a:rPr>
              <a:t>vem</a:t>
            </a:r>
            <a:r>
              <a:rPr b="1" lang="en-US" sz="9600" spc="-1" strike="noStrike">
                <a:solidFill>
                  <a:srgbClr val="006600"/>
                </a:solidFill>
                <a:latin typeface="Times New Roman"/>
              </a:rPr>
              <a:t>be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0" y="1474920"/>
            <a:ext cx="9144000" cy="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0" y="1474920"/>
            <a:ext cx="9144000" cy="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0" y="1201680"/>
            <a:ext cx="9144000" cy="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0" y="1474920"/>
            <a:ext cx="9144000" cy="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71400" y="2001960"/>
          <a:ext cx="8004240" cy="3911400"/>
        </p:xfrm>
        <a:graphic>
          <a:graphicData uri="http://schemas.openxmlformats.org/drawingml/2006/table">
            <a:tbl>
              <a:tblPr/>
              <a:tblGrid>
                <a:gridCol w="1163880"/>
                <a:gridCol w="1081080"/>
                <a:gridCol w="1150920"/>
                <a:gridCol w="1152360"/>
                <a:gridCol w="1152720"/>
                <a:gridCol w="1152360"/>
                <a:gridCol w="1150920"/>
              </a:tblGrid>
              <a:tr h="704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u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i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a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64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1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7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8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14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1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15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21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22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28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1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29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15" name="Text Box 68"/>
          <p:cNvSpPr/>
          <p:nvPr/>
        </p:nvSpPr>
        <p:spPr>
          <a:xfrm>
            <a:off x="687600" y="6048360"/>
            <a:ext cx="7270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Mr. Sun Yat-sen’s birthday is November 12th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9" descr="home"/>
          <p:cNvPicPr/>
          <p:nvPr/>
        </p:nvPicPr>
        <p:blipFill>
          <a:blip r:embed="rId3"/>
          <a:stretch/>
        </p:blipFill>
        <p:spPr>
          <a:xfrm>
            <a:off x="8029440" y="6273720"/>
            <a:ext cx="719280" cy="540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0" descr="back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7721640" y="6381720"/>
            <a:ext cx="306360" cy="306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1" descr="Next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675640" y="6362640"/>
            <a:ext cx="306360" cy="3063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7042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c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200611100351141387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home"/>
          <p:cNvPicPr/>
          <p:nvPr/>
        </p:nvPicPr>
        <p:blipFill>
          <a:blip r:embed="rId2"/>
          <a:stretch/>
        </p:blipFill>
        <p:spPr>
          <a:xfrm>
            <a:off x="8029440" y="6273720"/>
            <a:ext cx="719280" cy="540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back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721640" y="6381720"/>
            <a:ext cx="306360" cy="306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Next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675640" y="6362640"/>
            <a:ext cx="306360" cy="3063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7"/>
          <p:cNvSpPr/>
          <p:nvPr/>
        </p:nvSpPr>
        <p:spPr>
          <a:xfrm>
            <a:off x="684360" y="-836640"/>
            <a:ext cx="7994520" cy="4483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5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9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1" lang="en-US" sz="9600" spc="-1" strike="noStrike">
                <a:solidFill>
                  <a:srgbClr val="ff33cc"/>
                </a:solidFill>
                <a:latin typeface="Times New Roman"/>
              </a:rPr>
              <a:t>cem</a:t>
            </a:r>
            <a:r>
              <a:rPr b="1" lang="en-US" sz="9600" spc="-1" strike="noStrike">
                <a:solidFill>
                  <a:srgbClr val="006600"/>
                </a:solidFill>
                <a:latin typeface="Times New Roman"/>
              </a:rPr>
              <a:t>be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0" y="1474920"/>
            <a:ext cx="9144000" cy="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0" y="1474920"/>
            <a:ext cx="9144000" cy="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0" y="1201680"/>
            <a:ext cx="9144000" cy="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0" y="1474920"/>
            <a:ext cx="9144000" cy="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71400" y="2219400"/>
          <a:ext cx="8004240" cy="3946320"/>
        </p:xfrm>
        <a:graphic>
          <a:graphicData uri="http://schemas.openxmlformats.org/drawingml/2006/table">
            <a:tbl>
              <a:tblPr/>
              <a:tblGrid>
                <a:gridCol w="1163880"/>
                <a:gridCol w="1081080"/>
                <a:gridCol w="1150920"/>
                <a:gridCol w="1152360"/>
                <a:gridCol w="1152720"/>
                <a:gridCol w="1152360"/>
                <a:gridCol w="1150920"/>
              </a:tblGrid>
              <a:tr h="739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un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n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e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d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u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i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5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Sat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64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5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6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12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641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13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19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20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26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641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27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p:transition>
    <p:circl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8T02:18:38Z</dcterms:created>
  <dc:creator/>
  <dc:description/>
  <dc:language>en-US</dc:language>
  <cp:lastModifiedBy/>
  <dcterms:modified xsi:type="dcterms:W3CDTF">2016-12-28T02:19:18Z</dcterms:modified>
  <cp:revision>1</cp:revision>
  <dc:subject/>
  <dc:title/>
</cp:coreProperties>
</file>