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36A8C-B6B0-4F21-B617-8F77A855EB9E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7C4B6-4680-43A1-8D3F-6CBA15CA77DB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45632-E4E9-4F2A-BBE1-60A638186845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E6B44-3CD3-4319-8B79-3D70390EBB12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36B72-3EB8-4AA2-B568-B4A76CF03AEE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F8B43-9F99-451E-88FF-EF98EE8CB046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F07B5-E182-4AB9-8A9B-1155DA9B37E9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15701-ACDD-49F9-8169-3A7970E7F4F4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AB597-01C6-4DB7-9889-69B3166E6580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B0703-A65E-450A-B145-3D9FA6A9C0E6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CFBA6-4645-4CA2-B20D-6A4524807740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E5565-4800-496B-9A85-0B478891A397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ACFAC-8B59-4D34-9D42-D98D78EDA9DA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D4B27-027F-40AC-894E-E53F5E46BC07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BEF25-6877-4465-AA52-002580854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5A2A8-03F8-45EC-B04B-3AEC0C8F1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BAD4F-0A76-4A83-8956-D146D4F13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C0B8C-814A-440A-BB65-3D0C88443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85C21-7DEF-42CD-A7E1-D47AFE4DE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77E34-8D2B-4111-8C82-753946FE9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0D9F5-B1CD-4761-B631-FA180E0DF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C2C62-C489-42AA-93A7-18E0DA597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9FF42-084B-415C-BC48-3AE6F11EC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F350E-F34F-4D3D-A029-001E1989C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7202C-9D5D-4020-AC7A-679F70AEF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2AC50-9E07-481D-B7E5-AE5F96285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B7852-5A05-4B57-89F7-E230758005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2"/>
          <p:cNvSpPr txBox="1"/>
          <p:nvPr/>
        </p:nvSpPr>
        <p:spPr>
          <a:xfrm>
            <a:off x="1258920" y="907920"/>
            <a:ext cx="756108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Comic Sans MS"/>
              </a:rPr>
              <a:t>Unit 3  Dates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61960" y="214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u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6"/>
          <p:cNvSpPr/>
          <p:nvPr/>
        </p:nvSpPr>
        <p:spPr>
          <a:xfrm>
            <a:off x="104760" y="2874960"/>
            <a:ext cx="9144000" cy="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7"/>
          <p:cNvSpPr/>
          <p:nvPr/>
        </p:nvSpPr>
        <p:spPr>
          <a:xfrm>
            <a:off x="2300400" y="3127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8"/>
          <p:cNvSpPr/>
          <p:nvPr/>
        </p:nvSpPr>
        <p:spPr>
          <a:xfrm>
            <a:off x="71280" y="3346560"/>
            <a:ext cx="9144000" cy="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0"/>
          <p:cNvSpPr/>
          <p:nvPr/>
        </p:nvSpPr>
        <p:spPr>
          <a:xfrm>
            <a:off x="104760" y="3346560"/>
            <a:ext cx="9144000" cy="3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1"/>
          <p:cNvSpPr/>
          <p:nvPr/>
        </p:nvSpPr>
        <p:spPr>
          <a:xfrm>
            <a:off x="104760" y="3346560"/>
            <a:ext cx="9144000" cy="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2"/>
          <p:cNvSpPr/>
          <p:nvPr/>
        </p:nvSpPr>
        <p:spPr>
          <a:xfrm>
            <a:off x="104760" y="3346560"/>
            <a:ext cx="9144000" cy="3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3"/>
          <p:cNvSpPr/>
          <p:nvPr/>
        </p:nvSpPr>
        <p:spPr>
          <a:xfrm>
            <a:off x="104760" y="3346560"/>
            <a:ext cx="9144000" cy="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Oval 14"/>
          <p:cNvSpPr/>
          <p:nvPr/>
        </p:nvSpPr>
        <p:spPr>
          <a:xfrm>
            <a:off x="3524400" y="3645000"/>
            <a:ext cx="792000" cy="647640"/>
          </a:xfrm>
          <a:prstGeom prst="ellipse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5"/>
          <p:cNvSpPr/>
          <p:nvPr/>
        </p:nvSpPr>
        <p:spPr>
          <a:xfrm>
            <a:off x="1004760" y="2060640"/>
            <a:ext cx="619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=Today is Octorber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31s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900000" y="1341360"/>
          <a:ext cx="7413840" cy="3678480"/>
        </p:xfrm>
        <a:graphic>
          <a:graphicData uri="http://schemas.openxmlformats.org/drawingml/2006/table">
            <a:tbl>
              <a:tblPr/>
              <a:tblGrid>
                <a:gridCol w="1087560"/>
                <a:gridCol w="1033560"/>
                <a:gridCol w="1033200"/>
                <a:gridCol w="1019160"/>
                <a:gridCol w="1081080"/>
                <a:gridCol w="1000440"/>
                <a:gridCol w="1158840"/>
              </a:tblGrid>
              <a:tr h="620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Sun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n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ue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ed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u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i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Sat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</a:tr>
              <a:tr h="611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8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8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8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8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8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4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611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5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9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611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2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8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611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9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5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611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6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1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101" name="Oval 78"/>
          <p:cNvSpPr/>
          <p:nvPr/>
        </p:nvSpPr>
        <p:spPr>
          <a:xfrm>
            <a:off x="7308720" y="3789360"/>
            <a:ext cx="792360" cy="647640"/>
          </a:xfrm>
          <a:prstGeom prst="ellipse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79"/>
          <p:cNvSpPr/>
          <p:nvPr/>
        </p:nvSpPr>
        <p:spPr>
          <a:xfrm>
            <a:off x="2843280" y="4508640"/>
            <a:ext cx="5616360" cy="792000"/>
          </a:xfrm>
          <a:prstGeom prst="wedgeRoundRectCallout">
            <a:avLst>
              <a:gd name="adj1" fmla="val -32675"/>
              <a:gd name="adj2" fmla="val -15981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hat’s the date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76"/>
          <p:cNvSpPr/>
          <p:nvPr/>
        </p:nvSpPr>
        <p:spPr>
          <a:xfrm>
            <a:off x="2771640" y="5445000"/>
            <a:ext cx="5616720" cy="1150920"/>
          </a:xfrm>
          <a:prstGeom prst="rect">
            <a:avLst/>
          </a:prstGeom>
          <a:solidFill>
            <a:srgbClr val="ffff99">
              <a:alpha val="9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t’s October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25th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7"/>
          <p:cNvSpPr/>
          <p:nvPr/>
        </p:nvSpPr>
        <p:spPr>
          <a:xfrm>
            <a:off x="900000" y="-96840"/>
            <a:ext cx="7417080" cy="1739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月    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Oc</a:t>
            </a:r>
            <a:r>
              <a:rPr b="1" lang="en-US" sz="5400" spc="-1" strike="noStrike">
                <a:solidFill>
                  <a:srgbClr val="ff33cc"/>
                </a:solidFill>
                <a:latin typeface="Times New Roman"/>
              </a:rPr>
              <a:t>to</a:t>
            </a:r>
            <a:r>
              <a:rPr b="1" lang="en-US" sz="5400" spc="-1" strike="noStrike">
                <a:solidFill>
                  <a:srgbClr val="006600"/>
                </a:solidFill>
                <a:latin typeface="Times New Roman"/>
              </a:rPr>
              <a:t>b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77" descr="grl"/>
          <p:cNvPicPr/>
          <p:nvPr/>
        </p:nvPicPr>
        <p:blipFill>
          <a:blip r:embed="rId1"/>
          <a:stretch/>
        </p:blipFill>
        <p:spPr>
          <a:xfrm>
            <a:off x="-468360" y="1341360"/>
            <a:ext cx="3600360" cy="576108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4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4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4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4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61960" y="214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u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6"/>
          <p:cNvSpPr/>
          <p:nvPr/>
        </p:nvSpPr>
        <p:spPr>
          <a:xfrm>
            <a:off x="104760" y="2874960"/>
            <a:ext cx="9144000" cy="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7"/>
          <p:cNvSpPr/>
          <p:nvPr/>
        </p:nvSpPr>
        <p:spPr>
          <a:xfrm>
            <a:off x="2300400" y="3127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8"/>
          <p:cNvSpPr/>
          <p:nvPr/>
        </p:nvSpPr>
        <p:spPr>
          <a:xfrm>
            <a:off x="71280" y="3346560"/>
            <a:ext cx="9144000" cy="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0"/>
          <p:cNvSpPr/>
          <p:nvPr/>
        </p:nvSpPr>
        <p:spPr>
          <a:xfrm>
            <a:off x="104760" y="3346560"/>
            <a:ext cx="9144000" cy="3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1"/>
          <p:cNvSpPr/>
          <p:nvPr/>
        </p:nvSpPr>
        <p:spPr>
          <a:xfrm>
            <a:off x="104760" y="3346560"/>
            <a:ext cx="9144000" cy="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2"/>
          <p:cNvSpPr/>
          <p:nvPr/>
        </p:nvSpPr>
        <p:spPr>
          <a:xfrm>
            <a:off x="104760" y="3346560"/>
            <a:ext cx="9144000" cy="3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3"/>
          <p:cNvSpPr/>
          <p:nvPr/>
        </p:nvSpPr>
        <p:spPr>
          <a:xfrm>
            <a:off x="104760" y="3346560"/>
            <a:ext cx="9144000" cy="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Oval 14"/>
          <p:cNvSpPr/>
          <p:nvPr/>
        </p:nvSpPr>
        <p:spPr>
          <a:xfrm>
            <a:off x="3524400" y="3645000"/>
            <a:ext cx="792000" cy="647640"/>
          </a:xfrm>
          <a:prstGeom prst="ellipse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5"/>
          <p:cNvSpPr/>
          <p:nvPr/>
        </p:nvSpPr>
        <p:spPr>
          <a:xfrm>
            <a:off x="1004760" y="2060640"/>
            <a:ext cx="619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=Today is Octorber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31s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16"/>
          <p:cNvSpPr/>
          <p:nvPr/>
        </p:nvSpPr>
        <p:spPr>
          <a:xfrm>
            <a:off x="536400" y="388080"/>
            <a:ext cx="7417080" cy="82512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月    </a:t>
            </a:r>
            <a:r>
              <a:rPr b="1" lang="en-US" sz="4800" spc="-1" strike="noStrike">
                <a:solidFill>
                  <a:srgbClr val="ff33cc"/>
                </a:solidFill>
                <a:latin typeface="Times New Roman"/>
              </a:rPr>
              <a:t>J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un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536400" y="1197000"/>
          <a:ext cx="7417080" cy="3657600"/>
        </p:xfrm>
        <a:graphic>
          <a:graphicData uri="http://schemas.openxmlformats.org/drawingml/2006/table">
            <a:tbl>
              <a:tblPr/>
              <a:tblGrid>
                <a:gridCol w="1090800"/>
                <a:gridCol w="1033560"/>
                <a:gridCol w="1033200"/>
                <a:gridCol w="1019160"/>
                <a:gridCol w="1081080"/>
                <a:gridCol w="1000440"/>
                <a:gridCol w="1158840"/>
              </a:tblGrid>
              <a:tr h="611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Sun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n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ue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ed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u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i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Sat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</a:tr>
              <a:tr h="611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8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8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8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8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8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7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611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8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4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611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5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1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611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2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8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611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9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118" name="Rectangle 76"/>
          <p:cNvSpPr/>
          <p:nvPr/>
        </p:nvSpPr>
        <p:spPr>
          <a:xfrm>
            <a:off x="3780000" y="1916280"/>
            <a:ext cx="4897440" cy="1079280"/>
          </a:xfrm>
          <a:prstGeom prst="rect">
            <a:avLst/>
          </a:prstGeom>
          <a:solidFill>
            <a:srgbClr val="ffff99">
              <a:alpha val="9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t’s  June 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20th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77" descr="grl"/>
          <p:cNvPicPr/>
          <p:nvPr/>
        </p:nvPicPr>
        <p:blipFill>
          <a:blip r:embed="rId1"/>
          <a:stretch/>
        </p:blipFill>
        <p:spPr>
          <a:xfrm>
            <a:off x="324000" y="1844640"/>
            <a:ext cx="3438360" cy="5329440"/>
          </a:xfrm>
          <a:prstGeom prst="rect">
            <a:avLst/>
          </a:prstGeom>
          <a:ln w="0">
            <a:noFill/>
          </a:ln>
        </p:spPr>
      </p:pic>
      <p:sp>
        <p:nvSpPr>
          <p:cNvPr id="120" name="Oval 78"/>
          <p:cNvSpPr/>
          <p:nvPr/>
        </p:nvSpPr>
        <p:spPr>
          <a:xfrm>
            <a:off x="5940360" y="2997360"/>
            <a:ext cx="792360" cy="647640"/>
          </a:xfrm>
          <a:prstGeom prst="ellipse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79"/>
          <p:cNvSpPr/>
          <p:nvPr/>
        </p:nvSpPr>
        <p:spPr>
          <a:xfrm>
            <a:off x="1258920" y="5300640"/>
            <a:ext cx="7200720" cy="792360"/>
          </a:xfrm>
          <a:prstGeom prst="wedgeRoundRectCallout">
            <a:avLst>
              <a:gd name="adj1" fmla="val -7185"/>
              <a:gd name="adj2" fmla="val -18186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hen’s  your  birthday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611280" y="1268280"/>
            <a:ext cx="7993080" cy="4343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What’s the </a:t>
            </a:r>
            <a:r>
              <a:rPr b="1" lang="en-US" sz="5400" spc="-1" strike="noStrike">
                <a:solidFill>
                  <a:srgbClr val="333399"/>
                </a:solidFill>
                <a:latin typeface="Arial"/>
              </a:rPr>
              <a:t>date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 today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It’s ……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Oval 3"/>
          <p:cNvSpPr/>
          <p:nvPr/>
        </p:nvSpPr>
        <p:spPr>
          <a:xfrm>
            <a:off x="4211640" y="2349360"/>
            <a:ext cx="1655640" cy="1150920"/>
          </a:xfrm>
          <a:prstGeom prst="ellipse">
            <a:avLst/>
          </a:prstGeom>
          <a:noFill/>
          <a:ln w="63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4"/>
          <p:cNvSpPr/>
          <p:nvPr/>
        </p:nvSpPr>
        <p:spPr>
          <a:xfrm>
            <a:off x="4284720" y="1525680"/>
            <a:ext cx="194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99"/>
                </a:solidFill>
                <a:latin typeface="Arial"/>
                <a:ea typeface="华文新魏"/>
              </a:rPr>
              <a:t>日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5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17" descr="12S21FQW0-1I12"/>
          <p:cNvPicPr/>
          <p:nvPr/>
        </p:nvPicPr>
        <p:blipFill>
          <a:blip r:embed="rId1"/>
          <a:srcRect l="0" t="0" r="0" b="6011"/>
          <a:stretch/>
        </p:blipFill>
        <p:spPr>
          <a:xfrm>
            <a:off x="4932360" y="1125360"/>
            <a:ext cx="3745080" cy="22323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6" descr="u=603581536,87019445&amp;fm=23&amp;gp=0"/>
          <p:cNvPicPr/>
          <p:nvPr/>
        </p:nvPicPr>
        <p:blipFill>
          <a:blip r:embed="rId2"/>
          <a:srcRect l="0" t="0" r="0" b="5115"/>
          <a:stretch/>
        </p:blipFill>
        <p:spPr>
          <a:xfrm>
            <a:off x="4859280" y="3789360"/>
            <a:ext cx="3772080" cy="27115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5" descr="u=365338840,3407324068&amp;fm=23&amp;gp=0"/>
          <p:cNvPicPr/>
          <p:nvPr/>
        </p:nvPicPr>
        <p:blipFill>
          <a:blip r:embed="rId3"/>
          <a:srcRect l="0" t="0" r="0" b="5115"/>
          <a:stretch/>
        </p:blipFill>
        <p:spPr>
          <a:xfrm>
            <a:off x="250920" y="3789360"/>
            <a:ext cx="3960720" cy="27115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2" descr="xin_31309052910125932899751"/>
          <p:cNvPicPr/>
          <p:nvPr/>
        </p:nvPicPr>
        <p:blipFill>
          <a:blip r:embed="rId4"/>
          <a:stretch/>
        </p:blipFill>
        <p:spPr>
          <a:xfrm>
            <a:off x="324000" y="1143000"/>
            <a:ext cx="3887640" cy="254016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6"/>
          <p:cNvSpPr/>
          <p:nvPr/>
        </p:nvSpPr>
        <p:spPr>
          <a:xfrm>
            <a:off x="324000" y="3075120"/>
            <a:ext cx="3887640" cy="6426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隶书"/>
              </a:rPr>
              <a:t>It’s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"/>
                <a:ea typeface="隶书"/>
              </a:rPr>
              <a:t>October 1st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隶书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4932360" y="2637000"/>
            <a:ext cx="3727440" cy="119124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隶书"/>
              </a:rPr>
              <a:t>It’s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"/>
                <a:ea typeface="隶书"/>
              </a:rPr>
              <a:t>  September 10tht 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隶书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8"/>
          <p:cNvSpPr/>
          <p:nvPr/>
        </p:nvSpPr>
        <p:spPr>
          <a:xfrm>
            <a:off x="468360" y="5943600"/>
            <a:ext cx="3672000" cy="6426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隶书"/>
              </a:rPr>
              <a:t>It’s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"/>
                <a:ea typeface="隶书"/>
              </a:rPr>
              <a:t>   June 1st 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隶书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9"/>
          <p:cNvSpPr/>
          <p:nvPr/>
        </p:nvSpPr>
        <p:spPr>
          <a:xfrm>
            <a:off x="4876920" y="5805360"/>
            <a:ext cx="3914640" cy="6426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隶书"/>
              </a:rPr>
              <a:t>It’s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"/>
                <a:ea typeface="隶书"/>
              </a:rPr>
              <a:t>  May 1st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隶书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0"/>
          <p:cNvSpPr/>
          <p:nvPr/>
        </p:nvSpPr>
        <p:spPr>
          <a:xfrm>
            <a:off x="2050920" y="260280"/>
            <a:ext cx="4608720" cy="70344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99"/>
                </a:solidFill>
                <a:latin typeface="Arial"/>
                <a:ea typeface="隶书"/>
              </a:rPr>
              <a:t>What’s the dat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1"/>
          <p:cNvSpPr/>
          <p:nvPr/>
        </p:nvSpPr>
        <p:spPr>
          <a:xfrm>
            <a:off x="6659640" y="1125360"/>
            <a:ext cx="1871640" cy="5814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隶书"/>
              </a:rPr>
              <a:t>教师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2"/>
          <p:cNvSpPr/>
          <p:nvPr/>
        </p:nvSpPr>
        <p:spPr>
          <a:xfrm>
            <a:off x="6948360" y="3933720"/>
            <a:ext cx="1828800" cy="5814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隶书"/>
              </a:rPr>
              <a:t>劳动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3"/>
          <p:cNvSpPr/>
          <p:nvPr/>
        </p:nvSpPr>
        <p:spPr>
          <a:xfrm>
            <a:off x="324000" y="1125360"/>
            <a:ext cx="1871640" cy="5814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隶书"/>
              </a:rPr>
              <a:t>国庆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468360" y="3916440"/>
            <a:ext cx="1871640" cy="5814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隶书"/>
              </a:rPr>
              <a:t>儿童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385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2" dur="385" fill="hold"/>
                                        <p:tgtEl>
                                          <p:spTgt spid="12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7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74" dur="385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7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76" dur="385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7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385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1" dur="385" fill="hold"/>
                                        <p:tgtEl>
                                          <p:spTgt spid="13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8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83" dur="385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8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85" dur="385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8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385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0" dur="385" fill="hold"/>
                                        <p:tgtEl>
                                          <p:spTgt spid="13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0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02" dur="385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0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04" dur="385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0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0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385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4" dur="385" fill="hold"/>
                                        <p:tgtEl>
                                          <p:spTgt spid="13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1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16" dur="385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1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18" dur="385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1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385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1" dur="385" fill="hold"/>
                                        <p:tgtEl>
                                          <p:spTgt spid="13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3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33" dur="385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3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35" dur="385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3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1" dur="10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2" dur="10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3" dur="10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"/>
          <p:cNvSpPr/>
          <p:nvPr/>
        </p:nvSpPr>
        <p:spPr>
          <a:xfrm>
            <a:off x="1549440" y="1981080"/>
            <a:ext cx="6627240" cy="41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，基数词表示</a:t>
            </a: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_____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，序数词表示</a:t>
            </a: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_____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表示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日期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，用</a:t>
            </a: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_______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WordArt 3"/>
          <p:cNvSpPr txBox="1"/>
          <p:nvPr/>
        </p:nvSpPr>
        <p:spPr>
          <a:xfrm>
            <a:off x="1523880" y="533520"/>
            <a:ext cx="6172200" cy="123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Do you know?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5943600" y="2057400"/>
            <a:ext cx="2438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数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5943600" y="3276720"/>
            <a:ext cx="2438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顺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5562720" y="4876920"/>
            <a:ext cx="2895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序数词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1366920" y="44280"/>
            <a:ext cx="796320" cy="67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omic Sans MS"/>
              </a:rPr>
              <a:t>2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omic Sans MS"/>
              </a:rPr>
              <a:t>5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omic Sans MS"/>
              </a:rPr>
              <a:t>6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omic Sans MS"/>
              </a:rPr>
              <a:t>9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3"/>
          <p:cNvSpPr/>
          <p:nvPr/>
        </p:nvSpPr>
        <p:spPr>
          <a:xfrm>
            <a:off x="2987640" y="2924280"/>
            <a:ext cx="1152720" cy="504720"/>
          </a:xfrm>
          <a:prstGeom prst="rightArrow">
            <a:avLst>
              <a:gd name="adj1" fmla="val 50000"/>
              <a:gd name="adj2" fmla="val 57097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5031720" y="0"/>
            <a:ext cx="2899800" cy="67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1" i="1" lang="en-US" sz="4400" spc="-1" strike="noStrike" baseline="30000">
                <a:solidFill>
                  <a:srgbClr val="ff0000"/>
                </a:solidFill>
                <a:latin typeface="Comic Sans MS"/>
              </a:rPr>
              <a:t>st  </a:t>
            </a:r>
            <a:r>
              <a:rPr b="1" i="1" lang="en-US" sz="4400" spc="-1" strike="noStrike">
                <a:solidFill>
                  <a:srgbClr val="ff0000"/>
                </a:solidFill>
                <a:latin typeface="Comic Sans MS"/>
              </a:rPr>
              <a:t>  </a:t>
            </a:r>
            <a:r>
              <a:rPr b="1" i="1" lang="en-US" sz="4400" spc="-1" strike="noStrike">
                <a:solidFill>
                  <a:srgbClr val="ff0000"/>
                </a:solidFill>
                <a:latin typeface="Times New Roman"/>
              </a:rPr>
              <a:t>fir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1" i="1" lang="en-US" sz="4400" spc="-1" strike="noStrike" baseline="30000">
                <a:solidFill>
                  <a:srgbClr val="ff0000"/>
                </a:solidFill>
                <a:latin typeface="Comic Sans MS"/>
              </a:rPr>
              <a:t>nd</a:t>
            </a:r>
            <a:r>
              <a:rPr b="1" i="1" lang="en-US" sz="4400" spc="-1" strike="noStrike">
                <a:solidFill>
                  <a:srgbClr val="ff0000"/>
                </a:solidFill>
                <a:latin typeface="Comic Sans MS"/>
              </a:rPr>
              <a:t>   </a:t>
            </a:r>
            <a:r>
              <a:rPr b="1" i="1" lang="en-US" sz="4400" spc="-1" strike="noStrike">
                <a:solidFill>
                  <a:srgbClr val="ff0000"/>
                </a:solidFill>
                <a:latin typeface="Times New Roman"/>
              </a:rPr>
              <a:t>seco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1" i="1" lang="en-US" sz="4400" spc="-1" strike="noStrike" baseline="30000">
                <a:solidFill>
                  <a:srgbClr val="ff0000"/>
                </a:solidFill>
                <a:latin typeface="Comic Sans MS"/>
              </a:rPr>
              <a:t>rd</a:t>
            </a:r>
            <a:r>
              <a:rPr b="1" i="1" lang="en-US" sz="4400" spc="-1" strike="noStrike">
                <a:solidFill>
                  <a:srgbClr val="ff0000"/>
                </a:solidFill>
                <a:latin typeface="Comic Sans MS"/>
              </a:rPr>
              <a:t>   </a:t>
            </a:r>
            <a:r>
              <a:rPr b="1" i="1" lang="en-US" sz="4400" spc="-1" strike="noStrike">
                <a:solidFill>
                  <a:srgbClr val="ff0000"/>
                </a:solidFill>
                <a:latin typeface="Times New Roman"/>
              </a:rPr>
              <a:t>thi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omic Sans MS"/>
              </a:rPr>
              <a:t>4</a:t>
            </a:r>
            <a:r>
              <a:rPr b="1" i="1" lang="en-US" sz="44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1" i="1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omic Sans MS"/>
              </a:rPr>
              <a:t>5</a:t>
            </a:r>
            <a:r>
              <a:rPr b="1" i="1" lang="en-US" sz="44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1" i="1" lang="en-US" sz="4400" spc="-1" strike="noStrike">
                <a:solidFill>
                  <a:srgbClr val="ff0000"/>
                </a:solidFill>
                <a:latin typeface="Comic Sans MS"/>
              </a:rPr>
              <a:t>   </a:t>
            </a:r>
            <a:r>
              <a:rPr b="1" i="1" lang="en-US" sz="4400" spc="-1" strike="noStrike">
                <a:solidFill>
                  <a:srgbClr val="ff0000"/>
                </a:solidFill>
                <a:latin typeface="Times New Roman"/>
              </a:rPr>
              <a:t>fif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omic Sans MS"/>
              </a:rPr>
              <a:t>6</a:t>
            </a:r>
            <a:r>
              <a:rPr b="1" i="1" lang="en-US" sz="44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1" i="1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omic Sans MS"/>
              </a:rPr>
              <a:t>7</a:t>
            </a:r>
            <a:r>
              <a:rPr b="1" i="1" lang="en-US" sz="44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1" i="1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omic Sans MS"/>
              </a:rPr>
              <a:t>8</a:t>
            </a:r>
            <a:r>
              <a:rPr b="1" i="1" lang="en-US" sz="44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1" i="1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omic Sans MS"/>
              </a:rPr>
              <a:t>9</a:t>
            </a:r>
            <a:r>
              <a:rPr b="1" i="1" lang="en-US" sz="44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1" i="1" lang="en-US" sz="4400" spc="-1" strike="noStrike">
                <a:solidFill>
                  <a:srgbClr val="ff0000"/>
                </a:solidFill>
                <a:latin typeface="Comic Sans MS"/>
              </a:rPr>
              <a:t>   </a:t>
            </a:r>
            <a:r>
              <a:rPr b="1" i="1" lang="en-US" sz="4400" spc="-1" strike="noStrike">
                <a:solidFill>
                  <a:srgbClr val="ff0000"/>
                </a:solidFill>
                <a:latin typeface="Times New Roman"/>
              </a:rPr>
              <a:t>nin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omic Sans MS"/>
              </a:rPr>
              <a:t>10</a:t>
            </a:r>
            <a:r>
              <a:rPr b="1" i="1" lang="en-US" sz="44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327240" y="2345400"/>
            <a:ext cx="850680" cy="238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Arial"/>
                <a:ea typeface="华文新魏"/>
              </a:rPr>
              <a:t>基数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6"/>
          <p:cNvSpPr/>
          <p:nvPr/>
        </p:nvSpPr>
        <p:spPr>
          <a:xfrm>
            <a:off x="7959960" y="2345400"/>
            <a:ext cx="850680" cy="238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Arial"/>
                <a:ea typeface="华文新魏"/>
              </a:rPr>
              <a:t>序数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"/>
          <p:cNvSpPr/>
          <p:nvPr/>
        </p:nvSpPr>
        <p:spPr>
          <a:xfrm>
            <a:off x="1044720" y="404640"/>
            <a:ext cx="4032000" cy="709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Comic Sans MS"/>
              </a:rPr>
              <a:t>11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Comic Sans MS"/>
              </a:rPr>
              <a:t>12 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twel</a:t>
            </a:r>
            <a:r>
              <a:rPr b="1" i="1" lang="en-US" sz="4000" spc="-1" strike="noStrike">
                <a:solidFill>
                  <a:srgbClr val="ff0000"/>
                </a:solidFill>
                <a:latin typeface="Times New Roman"/>
              </a:rPr>
              <a:t>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Comic Sans MS"/>
              </a:rPr>
              <a:t>13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Comic Sans MS"/>
              </a:rPr>
              <a:t>14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Comic Sans MS"/>
              </a:rPr>
              <a:t>15 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fifte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Comic Sans MS"/>
              </a:rPr>
              <a:t>1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Comic Sans MS"/>
              </a:rPr>
              <a:t>1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Comic Sans MS"/>
              </a:rPr>
              <a:t>18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Comic Sans MS"/>
              </a:rPr>
              <a:t>1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3"/>
          <p:cNvSpPr/>
          <p:nvPr/>
        </p:nvSpPr>
        <p:spPr>
          <a:xfrm>
            <a:off x="4138560" y="3213000"/>
            <a:ext cx="649440" cy="505080"/>
          </a:xfrm>
          <a:prstGeom prst="rightArrow">
            <a:avLst>
              <a:gd name="adj1" fmla="val 50000"/>
              <a:gd name="adj2" fmla="val 32145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4"/>
          <p:cNvSpPr/>
          <p:nvPr/>
        </p:nvSpPr>
        <p:spPr>
          <a:xfrm>
            <a:off x="4956840" y="404640"/>
            <a:ext cx="3100680" cy="63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Comic Sans MS"/>
              </a:rPr>
              <a:t>11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1" i="1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Comic Sans MS"/>
              </a:rPr>
              <a:t>1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1" i="1" lang="en-US" sz="4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twel</a:t>
            </a:r>
            <a:r>
              <a:rPr b="1" i="1" lang="en-US" sz="40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t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Comic Sans MS"/>
              </a:rPr>
              <a:t>13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1" i="1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Comic Sans MS"/>
              </a:rPr>
              <a:t>14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Comic Sans MS"/>
              </a:rPr>
              <a:t>15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1" i="1" lang="en-US" sz="4000" spc="-1" strike="noStrike">
                <a:solidFill>
                  <a:srgbClr val="000000"/>
                </a:solidFill>
                <a:latin typeface="Comic Sans MS"/>
              </a:rPr>
              <a:t>  f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ifteent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Comic Sans MS"/>
              </a:rPr>
              <a:t>16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Comic Sans MS"/>
              </a:rPr>
              <a:t>17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Comic Sans MS"/>
              </a:rPr>
              <a:t>18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Comic Sans MS"/>
              </a:rPr>
              <a:t>19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5"/>
          <p:cNvSpPr/>
          <p:nvPr/>
        </p:nvSpPr>
        <p:spPr>
          <a:xfrm>
            <a:off x="265320" y="2057760"/>
            <a:ext cx="850680" cy="238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Arial"/>
                <a:ea typeface="华文新魏"/>
              </a:rPr>
              <a:t>基数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6"/>
          <p:cNvSpPr/>
          <p:nvPr/>
        </p:nvSpPr>
        <p:spPr>
          <a:xfrm>
            <a:off x="8175960" y="1954800"/>
            <a:ext cx="850680" cy="238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Arial"/>
                <a:ea typeface="华文新魏"/>
              </a:rPr>
              <a:t>序数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2"/>
          <p:cNvSpPr/>
          <p:nvPr/>
        </p:nvSpPr>
        <p:spPr>
          <a:xfrm>
            <a:off x="777960" y="260280"/>
            <a:ext cx="7805160" cy="61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st      f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ir</a:t>
            </a: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st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第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nd     seco</a:t>
            </a: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nd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第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3rd      th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1" lang="en-US" sz="4400" spc="-1" strike="noStrike" u="sng">
                <a:solidFill>
                  <a:srgbClr val="ff0000"/>
                </a:solidFill>
                <a:uFillTx/>
                <a:latin typeface="Arial"/>
              </a:rPr>
              <a:t>r</a:t>
            </a: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第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1st    twenty-</a:t>
            </a: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firs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第二十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2nd   twenty-</a:t>
            </a: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second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第二十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3rd    twenty-</a:t>
            </a: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third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第二十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31st    thirty-</a:t>
            </a: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first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第三十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2"/>
          <p:cNvSpPr/>
          <p:nvPr/>
        </p:nvSpPr>
        <p:spPr>
          <a:xfrm>
            <a:off x="250920" y="798480"/>
            <a:ext cx="8569080" cy="57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1" lang="en-US" sz="4800" spc="-1" strike="noStrike" baseline="30000">
                <a:solidFill>
                  <a:srgbClr val="ff3300"/>
                </a:solidFill>
                <a:latin typeface="Arial"/>
              </a:rPr>
              <a:t>st</a:t>
            </a: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      2</a:t>
            </a:r>
            <a:r>
              <a:rPr b="1" lang="en-US" sz="4800" spc="-1" strike="noStrike" baseline="30000">
                <a:solidFill>
                  <a:srgbClr val="ff3300"/>
                </a:solidFill>
                <a:latin typeface="Arial"/>
              </a:rPr>
              <a:t>nd</a:t>
            </a: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      3</a:t>
            </a:r>
            <a:r>
              <a:rPr b="1" lang="en-US" sz="4800" spc="-1" strike="noStrike" baseline="30000">
                <a:solidFill>
                  <a:srgbClr val="ff3300"/>
                </a:solidFill>
                <a:latin typeface="Arial"/>
              </a:rPr>
              <a:t>rd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     4</a:t>
            </a:r>
            <a:r>
              <a:rPr b="1" lang="en-US" sz="4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4800" spc="-1" strike="noStrike">
                <a:solidFill>
                  <a:srgbClr val="333399"/>
                </a:solidFill>
                <a:latin typeface="Arial"/>
              </a:rPr>
              <a:t>5</a:t>
            </a:r>
            <a:r>
              <a:rPr b="1" lang="en-US" sz="4800" spc="-1" strike="noStrike" baseline="30000">
                <a:solidFill>
                  <a:srgbClr val="333399"/>
                </a:solidFill>
                <a:latin typeface="Arial"/>
              </a:rPr>
              <a:t>th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en-US" sz="4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     7</a:t>
            </a:r>
            <a:r>
              <a:rPr b="1" lang="en-US" sz="4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      8</a:t>
            </a:r>
            <a:r>
              <a:rPr b="1" lang="en-US" sz="4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     9</a:t>
            </a:r>
            <a:r>
              <a:rPr b="1" lang="en-US" sz="4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    10</a:t>
            </a:r>
            <a:r>
              <a:rPr b="1" lang="en-US" sz="4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1" lang="en-US" sz="4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   12</a:t>
            </a:r>
            <a:r>
              <a:rPr b="1" lang="en-US" sz="4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   13</a:t>
            </a:r>
            <a:r>
              <a:rPr b="1" lang="en-US" sz="4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    14</a:t>
            </a:r>
            <a:r>
              <a:rPr b="1" lang="en-US" sz="4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4800" spc="-1" strike="noStrike">
                <a:solidFill>
                  <a:srgbClr val="333399"/>
                </a:solidFill>
                <a:latin typeface="Arial"/>
              </a:rPr>
              <a:t>15</a:t>
            </a:r>
            <a:r>
              <a:rPr b="1" lang="en-US" sz="4800" spc="-1" strike="noStrike" baseline="30000">
                <a:solidFill>
                  <a:srgbClr val="333399"/>
                </a:solidFill>
                <a:latin typeface="Arial"/>
              </a:rPr>
              <a:t>th</a:t>
            </a:r>
            <a:r>
              <a:rPr b="1" lang="en-US" sz="4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1" lang="en-US" sz="4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   17</a:t>
            </a:r>
            <a:r>
              <a:rPr b="1" lang="en-US" sz="4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   18</a:t>
            </a:r>
            <a:r>
              <a:rPr b="1" lang="en-US" sz="4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    19</a:t>
            </a:r>
            <a:r>
              <a:rPr b="1" lang="en-US" sz="4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    20</a:t>
            </a:r>
            <a:r>
              <a:rPr b="1" lang="en-US" sz="4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21</a:t>
            </a:r>
            <a:r>
              <a:rPr b="1" lang="en-US" sz="4800" spc="-1" strike="noStrike" baseline="30000">
                <a:solidFill>
                  <a:srgbClr val="ff3300"/>
                </a:solidFill>
                <a:latin typeface="Arial"/>
              </a:rPr>
              <a:t>st</a:t>
            </a: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    22</a:t>
            </a:r>
            <a:r>
              <a:rPr b="1" lang="en-US" sz="4800" spc="-1" strike="noStrike" baseline="30000">
                <a:solidFill>
                  <a:srgbClr val="ff3300"/>
                </a:solidFill>
                <a:latin typeface="Arial"/>
              </a:rPr>
              <a:t>nd</a:t>
            </a: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    23</a:t>
            </a:r>
            <a:r>
              <a:rPr b="1" lang="en-US" sz="4800" spc="-1" strike="noStrike" baseline="30000">
                <a:solidFill>
                  <a:srgbClr val="ff3300"/>
                </a:solidFill>
                <a:latin typeface="Arial"/>
              </a:rPr>
              <a:t>rd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   24</a:t>
            </a:r>
            <a:r>
              <a:rPr b="1" lang="en-US" sz="4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333399"/>
                </a:solidFill>
                <a:latin typeface="Arial"/>
              </a:rPr>
              <a:t>25</a:t>
            </a:r>
            <a:r>
              <a:rPr b="1" lang="en-US" sz="4800" spc="-1" strike="noStrike" baseline="30000">
                <a:solidFill>
                  <a:srgbClr val="333399"/>
                </a:solidFill>
                <a:latin typeface="Arial"/>
              </a:rPr>
              <a:t>th</a:t>
            </a:r>
            <a:r>
              <a:rPr b="1" lang="en-US" sz="4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26</a:t>
            </a:r>
            <a:r>
              <a:rPr b="1" lang="en-US" sz="4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   27</a:t>
            </a:r>
            <a:r>
              <a:rPr b="1" lang="en-US" sz="4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    28</a:t>
            </a:r>
            <a:r>
              <a:rPr b="1" lang="en-US" sz="4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   29</a:t>
            </a:r>
            <a:r>
              <a:rPr b="1" lang="en-US" sz="4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    30</a:t>
            </a:r>
            <a:r>
              <a:rPr b="1" lang="en-US" sz="4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31</a:t>
            </a:r>
            <a:r>
              <a:rPr b="1" lang="en-US" sz="4800" spc="-1" strike="noStrike" baseline="30000">
                <a:solidFill>
                  <a:srgbClr val="ff3300"/>
                </a:solidFill>
                <a:latin typeface="Arial"/>
              </a:rPr>
              <a:t>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2627280" y="71280"/>
            <a:ext cx="3240000" cy="765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序数词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2"/>
          <p:cNvSpPr/>
          <p:nvPr/>
        </p:nvSpPr>
        <p:spPr>
          <a:xfrm>
            <a:off x="1187280" y="1557360"/>
            <a:ext cx="5113440" cy="1434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88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zh-CN" sz="8800" spc="-1" strike="noStrike">
                <a:solidFill>
                  <a:srgbClr val="000000"/>
                </a:solidFill>
                <a:latin typeface="Arial"/>
              </a:rPr>
              <a:t>日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2050920" y="2421000"/>
            <a:ext cx="5113440" cy="1434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zh-CN" sz="88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8800" spc="-1" strike="noStrike">
                <a:solidFill>
                  <a:srgbClr val="000000"/>
                </a:solidFill>
                <a:latin typeface="Arial"/>
              </a:rPr>
              <a:t>日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539640" y="3357720"/>
            <a:ext cx="5113440" cy="1434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88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1" lang="zh-CN" sz="8800" spc="-1" strike="noStrike">
                <a:solidFill>
                  <a:srgbClr val="000000"/>
                </a:solidFill>
                <a:latin typeface="Arial"/>
              </a:rPr>
              <a:t>日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5"/>
          <p:cNvSpPr/>
          <p:nvPr/>
        </p:nvSpPr>
        <p:spPr>
          <a:xfrm>
            <a:off x="2556000" y="1341360"/>
            <a:ext cx="5113080" cy="1434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88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1" lang="zh-CN" sz="8800" spc="-1" strike="noStrike">
                <a:solidFill>
                  <a:srgbClr val="000000"/>
                </a:solidFill>
                <a:latin typeface="Arial"/>
              </a:rPr>
              <a:t>日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6"/>
          <p:cNvSpPr/>
          <p:nvPr/>
        </p:nvSpPr>
        <p:spPr>
          <a:xfrm>
            <a:off x="2771640" y="3933720"/>
            <a:ext cx="5113440" cy="1434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88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8800" spc="-1" strike="noStrike">
                <a:solidFill>
                  <a:srgbClr val="000000"/>
                </a:solidFill>
                <a:latin typeface="Arial"/>
              </a:rPr>
              <a:t>日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7"/>
          <p:cNvSpPr/>
          <p:nvPr/>
        </p:nvSpPr>
        <p:spPr>
          <a:xfrm>
            <a:off x="1187280" y="2421000"/>
            <a:ext cx="5113440" cy="1434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88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22</a:t>
            </a:r>
            <a:r>
              <a:rPr b="1" lang="zh-CN" sz="8800" spc="-1" strike="noStrike">
                <a:solidFill>
                  <a:srgbClr val="000000"/>
                </a:solidFill>
                <a:latin typeface="Arial"/>
              </a:rPr>
              <a:t>日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8"/>
          <p:cNvSpPr/>
          <p:nvPr/>
        </p:nvSpPr>
        <p:spPr>
          <a:xfrm>
            <a:off x="1835280" y="2349360"/>
            <a:ext cx="5113080" cy="1434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88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8800" spc="-1" strike="noStrike">
                <a:solidFill>
                  <a:srgbClr val="000000"/>
                </a:solidFill>
                <a:latin typeface="Arial"/>
              </a:rPr>
              <a:t>日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9"/>
          <p:cNvSpPr/>
          <p:nvPr/>
        </p:nvSpPr>
        <p:spPr>
          <a:xfrm>
            <a:off x="1619280" y="907920"/>
            <a:ext cx="5113440" cy="1434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88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1" lang="zh-CN" sz="8800" spc="-1" strike="noStrike">
                <a:solidFill>
                  <a:srgbClr val="000000"/>
                </a:solidFill>
                <a:latin typeface="Arial"/>
              </a:rPr>
              <a:t>日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3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5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60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11062320486917"/>
          <p:cNvPicPr/>
          <p:nvPr/>
        </p:nvPicPr>
        <p:blipFill>
          <a:blip r:embed="rId1"/>
          <a:srcRect l="0" t="0" r="0" b="312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WordArt 5"/>
          <p:cNvSpPr txBox="1"/>
          <p:nvPr/>
        </p:nvSpPr>
        <p:spPr>
          <a:xfrm>
            <a:off x="2700360" y="2133720"/>
            <a:ext cx="482436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Target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2"/>
          <p:cNvSpPr/>
          <p:nvPr/>
        </p:nvSpPr>
        <p:spPr>
          <a:xfrm>
            <a:off x="162000" y="44280"/>
            <a:ext cx="685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Arial"/>
              </a:rPr>
              <a:t>Review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3"/>
          <p:cNvSpPr/>
          <p:nvPr/>
        </p:nvSpPr>
        <p:spPr>
          <a:xfrm>
            <a:off x="447840" y="16336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"/>
          <p:cNvSpPr/>
          <p:nvPr/>
        </p:nvSpPr>
        <p:spPr>
          <a:xfrm>
            <a:off x="755640" y="836640"/>
            <a:ext cx="259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Jul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5"/>
          <p:cNvSpPr/>
          <p:nvPr/>
        </p:nvSpPr>
        <p:spPr>
          <a:xfrm>
            <a:off x="3059280" y="907920"/>
            <a:ext cx="2665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ugu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6"/>
          <p:cNvSpPr/>
          <p:nvPr/>
        </p:nvSpPr>
        <p:spPr>
          <a:xfrm>
            <a:off x="5724360" y="907920"/>
            <a:ext cx="3419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eptembe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7"/>
          <p:cNvSpPr/>
          <p:nvPr/>
        </p:nvSpPr>
        <p:spPr>
          <a:xfrm>
            <a:off x="0" y="1987560"/>
            <a:ext cx="3419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ctobe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8"/>
          <p:cNvSpPr/>
          <p:nvPr/>
        </p:nvSpPr>
        <p:spPr>
          <a:xfrm>
            <a:off x="2771640" y="1987560"/>
            <a:ext cx="3419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vembe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9"/>
          <p:cNvSpPr/>
          <p:nvPr/>
        </p:nvSpPr>
        <p:spPr>
          <a:xfrm>
            <a:off x="6012000" y="2028960"/>
            <a:ext cx="3419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Decembe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0"/>
          <p:cNvSpPr/>
          <p:nvPr/>
        </p:nvSpPr>
        <p:spPr>
          <a:xfrm>
            <a:off x="828720" y="3110040"/>
            <a:ext cx="4967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1st   2nd   3r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1"/>
          <p:cNvSpPr/>
          <p:nvPr/>
        </p:nvSpPr>
        <p:spPr>
          <a:xfrm>
            <a:off x="828720" y="4149720"/>
            <a:ext cx="4967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21st   22nd   23r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2"/>
          <p:cNvSpPr/>
          <p:nvPr/>
        </p:nvSpPr>
        <p:spPr>
          <a:xfrm>
            <a:off x="826920" y="4981680"/>
            <a:ext cx="4967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31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8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28T02:18:38Z</dcterms:created>
  <dc:creator/>
  <dc:description/>
  <dc:language>en-US</dc:language>
  <cp:lastModifiedBy/>
  <dcterms:modified xsi:type="dcterms:W3CDTF">2016-12-28T02:19:38Z</dcterms:modified>
  <cp:revision>1</cp:revision>
  <dc:subject/>
  <dc:title/>
</cp:coreProperties>
</file>