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EF06-CCAE-4868-97BE-E5BB9A1926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928E-303A-4EA7-8B3A-6CBE1E9299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97AF-27B6-4F76-9A33-B67FAE0E89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454E-B49F-4215-80D6-0C6B5CC37C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D12C-492C-44F7-99DF-4322E2487A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F696-C8AB-496B-B5D2-675D12FFDE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07B1-4441-44C9-A3E7-FAED5EBD75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AC63-A8E2-480A-A515-CED2E1982B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2215-5497-4C58-B962-EE9F152CB6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268-C8BB-4BC4-8251-17A6ADCE4F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4B94-52E2-4EE0-A1BE-B2E6F8C7B6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F7D-E392-41AD-9572-4EA78C5B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128-BF97-4B25-9000-499F532D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99A15-2327-48B3-B9CA-7182C26E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B4203-8FEB-499B-8096-C6F38EA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3BAD1-37A1-42F6-A2DD-5A206157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91439-D4AD-4A25-AE72-49B4A0DC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5595C-75D4-4DB7-83A5-9583CCBF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74452-C4AB-4CEA-BCB2-2D3F5EF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614F9-B7E3-4DAB-B2CF-7AC8C68A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788BE-E9C3-4DC3-BD86-2A88ED1E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8A697-749E-4BF9-848C-5B58AF4A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8D937-36DE-4101-A593-764E39E8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9C8-D82A-4278-B4F7-BDC5557B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7CC71-264E-4754-92EA-C5720282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99ACC-96C3-4565-9A53-68992AD9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744D2-9089-4B73-8076-A6B8DDC2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F1979-D1B4-4954-B06C-AFB12891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6403C-EBC9-43C4-BE9E-C5B8CEB4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0C9BB-1BBA-4157-86C7-BB1D20BE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19141-8DA1-401F-83A0-20B08DD1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D9D50-B0A2-4130-B7F7-AE305EB2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8FB64-52B2-4EC1-8B60-FCFFB20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726EB-47FB-49BE-9C66-A3B02C29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525-8F80-4303-B39A-2B0BE9B5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E2B1C-FA1E-42CA-8C6E-01E859FA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791BB-E559-4593-AAA3-45BC67B0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35A34-14D2-4917-AACF-4264EEDC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AD10A-BE32-4278-B49E-9CA4F8EB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3219E-A3B9-4384-998F-6CE6CC4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95312-12E5-49B5-AB12-D00C065A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C6047-A8DE-4FBD-B78E-0B259702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C15EB-6C65-4684-9DE0-09C319E6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4F9EE-73A1-4511-A7ED-81748A2A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763CF-22D4-437A-87E5-AA99444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CEDA-2516-4DB5-B020-534F504C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EE1AE-36CC-4FC2-8A6B-62D537E2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795C1-4855-4D3F-B450-39B5E790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E7DAA-79CF-4B19-9B02-61B0685F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1337A-A7B2-4C0D-941C-FA74DEA4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41935-9FE5-4871-9789-BD6FDE7D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2B8BD-6678-4941-9D8E-1501770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4D94A-E832-4968-BFCD-DAB1A51B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8CAC8-55B4-4EC5-8C6D-94CCD72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9D41B-F2EE-4662-B426-F23F9D30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2F966-486D-4CCF-8CEA-1DC01AD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3CB9-F791-409E-943E-21D79A3C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97311-5E5A-4965-8620-F4DF7D3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16ECF-40CA-448B-A51C-46DFB25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D17BB-3BE8-4C2E-BB0B-1EC5B551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4A7A8-2215-4164-BA20-DD5B5915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5E84D-5F8D-4483-9303-0CC0054A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B847-2BE8-4456-A6C1-64CA52C1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250E-690F-48D8-81E5-045484ED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077E-B83C-481C-87CE-8DABC49F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861C-3E42-414B-A3B5-3703A028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C802-65D9-4567-A010-B4D1E999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28E-350E-49A9-9580-A043B0FB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96F3-D629-4E0A-BD2D-1FAF56AF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AAEC-5B85-413D-AA13-75D8C802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0D79-4289-48EF-96FB-056948E1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21E9-34F9-4582-B121-2F68B529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44D8-E0B8-4E53-A51C-8E7C0205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7B91-9846-4358-8921-9A183199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1FDD-C473-42C9-9062-BA00A743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295B-A199-436A-AC57-A04491D5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2194-FE47-4601-ABAF-5F5ECCA1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179B-DC4E-46C6-86FE-00105CEF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5EC-69C0-4A20-A29B-E8B9FE62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E055-959D-4718-8C37-148A7A1E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6D00-6731-437A-9D49-4C44BB14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B1C1-928A-4DD6-9179-ABE378F5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99FF-07D9-445A-BE5F-F12F81E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806E7-274D-4947-8CCE-953E817C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CA561-5892-4927-9D6F-F80B40FF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6589-FFF8-4093-AA50-89B33221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AEB4-5532-4140-B926-9E2E8366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5D1CA-B8EF-426F-9507-98AC5ACF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8824F-5019-4C9C-9605-8B739730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66A-871E-402A-94EB-E4D5E8D3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6893-9F56-4DA1-AA7B-26DC8382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6262-F243-47FE-89F3-27E60EF1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69B7-31B0-4115-8E39-2572466F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506C-8D10-44C9-8703-AD1A6A0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17122-1A87-4C75-884D-F474F647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BE17-0012-4721-A408-A8413104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6BCC-3ECE-4E7B-BE0A-6B351166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777A6-BF50-4C2B-93E4-DABF954A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7796-C6C8-4FC0-A48B-22AEE921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C25B6-6B4E-4181-B0B5-C5083653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CC6-53D1-47A5-9237-C4DA470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B0DA2-36AB-4604-835D-1F8039D3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DF82F-0F59-41BB-BC87-E979D5BE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A2068-FF42-4C4B-8E89-A2D233BB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C63FB-AE25-43AE-849E-6B48F8EE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FAEEA-2CDB-4841-9896-7AAD576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4EBB2-0916-4E8D-921D-F4EF0581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B5F9-8C02-46A5-86A6-30A04B0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43BC0-76DB-4FDC-B51C-E14D34A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D173C-AC1D-4A2D-8EBC-0FC8E32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D1764-62A0-4ACA-8A88-7EEA4F77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CBD-AF98-4597-9A09-FE748C04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25E6-E3CA-440D-80FA-38C71E64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33656-EF50-4AE5-A15C-1763B15F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6598E-1A45-40B0-BE06-7C0E3771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39872-EEFF-47A8-AE2A-A93A45ED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76CB5-32AB-4BCE-B3E1-7F5F9253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A696-B0E7-4852-9332-49BE55D5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51C43-B693-49B5-9738-86F98AFB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69413-635C-406F-9E50-61CF6E00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BDEE6-A773-45B4-838B-5222175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03D2-063B-4F50-BC1A-B52A4C7D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177-2E19-4CEC-BAD2-B60786DA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1BAB6-A68A-4FAE-9094-6538FC0B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46A9D-7DAA-407A-9D50-7D46955E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969B6-F9D2-4665-AC7B-C354AF90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8DE10-8516-40F6-A0D9-F9DF5382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15A5-AB5A-437B-8CDA-8EEFAD37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39781-3B30-488F-B881-2B2DF463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58DBE-D579-413B-92B9-936F702C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68C47-814B-410C-B0BD-2DA37181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7C5C5-AB16-400D-B3F9-80E12888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D586-9EF7-4CD6-B3A1-298B2BB0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961-F95F-429A-A0E7-C605771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4026-265A-4EAC-9D0C-659440BB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35D21-3398-4976-83DB-99AC6980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F7440-8074-4D35-807B-9AF22B33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BF09-1065-4150-86CA-A972FD26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63716-5BC3-41DE-A000-F8BA5FE1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65ADF-6DCA-46D9-95D3-FF540119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C8840-FB91-421E-B609-B53B5DCD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CD74D-3DB4-41DE-977C-A4516AFF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3E263-C8B7-4B78-A144-A2E46592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E4855-8075-47E0-901A-09129337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407-3D1E-4499-A7AE-C50E961E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4253F-89FC-41D7-A363-46200F65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90CE3-A93A-4AFD-9833-F3B61249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DA98A-2B38-4BE7-9CBA-5C87FD71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59142-FA6F-4E74-8B89-EF79EFB8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A2292-F40A-431D-BF77-6745E611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7F696-C437-4D64-AA5C-B245F88C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D57C2-E312-4B6A-845C-5D52BA5D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329E8-BC7D-453E-BCA4-08EE8A93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D55D1-CF1D-4C9A-8223-269129CB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CB036-2EAA-450F-B6BC-4070D4C5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hyperlink" Target="http://cai.7cxk.net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D84-7FBD-4A86-AADD-48A3167F6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孔隆教育PPT模板(下)副本"/>
          <p:cNvPicPr/>
          <p:nvPr/>
        </p:nvPicPr>
        <p:blipFill>
          <a:blip r:embed="rId3"/>
          <a:srcRect l="6962" t="78985" r="0" b="0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6266880" y="6548400"/>
            <a:ext cx="247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ai.7cxk.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中小学课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718A-F764-4BD5-9F21-802E46ADD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7241-927B-4F57-8B3D-4830EDAF6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BCF9-5908-441F-942A-85A78B829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F4A4-50FA-459A-BD8E-330EE219A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367D-386A-4406-86E3-551DFE750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2552-7E11-4323-B030-451895BE6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7F8C-9ECA-40D2-9885-34469E35A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7F5E-6972-4F78-9A22-9DC81842F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FDE-B202-4F74-8C50-0341F0376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BE07-7A48-4A75-8035-5111025FC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F199-0765-4157-83A5-5FAC3B752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nit 3 Dat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3" name="Picture 5" descr="T0137C~1"/>
          <p:cNvPicPr/>
          <p:nvPr/>
        </p:nvPicPr>
        <p:blipFill>
          <a:blip r:embed="rId1"/>
          <a:stretch/>
        </p:blipFill>
        <p:spPr>
          <a:xfrm>
            <a:off x="250920" y="1844640"/>
            <a:ext cx="3886200" cy="331308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3"/>
          <p:cNvGrpSpPr/>
          <p:nvPr/>
        </p:nvGrpSpPr>
        <p:grpSpPr>
          <a:xfrm>
            <a:off x="3995640" y="2349360"/>
            <a:ext cx="4463640" cy="3816360"/>
            <a:chOff x="3995640" y="2349360"/>
            <a:chExt cx="4463640" cy="3816360"/>
          </a:xfrm>
        </p:grpSpPr>
        <p:pic>
          <p:nvPicPr>
            <p:cNvPr id="505" name="Picture 4" descr=""/>
            <p:cNvPicPr/>
            <p:nvPr/>
          </p:nvPicPr>
          <p:blipFill>
            <a:blip r:embed="rId2"/>
            <a:stretch/>
          </p:blipFill>
          <p:spPr>
            <a:xfrm>
              <a:off x="3995640" y="2349360"/>
              <a:ext cx="446364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5"/>
            <p:cNvSpPr/>
            <p:nvPr/>
          </p:nvSpPr>
          <p:spPr>
            <a:xfrm>
              <a:off x="6685560" y="2349360"/>
              <a:ext cx="1773360" cy="1724760"/>
            </a:xfrm>
            <a:prstGeom prst="rect">
              <a:avLst/>
            </a:prstGeom>
            <a:solidFill>
              <a:srgbClr val="f80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ten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新宋体"/>
              </a:rPr>
              <a:t>同学们，你们知道每个国家的人民过生日有什么区别吗？？？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新宋体"/>
              </a:rPr>
              <a:t>In China ,we eat noodles.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9" name="Picture 5" descr="T0188B~1"/>
          <p:cNvPicPr/>
          <p:nvPr/>
        </p:nvPicPr>
        <p:blipFill>
          <a:blip r:embed="rId1"/>
          <a:stretch/>
        </p:blipFill>
        <p:spPr>
          <a:xfrm>
            <a:off x="38160" y="3645000"/>
            <a:ext cx="4248000" cy="2390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thumb"/>
          <p:cNvPicPr/>
          <p:nvPr/>
        </p:nvPicPr>
        <p:blipFill>
          <a:blip r:embed="rId2"/>
          <a:srcRect l="0" t="9238" r="0" b="7640"/>
          <a:stretch/>
        </p:blipFill>
        <p:spPr>
          <a:xfrm>
            <a:off x="4284720" y="3643200"/>
            <a:ext cx="4125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ose birthday is today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8" name="Picture 10" descr="T0136C~1"/>
          <p:cNvPicPr/>
          <p:nvPr/>
        </p:nvPicPr>
        <p:blipFill>
          <a:blip r:embed="rId1"/>
          <a:stretch/>
        </p:blipFill>
        <p:spPr>
          <a:xfrm>
            <a:off x="1619280" y="2349360"/>
            <a:ext cx="554364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n our class: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ose birthday is on September 10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ose birthday is on July  24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ose birthday is on  May 31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ose birthday is on April 22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ose birthday is on July 20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en is your birthday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do you celebrate your birthday?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2" name="Picture 11" descr="T0119F~1"/>
          <p:cNvPicPr/>
          <p:nvPr/>
        </p:nvPicPr>
        <p:blipFill>
          <a:blip r:embed="rId1"/>
          <a:srcRect l="0" t="0" r="0" b="5622"/>
          <a:stretch/>
        </p:blipFill>
        <p:spPr>
          <a:xfrm>
            <a:off x="684360" y="1557360"/>
            <a:ext cx="2016000" cy="21574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3" descr="T0168F~1"/>
          <p:cNvPicPr/>
          <p:nvPr/>
        </p:nvPicPr>
        <p:blipFill>
          <a:blip r:embed="rId2"/>
          <a:stretch/>
        </p:blipFill>
        <p:spPr>
          <a:xfrm>
            <a:off x="3564000" y="184464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T01C79~1"/>
          <p:cNvPicPr/>
          <p:nvPr/>
        </p:nvPicPr>
        <p:blipFill>
          <a:blip r:embed="rId3"/>
          <a:srcRect l="0" t="5905" r="0" b="0"/>
          <a:stretch/>
        </p:blipFill>
        <p:spPr>
          <a:xfrm>
            <a:off x="395280" y="4357800"/>
            <a:ext cx="34383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go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</a:rPr>
              <a:t>’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 birthday par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6" name="Picture 2" descr="happybirthday_big"/>
          <p:cNvPicPr/>
          <p:nvPr/>
        </p:nvPicPr>
        <p:blipFill>
          <a:blip r:embed="rId1"/>
          <a:srcRect l="0" t="0" r="2497" b="3657"/>
          <a:stretch/>
        </p:blipFill>
        <p:spPr>
          <a:xfrm>
            <a:off x="468360" y="1052640"/>
            <a:ext cx="845964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sten and answer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听第一遍录音，回答下列问题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en is Gogo’s birthday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 is ____!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18" name="Group 3"/>
          <p:cNvGrpSpPr/>
          <p:nvPr/>
        </p:nvGrpSpPr>
        <p:grpSpPr>
          <a:xfrm>
            <a:off x="3995640" y="2349360"/>
            <a:ext cx="4463640" cy="3816360"/>
            <a:chOff x="3995640" y="2349360"/>
            <a:chExt cx="4463640" cy="3816360"/>
          </a:xfrm>
        </p:grpSpPr>
        <p:pic>
          <p:nvPicPr>
            <p:cNvPr id="519" name="Picture 4" descr=""/>
            <p:cNvPicPr/>
            <p:nvPr/>
          </p:nvPicPr>
          <p:blipFill>
            <a:blip r:embed="rId1"/>
            <a:stretch/>
          </p:blipFill>
          <p:spPr>
            <a:xfrm>
              <a:off x="3995640" y="2349360"/>
              <a:ext cx="446364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Rectangle 5"/>
            <p:cNvSpPr/>
            <p:nvPr/>
          </p:nvSpPr>
          <p:spPr>
            <a:xfrm>
              <a:off x="6685560" y="2349360"/>
              <a:ext cx="1773360" cy="1724760"/>
            </a:xfrm>
            <a:prstGeom prst="rect">
              <a:avLst/>
            </a:prstGeom>
            <a:solidFill>
              <a:srgbClr val="f80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sten and answer agai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听第二遍录音，回答下列问题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When is Jenny’s birthday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 is _______.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When is Tony’s birthday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 is ________.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50920" y="798480"/>
            <a:ext cx="856908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2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3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r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9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10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1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19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20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1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22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23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r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2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2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2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29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30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31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2627280" y="71280"/>
            <a:ext cx="3240000" cy="765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序数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同学们填好自己的生日，分组拿卡片站在讲台前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手举卡片的同学问大家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en is my birthday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家集体回答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 is ______.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25:00Z</dcterms:created>
  <dc:creator/>
  <dc:description/>
  <dc:language>en-US</dc:language>
  <cp:lastModifiedBy/>
  <dcterms:modified xsi:type="dcterms:W3CDTF">2016-12-28T02:25:35Z</dcterms:modified>
  <cp:revision>1</cp:revision>
  <dc:subject/>
  <dc:title/>
</cp:coreProperties>
</file>