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9.gif" ContentType="image/gif"/>
  <Override PartName="/ppt/media/image18.jpeg" ContentType="image/jpeg"/>
  <Override PartName="/ppt/media/image3.gif" ContentType="image/gif"/>
  <Override PartName="/ppt/media/image15.jpeg" ContentType="image/jpeg"/>
  <Override PartName="/ppt/media/MTC_046.WAV" ContentType="audio/x-wav"/>
  <Override PartName="/ppt/media/image14.gif" ContentType="image/gif"/>
  <Override PartName="/ppt/media/image17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4.gif" ContentType="image/gif"/>
  <Override PartName="/ppt/media/chimes.wav" ContentType="audio/x-wav"/>
  <Override PartName="/ppt/media/MTC_002.WAV" ContentType="audio/x-wav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F69-23DF-4783-8BA2-A439A4F3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556E-422E-40F8-AAE9-548F6627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B8CC-4DAF-49B9-850A-C8C3186A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D451-0CF8-4989-A14C-175C4126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180-79C4-4DA4-9185-856C3B14A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456-9FA6-4475-A3BF-8AE58542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3284-4152-4C8F-89CF-5AA2A442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5781-DF3F-4709-AF81-8CABB3EE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CD0-0B95-4F0B-8623-04A1AF88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A56F-5ED2-4E13-83DC-65E192427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D54B-8B13-4581-B6F9-2657035D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9690-DDEC-4AEB-907F-C208328F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AAD-A64B-48F5-8CA6-21CA0481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F77-ABAB-432F-AE75-A7F49065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08BD-4CF6-47DE-8BA8-E0460D37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F68-6D05-4284-B9DC-E81A76C0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4F7-D48B-450E-A499-6A6DD299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B3D3F-C65D-43A9-8B01-EA83819C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CD1AC-2AAD-4A22-B6EC-0D3BD608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375A-5D2A-46C4-85D1-99E5A421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BCD38-5AF0-410A-B043-2A3AED2B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509AB-49A4-4784-92CB-BB9029A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7CA30-170E-4446-A3B1-F43111F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14B42-1025-42AE-9FC6-69AFC5A4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2C0E8-64A7-46D5-BCE1-0DC475C1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3D0E8-080D-481B-9EAF-B0F12B17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66D20-215E-49BF-97B6-B53F510F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773-D5D4-4CD0-8B18-0E89BFC3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D2CB0-B3C6-4825-AC78-9ECF6037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933CF-2410-4FB1-90C1-53D67090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9B2F1-D872-478D-8790-4CD24BCC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D90BA-89D7-4520-BAD1-4A567A0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088D9-1BA6-4BDA-86CB-F55C2EA1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2CA8E-6E4D-4726-A146-42E422B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E956B-64D8-4D3D-ABD6-1B16A95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D4FD9-3BB0-42DF-90B1-1F91280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92727-9DE4-48E4-9489-B221E3B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59CDF-C461-4984-9577-73E1971D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ED0-F142-470A-9E76-811F5BA9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C373A-3B39-4E13-84BC-6018FD99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99F10-F132-479C-A66F-E4F16A7A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665E5-5A6E-4547-AC87-0654B8B4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A337B-D43C-48D1-B7A9-A19C04EC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82B5-C12C-4CB1-9D94-D2F1F805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14194-BFC3-4E39-BDE8-12529AA7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300B2-0779-4D88-8FDC-64D01AA3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8925D-D07F-4574-8389-2924494D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47860-E10B-4328-A226-AF70697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7F1F-0886-49C1-8886-35276CB8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C486-8C9B-4867-AD1C-18A66EAE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A1B7-35F6-43C5-A056-E5E5B01F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136F-0CBF-42DA-A2D2-9229C625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3D36F-A00E-4308-B9F5-CCEE8541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554F2-F0E5-4999-BDE8-9D9F965D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D3B85-FE53-4418-8C80-7D88A18A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9F942-90CD-4153-91EB-D6A2CED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7FDE3-191A-4DA9-84C0-C5948C78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18A7C-8E83-40FC-B61F-56E434E3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EDDB2-568F-4B1B-A70E-A851EEA5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47BBF-9EDF-46A1-9CD2-3E89FEE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9B7A-F919-4D94-9ACA-8E886A8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FF963-60FD-4636-9C1C-666FD040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04B1A-F5F9-4EED-8DCD-F6A85E63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B87FC-7D90-420D-A2C1-5BBC23EB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F4A8E-1D16-4642-8DB1-07EFE7DF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73116-D297-49AD-A574-BC7D38FA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8F832-56FA-4404-B677-594DDC06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31428-A023-4187-A6B4-DFAD21BE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8DBB4-9749-4A4A-9FAF-13EEE4B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1C2D8-B74C-4DF5-BBC4-AF37AAA9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54136-FA1A-46D3-BF59-474493DA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DFA2-08EB-48BE-B258-63D2507C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BF8CE-EC2E-4B5F-A185-A10FEC9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58D12-080F-451E-9098-026219F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A63E1-A29B-41D7-995A-5ECE8C4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18A4C-7C97-4F71-A034-266E05FB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C35F8-C1A6-4FE5-888C-E5EEBBFE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028E2-7AEE-4B70-88E1-C47DB64D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B0A55-DDD5-4371-A6E6-023B0359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E034-1B9E-478B-BD48-630B00A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BC55-1F1A-494A-959B-0C7AFE4D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449-0F6E-4569-80FC-CA84B10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F6EF-99D8-4694-838A-5CE549A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8A4-E4CA-4B17-8450-D2AEF6E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2ED0-392E-4902-BF5F-9A78ED8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0C1-D970-44CD-A3A4-99F5297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00A-F55B-464B-BE5B-1F590905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454E-153F-45E1-A070-D8D10F49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0290-81A9-4E20-B872-5CD572E7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A1F4-7126-40B1-BE39-AB49CDCF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DFAC-9744-4729-B25C-730CE4B9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4FD3-9217-436F-A75C-4321CCF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E3C4-48B1-4D51-B6C0-499AAD0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EC7A-C1BB-41A8-BA8C-522BEB68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191-ADA1-4D35-AFEE-55A2975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CEBB-BE79-43E2-80C6-AF912E61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3E78-C2F6-495B-8D80-2E8114F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3704-FA50-49AA-9D5E-8808111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CFCC-3C98-4C85-BA3D-EF01E7A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E2EF-3695-4C82-90EB-B91B2DE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A1D3-70A6-40E2-B29F-79CCBF50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CE5D-382B-4A0F-A39D-53B59C91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1DD3-526A-4540-A3ED-DB05449E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DF0D-560F-426C-B0E2-D0ECCED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4D76-B745-4B88-BEA0-A69692EE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51F-1AFB-458C-AC10-809DA37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060D-B717-4651-942D-6B792370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FDFC-0B1F-4A11-A923-A6E08E63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8B71-3FE4-4459-BB61-768BAA5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79BA-D358-4B61-AA2D-A06D6BD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EAB4-505B-4FBE-92E9-5EDB477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8A45-9CD2-4472-94B9-9B23C93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586E-3E95-41CC-9322-34AD0947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84C1-6624-474C-82B6-33C9C964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3B32-3A94-498D-86F7-0D72B54A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085F-CE1B-4EC6-A76D-7A82FE08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173-5506-471E-9CCD-7622D78C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ADB23-CFE1-4AFA-B694-B32CC842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0365-469E-4D8C-90DB-7328F942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D497-03A3-4456-A304-CE8FDB7A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4B73-82C1-4F29-A317-2718D580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0CCB-DE74-4F31-948D-0C5FCD2D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30786-D18B-49B2-BB9C-69305FA9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CC63-A2C7-4AAB-B9C2-A99E112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4BDA-C1C7-485C-A30D-43CAA5E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F851-97C4-43BD-8C3A-4ED4A5DE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6B099-F56C-43C5-9BC0-C44A139B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899-DE25-41DC-B9EE-373FB6D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E4C1-FCA2-4373-89AA-2E77FDD7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617D-7967-478B-B170-DC330F3B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E3541-8A58-4737-AEF8-3E2EE29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2D2E-23CF-4D83-81AE-BC2D0E1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39E14-9948-4D6A-823B-17EA8F24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EDFAD-6C25-46FF-B2B5-D03EEDC9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4688-ACA8-4335-9FCC-2E9D58C0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B2D0E-38F2-4D6C-87D7-70F5D5D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AE3A8-6791-43DE-816D-3AE55CC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C6AA-260E-41F4-A146-0D277820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ADB-4B79-44DA-A2AD-510EBA36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3548-487B-4373-A0EB-F21FEAAF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C881-71E3-4535-93E0-8D99452F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FF108-B2DF-438A-9923-F96B2491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34BE-C567-45E3-B6D4-65AAC763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60CB-5F1C-47B2-98BD-2B0C65B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5FA33-99D9-45C0-B51E-0A07980B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62D2-32A9-47F1-9DBF-717750E2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AD142-0ED9-4B0F-A65B-17D757D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1D9E-000B-41C9-85A8-211C82F8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CFD13-BF07-48D7-B696-9EF1D2D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B72-1FB0-4488-BD9A-146326A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89A5F-15FD-4379-9E92-069491E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AF721-3C6F-4612-B61B-7CA601D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A732-CCBA-4AE6-95DF-7C9EA23A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81436-3605-4F2D-963D-3E446E74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EDE23-F04B-4534-A52B-2D481357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C5AC6-3C94-4A0B-B86A-F49F47F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4DAE2-7B59-4DFA-9EC3-40D2ACBC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09FA-1B1C-401B-96BB-F06806F2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BB67-2063-4E5B-BF9F-6D0C136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5317-CB6D-438A-8FF4-2163258C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BC8-4007-4C21-9A18-24C3CC3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014C-7206-4C7A-92BB-5275EE0D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73061-3B3A-4190-8122-9F111B0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D9FB1-E3C8-4921-BCFF-C9720F7D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31120-45E5-4D40-B141-5EB0F499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55AB-F466-4794-A63E-6B48B5F8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F8C49-A702-4431-823E-A8569546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83289-0A04-434B-B041-335EBE92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D9F55-7EE9-42E9-AB7C-2999BE52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ECF73-98CC-421F-88CC-F45ECDE1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4CB4E-0BB5-480D-A2D9-7758390E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49A9-9CDA-45BA-98DC-D64FF145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832F-C2D5-4A8C-93E9-7601FAF926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55B-4C45-4914-9A99-44A5DBE3D8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5056-F891-4F18-AE4A-B330377375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E353-07BB-4F0C-A318-93A2E3BC3B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F81-BA6B-4903-8B82-4EA8151E57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A9A-EB6A-4C34-B7C2-23E2E66CF6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711-E0D3-4825-A99A-36D13D515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792-79E9-45E8-9C4C-083947E717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6F85-DBB9-49E9-8077-54E6B6641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E0F-DFB0-4AAB-A562-98D5E23B1F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43C6-0FEE-4514-A59F-C8DA043B5C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1A19-3425-46CF-980E-4F4CC01720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7.xm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image" Target="../media/image7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image" Target="../media/image8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image" Target="../media/image9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1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audio" Target="../media/chimes.wav"/><Relationship Id="rId5" Type="http://schemas.openxmlformats.org/officeDocument/2006/relationships/audio" Target="../media/MTC_002.WAV"/><Relationship Id="rId6" Type="http://schemas.openxmlformats.org/officeDocument/2006/relationships/audio" Target="../media/MTC_046.WAV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ANI_128"/>
          <p:cNvPicPr/>
          <p:nvPr/>
        </p:nvPicPr>
        <p:blipFill>
          <a:blip r:embed="rId1"/>
          <a:stretch/>
        </p:blipFill>
        <p:spPr>
          <a:xfrm>
            <a:off x="1042920" y="1413000"/>
            <a:ext cx="770040" cy="769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ANI_153"/>
          <p:cNvPicPr/>
          <p:nvPr/>
        </p:nvPicPr>
        <p:blipFill>
          <a:blip r:embed="rId2"/>
          <a:stretch/>
        </p:blipFill>
        <p:spPr>
          <a:xfrm rot="21302400">
            <a:off x="-20160" y="1932120"/>
            <a:ext cx="10845720" cy="21812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5"/>
          <p:cNvSpPr/>
          <p:nvPr/>
        </p:nvSpPr>
        <p:spPr>
          <a:xfrm>
            <a:off x="1835280" y="1557360"/>
            <a:ext cx="27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Unit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ANI_129"/>
          <p:cNvPicPr/>
          <p:nvPr/>
        </p:nvPicPr>
        <p:blipFill>
          <a:blip r:embed="rId3"/>
          <a:stretch/>
        </p:blipFill>
        <p:spPr>
          <a:xfrm>
            <a:off x="3924360" y="1413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CUTS_020"/>
          <p:cNvPicPr/>
          <p:nvPr/>
        </p:nvPicPr>
        <p:blipFill>
          <a:blip r:embed="rId4"/>
          <a:stretch/>
        </p:blipFill>
        <p:spPr>
          <a:xfrm>
            <a:off x="3962520" y="533520"/>
            <a:ext cx="609480" cy="5698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 rot="21172800">
            <a:off x="1692360" y="2708280"/>
            <a:ext cx="77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Comic Sans MS"/>
                <a:ea typeface="宋体"/>
              </a:rPr>
              <a:t>School Th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O(1Y@DG[NDPPQ8X]`4W]6`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762120" y="6094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有一些蜡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990720" y="62164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，我没有蜡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900000" y="260280"/>
            <a:ext cx="3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1187280" y="2708280"/>
            <a:ext cx="3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圆角矩形标注 11"/>
          <p:cNvGrpSpPr/>
          <p:nvPr/>
        </p:nvGrpSpPr>
        <p:grpSpPr>
          <a:xfrm>
            <a:off x="971640" y="1773360"/>
            <a:ext cx="6735600" cy="1041120"/>
            <a:chOff x="971640" y="1773360"/>
            <a:chExt cx="6735600" cy="1041120"/>
          </a:xfrm>
        </p:grpSpPr>
        <p:pic>
          <p:nvPicPr>
            <p:cNvPr id="607" name="圆角矩形标注 11" descr=""/>
            <p:cNvPicPr/>
            <p:nvPr/>
          </p:nvPicPr>
          <p:blipFill>
            <a:blip r:embed="rId1"/>
            <a:stretch/>
          </p:blipFill>
          <p:spPr>
            <a:xfrm>
              <a:off x="971640" y="1773360"/>
              <a:ext cx="67356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6"/>
            <p:cNvSpPr/>
            <p:nvPr/>
          </p:nvSpPr>
          <p:spPr>
            <a:xfrm>
              <a:off x="1081080" y="1857240"/>
              <a:ext cx="644076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Do have 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用于一、二人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圆角矩形标注 8"/>
          <p:cNvGrpSpPr/>
          <p:nvPr/>
        </p:nvGrpSpPr>
        <p:grpSpPr>
          <a:xfrm>
            <a:off x="826920" y="3789360"/>
            <a:ext cx="6735600" cy="1042920"/>
            <a:chOff x="826920" y="3789360"/>
            <a:chExt cx="6735600" cy="1042920"/>
          </a:xfrm>
        </p:grpSpPr>
        <p:pic>
          <p:nvPicPr>
            <p:cNvPr id="610" name="圆角矩形标注 8" descr=""/>
            <p:cNvPicPr/>
            <p:nvPr/>
          </p:nvPicPr>
          <p:blipFill>
            <a:blip r:embed="rId2"/>
            <a:stretch/>
          </p:blipFill>
          <p:spPr>
            <a:xfrm>
              <a:off x="826920" y="3789360"/>
              <a:ext cx="67356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9"/>
            <p:cNvSpPr/>
            <p:nvPr/>
          </p:nvSpPr>
          <p:spPr>
            <a:xfrm>
              <a:off x="934920" y="3873600"/>
              <a:ext cx="64404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Do I/Do they /you have /they ha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Rectangle 11"/>
          <p:cNvSpPr/>
          <p:nvPr/>
        </p:nvSpPr>
        <p:spPr>
          <a:xfrm>
            <a:off x="4389480" y="285840"/>
            <a:ext cx="30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"/>
          <p:cNvSpPr/>
          <p:nvPr/>
        </p:nvSpPr>
        <p:spPr>
          <a:xfrm>
            <a:off x="1273680" y="592596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14"/>
          <p:cNvSpPr/>
          <p:nvPr/>
        </p:nvSpPr>
        <p:spPr>
          <a:xfrm>
            <a:off x="6319440" y="59878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3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FOY9B$W_0E[U~5P_Z%${3{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3"/>
          <p:cNvSpPr/>
          <p:nvPr/>
        </p:nvSpPr>
        <p:spPr>
          <a:xfrm>
            <a:off x="533520" y="8380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珍妮有一些蜡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762120" y="58672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的，她有一些蜡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1"/>
          <p:cNvSpPr/>
          <p:nvPr/>
        </p:nvSpPr>
        <p:spPr>
          <a:xfrm>
            <a:off x="900000" y="260280"/>
            <a:ext cx="3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1187280" y="2708280"/>
            <a:ext cx="3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圆角矩形标注 11"/>
          <p:cNvGrpSpPr/>
          <p:nvPr/>
        </p:nvGrpSpPr>
        <p:grpSpPr>
          <a:xfrm>
            <a:off x="1258920" y="2276640"/>
            <a:ext cx="6735600" cy="1041120"/>
            <a:chOff x="1258920" y="2276640"/>
            <a:chExt cx="6735600" cy="1041120"/>
          </a:xfrm>
        </p:grpSpPr>
        <p:pic>
          <p:nvPicPr>
            <p:cNvPr id="621" name="圆角矩形标注 11" descr=""/>
            <p:cNvPicPr/>
            <p:nvPr/>
          </p:nvPicPr>
          <p:blipFill>
            <a:blip r:embed="rId1"/>
            <a:stretch/>
          </p:blipFill>
          <p:spPr>
            <a:xfrm>
              <a:off x="1258920" y="2276640"/>
              <a:ext cx="67356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6"/>
            <p:cNvSpPr/>
            <p:nvPr/>
          </p:nvSpPr>
          <p:spPr>
            <a:xfrm>
              <a:off x="1368360" y="2360520"/>
              <a:ext cx="644076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Does/has 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用于单数三人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圆角矩形标注 8"/>
          <p:cNvGrpSpPr/>
          <p:nvPr/>
        </p:nvGrpSpPr>
        <p:grpSpPr>
          <a:xfrm>
            <a:off x="1332000" y="3933720"/>
            <a:ext cx="6735600" cy="1042920"/>
            <a:chOff x="1332000" y="3933720"/>
            <a:chExt cx="6735600" cy="1042920"/>
          </a:xfrm>
        </p:grpSpPr>
        <p:pic>
          <p:nvPicPr>
            <p:cNvPr id="624" name="圆角矩形标注 8" descr=""/>
            <p:cNvPicPr/>
            <p:nvPr/>
          </p:nvPicPr>
          <p:blipFill>
            <a:blip r:embed="rId2"/>
            <a:stretch/>
          </p:blipFill>
          <p:spPr>
            <a:xfrm>
              <a:off x="1332000" y="3933720"/>
              <a:ext cx="67356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9"/>
            <p:cNvSpPr/>
            <p:nvPr/>
          </p:nvSpPr>
          <p:spPr>
            <a:xfrm>
              <a:off x="1440000" y="4017960"/>
              <a:ext cx="64404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11"/>
          <p:cNvSpPr/>
          <p:nvPr/>
        </p:nvSpPr>
        <p:spPr>
          <a:xfrm>
            <a:off x="4356000" y="260280"/>
            <a:ext cx="3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3"/>
          <p:cNvSpPr/>
          <p:nvPr/>
        </p:nvSpPr>
        <p:spPr>
          <a:xfrm>
            <a:off x="1464120" y="5925960"/>
            <a:ext cx="41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e\he\it\ Tony  …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4"/>
          <p:cNvSpPr/>
          <p:nvPr/>
        </p:nvSpPr>
        <p:spPr>
          <a:xfrm>
            <a:off x="6319440" y="59878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7" descr="457788"/>
          <p:cNvPicPr/>
          <p:nvPr/>
        </p:nvPicPr>
        <p:blipFill>
          <a:blip r:embed="rId1"/>
          <a:stretch/>
        </p:blipFill>
        <p:spPr>
          <a:xfrm>
            <a:off x="7215120" y="472428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630" name="WordArt 4"/>
          <p:cNvSpPr txBox="1"/>
          <p:nvPr/>
        </p:nvSpPr>
        <p:spPr>
          <a:xfrm>
            <a:off x="1116000" y="3168720"/>
            <a:ext cx="684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Remember and Repe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657520" y="1866960"/>
            <a:ext cx="15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395280" y="1700280"/>
            <a:ext cx="7705800" cy="173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) Ask students: Do you have any…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395280" y="4221000"/>
            <a:ext cx="6840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(2) Ask teacher: Does ___  (she/he) have any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>
            <a:hlinkClick r:id="rId1" action="ppaction://hlinksldjump"/>
          </p:cNvPr>
          <p:cNvSpPr/>
          <p:nvPr/>
        </p:nvSpPr>
        <p:spPr>
          <a:xfrm>
            <a:off x="0" y="981000"/>
            <a:ext cx="2879640" cy="21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>
            <a:hlinkClick r:id="rId2" action="ppaction://hlinksldjump"/>
          </p:cNvPr>
          <p:cNvSpPr/>
          <p:nvPr/>
        </p:nvSpPr>
        <p:spPr>
          <a:xfrm>
            <a:off x="3132000" y="907920"/>
            <a:ext cx="2880000" cy="216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>
            <a:hlinkClick r:id="rId3" action="ppaction://hlinksldjump"/>
          </p:cNvPr>
          <p:cNvSpPr/>
          <p:nvPr/>
        </p:nvSpPr>
        <p:spPr>
          <a:xfrm>
            <a:off x="0" y="4076640"/>
            <a:ext cx="2879640" cy="210492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>
            <a:hlinkClick r:id="rId4" action="ppaction://hlinksldjump"/>
          </p:cNvPr>
          <p:cNvSpPr/>
          <p:nvPr/>
        </p:nvSpPr>
        <p:spPr>
          <a:xfrm>
            <a:off x="6264360" y="765000"/>
            <a:ext cx="2879640" cy="216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>
            <a:hlinkClick r:id="rId5" action="ppaction://hlinksldjump"/>
          </p:cNvPr>
          <p:cNvSpPr/>
          <p:nvPr/>
        </p:nvSpPr>
        <p:spPr>
          <a:xfrm>
            <a:off x="6264360" y="3933720"/>
            <a:ext cx="2879640" cy="2105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7">
            <a:hlinkClick r:id="rId6" action="ppaction://hlinksldjump"/>
          </p:cNvPr>
          <p:cNvSpPr/>
          <p:nvPr/>
        </p:nvSpPr>
        <p:spPr>
          <a:xfrm>
            <a:off x="4284720" y="6453360"/>
            <a:ext cx="358560" cy="404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">
            <a:hlinkClick r:id="rId7" action="ppaction://hlinksldjump"/>
          </p:cNvPr>
          <p:cNvSpPr/>
          <p:nvPr/>
        </p:nvSpPr>
        <p:spPr>
          <a:xfrm>
            <a:off x="3059280" y="4076640"/>
            <a:ext cx="2879640" cy="21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8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>
            <a:hlinkClick r:id="rId1" action="ppaction://hlinksldjump"/>
          </p:cNvPr>
          <p:cNvSpPr/>
          <p:nvPr/>
        </p:nvSpPr>
        <p:spPr>
          <a:xfrm>
            <a:off x="3132000" y="981000"/>
            <a:ext cx="2880000" cy="216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>
            <a:hlinkClick r:id="rId2" action="ppaction://hlinksldjump"/>
          </p:cNvPr>
          <p:cNvSpPr/>
          <p:nvPr/>
        </p:nvSpPr>
        <p:spPr>
          <a:xfrm>
            <a:off x="108000" y="4076640"/>
            <a:ext cx="2879640" cy="210492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>
            <a:hlinkClick r:id="rId3" action="ppaction://hlinksldjump"/>
          </p:cNvPr>
          <p:cNvSpPr/>
          <p:nvPr/>
        </p:nvSpPr>
        <p:spPr>
          <a:xfrm>
            <a:off x="6156360" y="981000"/>
            <a:ext cx="2879640" cy="216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>
            <a:hlinkClick r:id="rId4" action="ppaction://hlinksldjump"/>
          </p:cNvPr>
          <p:cNvSpPr/>
          <p:nvPr/>
        </p:nvSpPr>
        <p:spPr>
          <a:xfrm>
            <a:off x="3132000" y="4060800"/>
            <a:ext cx="2880000" cy="21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>
            <a:hlinkClick r:id="rId5" action="ppaction://hlinksldjump"/>
          </p:cNvPr>
          <p:cNvSpPr/>
          <p:nvPr/>
        </p:nvSpPr>
        <p:spPr>
          <a:xfrm>
            <a:off x="6156360" y="4060800"/>
            <a:ext cx="2879640" cy="21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7">
            <a:hlinkClick r:id="rId6" action="ppaction://hlinksldjump"/>
          </p:cNvPr>
          <p:cNvSpPr/>
          <p:nvPr/>
        </p:nvSpPr>
        <p:spPr>
          <a:xfrm>
            <a:off x="4284720" y="6453360"/>
            <a:ext cx="358560" cy="404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u=861250345,427642348&amp;fm=90&amp;gp=0">
            <a:hlinkClick r:id="rId7" action="ppaction://hlinksldjump"/>
          </p:cNvPr>
          <p:cNvPicPr/>
          <p:nvPr/>
        </p:nvPicPr>
        <p:blipFill>
          <a:blip r:embed="rId8"/>
          <a:srcRect l="0" t="0" r="0" b="6325"/>
          <a:stretch/>
        </p:blipFill>
        <p:spPr>
          <a:xfrm>
            <a:off x="250920" y="981000"/>
            <a:ext cx="2808360" cy="209088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9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>
            <a:hlinkClick r:id="rId1" action="ppaction://hlinksldjump"/>
          </p:cNvPr>
          <p:cNvSpPr/>
          <p:nvPr/>
        </p:nvSpPr>
        <p:spPr>
          <a:xfrm>
            <a:off x="108000" y="981000"/>
            <a:ext cx="2879640" cy="21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>
            <a:hlinkClick r:id="rId2" action="ppaction://hlinksldjump"/>
          </p:cNvPr>
          <p:cNvSpPr/>
          <p:nvPr/>
        </p:nvSpPr>
        <p:spPr>
          <a:xfrm>
            <a:off x="3132000" y="981000"/>
            <a:ext cx="2880000" cy="216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>
            <a:hlinkClick r:id="rId3" action="ppaction://hlinksldjump"/>
          </p:cNvPr>
          <p:cNvSpPr/>
          <p:nvPr/>
        </p:nvSpPr>
        <p:spPr>
          <a:xfrm>
            <a:off x="108000" y="4076640"/>
            <a:ext cx="2879640" cy="210492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>
            <a:hlinkClick r:id="rId4" action="ppaction://hlinksldjump"/>
          </p:cNvPr>
          <p:cNvSpPr/>
          <p:nvPr/>
        </p:nvSpPr>
        <p:spPr>
          <a:xfrm>
            <a:off x="3132000" y="4060800"/>
            <a:ext cx="2880000" cy="21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>
            <a:hlinkClick r:id="rId5" action="ppaction://hlinksldjump"/>
          </p:cNvPr>
          <p:cNvSpPr/>
          <p:nvPr/>
        </p:nvSpPr>
        <p:spPr>
          <a:xfrm>
            <a:off x="6156360" y="4060800"/>
            <a:ext cx="2879640" cy="21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7">
            <a:hlinkClick r:id="rId6" action="ppaction://hlinksldjump"/>
          </p:cNvPr>
          <p:cNvSpPr/>
          <p:nvPr/>
        </p:nvSpPr>
        <p:spPr>
          <a:xfrm>
            <a:off x="4284720" y="6453360"/>
            <a:ext cx="358560" cy="404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74ebe0bf8b246922-6202f549befd4af7-81511efe31e42658d289034a7901e71d"/>
          <p:cNvPicPr/>
          <p:nvPr/>
        </p:nvPicPr>
        <p:blipFill>
          <a:blip r:embed="rId7"/>
          <a:stretch/>
        </p:blipFill>
        <p:spPr>
          <a:xfrm>
            <a:off x="6227640" y="981000"/>
            <a:ext cx="266400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8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>
            <a:hlinkClick r:id="rId1" action="ppaction://hlinksldjump"/>
          </p:cNvPr>
          <p:cNvSpPr/>
          <p:nvPr/>
        </p:nvSpPr>
        <p:spPr>
          <a:xfrm>
            <a:off x="108000" y="981000"/>
            <a:ext cx="2879640" cy="21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>
            <a:hlinkClick r:id="rId2" action="ppaction://hlinksldjump"/>
          </p:cNvPr>
          <p:cNvSpPr/>
          <p:nvPr/>
        </p:nvSpPr>
        <p:spPr>
          <a:xfrm>
            <a:off x="108000" y="4076640"/>
            <a:ext cx="2879640" cy="210492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>
            <a:hlinkClick r:id="rId3" action="ppaction://hlinksldjump"/>
          </p:cNvPr>
          <p:cNvSpPr/>
          <p:nvPr/>
        </p:nvSpPr>
        <p:spPr>
          <a:xfrm>
            <a:off x="6156360" y="981000"/>
            <a:ext cx="2879640" cy="216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>
            <a:hlinkClick r:id="rId4" action="ppaction://hlinksldjump"/>
          </p:cNvPr>
          <p:cNvSpPr/>
          <p:nvPr/>
        </p:nvSpPr>
        <p:spPr>
          <a:xfrm>
            <a:off x="3132000" y="4060800"/>
            <a:ext cx="2880000" cy="21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>
            <a:hlinkClick r:id="rId5" action="ppaction://hlinksldjump"/>
          </p:cNvPr>
          <p:cNvSpPr/>
          <p:nvPr/>
        </p:nvSpPr>
        <p:spPr>
          <a:xfrm>
            <a:off x="6156360" y="4060800"/>
            <a:ext cx="2879640" cy="21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>
            <a:hlinkClick r:id="rId6" action="ppaction://hlinksldjump"/>
          </p:cNvPr>
          <p:cNvSpPr/>
          <p:nvPr/>
        </p:nvSpPr>
        <p:spPr>
          <a:xfrm>
            <a:off x="4284720" y="6453360"/>
            <a:ext cx="358560" cy="404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7"/>
          <a:stretch/>
        </p:blipFill>
        <p:spPr>
          <a:xfrm>
            <a:off x="3571920" y="1357200"/>
            <a:ext cx="1876320" cy="132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p:transition>
    <p:push dir="r"/>
    <p:sndAc>
      <p:stSnd>
        <p:snd r:embed="rId8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>
            <a:hlinkClick r:id="rId1" action="ppaction://hlinksldjump"/>
          </p:cNvPr>
          <p:cNvSpPr/>
          <p:nvPr/>
        </p:nvSpPr>
        <p:spPr>
          <a:xfrm>
            <a:off x="108000" y="981000"/>
            <a:ext cx="2879640" cy="21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>
            <a:hlinkClick r:id="rId2" action="ppaction://hlinksldjump"/>
          </p:cNvPr>
          <p:cNvSpPr/>
          <p:nvPr/>
        </p:nvSpPr>
        <p:spPr>
          <a:xfrm>
            <a:off x="3132000" y="981000"/>
            <a:ext cx="2880000" cy="216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>
            <a:hlinkClick r:id="rId3" action="ppaction://hlinksldjump"/>
          </p:cNvPr>
          <p:cNvSpPr/>
          <p:nvPr/>
        </p:nvSpPr>
        <p:spPr>
          <a:xfrm>
            <a:off x="6156360" y="981000"/>
            <a:ext cx="2879640" cy="216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>
            <a:hlinkClick r:id="rId4" action="ppaction://hlinksldjump"/>
          </p:cNvPr>
          <p:cNvSpPr/>
          <p:nvPr/>
        </p:nvSpPr>
        <p:spPr>
          <a:xfrm>
            <a:off x="3132000" y="4060800"/>
            <a:ext cx="2880000" cy="21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>
            <a:hlinkClick r:id="rId5" action="ppaction://hlinksldjump"/>
          </p:cNvPr>
          <p:cNvSpPr/>
          <p:nvPr/>
        </p:nvSpPr>
        <p:spPr>
          <a:xfrm>
            <a:off x="6156360" y="4060800"/>
            <a:ext cx="2879640" cy="21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>
            <a:hlinkClick r:id="rId6" action="ppaction://hlinksldjump"/>
          </p:cNvPr>
          <p:cNvSpPr/>
          <p:nvPr/>
        </p:nvSpPr>
        <p:spPr>
          <a:xfrm>
            <a:off x="4284720" y="6453360"/>
            <a:ext cx="358560" cy="404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e79a8706efd117f6-d20c2c70387e4933-3c23aeb0f43acaddc66e15f8fed0d364_i"/>
          <p:cNvPicPr/>
          <p:nvPr/>
        </p:nvPicPr>
        <p:blipFill>
          <a:blip r:embed="rId7"/>
          <a:srcRect l="0" t="0" r="0" b="7473"/>
          <a:stretch/>
        </p:blipFill>
        <p:spPr>
          <a:xfrm>
            <a:off x="0" y="3786120"/>
            <a:ext cx="2627280" cy="235764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8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>
            <a:hlinkClick r:id="rId1"/>
          </p:cNvPr>
          <p:cNvSpPr/>
          <p:nvPr/>
        </p:nvSpPr>
        <p:spPr>
          <a:xfrm>
            <a:off x="108000" y="981000"/>
            <a:ext cx="2879640" cy="21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>
            <a:hlinkClick r:id="rId2"/>
          </p:cNvPr>
          <p:cNvSpPr/>
          <p:nvPr/>
        </p:nvSpPr>
        <p:spPr>
          <a:xfrm>
            <a:off x="3132000" y="981000"/>
            <a:ext cx="2880000" cy="216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>
            <a:hlinkClick r:id="rId3"/>
          </p:cNvPr>
          <p:cNvSpPr/>
          <p:nvPr/>
        </p:nvSpPr>
        <p:spPr>
          <a:xfrm>
            <a:off x="179280" y="4076640"/>
            <a:ext cx="2881440" cy="210492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>
            <a:hlinkClick r:id="rId4"/>
          </p:cNvPr>
          <p:cNvSpPr/>
          <p:nvPr/>
        </p:nvSpPr>
        <p:spPr>
          <a:xfrm>
            <a:off x="6156360" y="981000"/>
            <a:ext cx="2879640" cy="216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">
            <a:hlinkClick r:id="rId5"/>
          </p:cNvPr>
          <p:cNvSpPr/>
          <p:nvPr/>
        </p:nvSpPr>
        <p:spPr>
          <a:xfrm>
            <a:off x="6084720" y="4076640"/>
            <a:ext cx="2880000" cy="21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4284720" y="6453360"/>
            <a:ext cx="358560" cy="404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e913d5abd825f3da-e155622e8506ae25-cc6feeebc082eb7292c1e5287b28ea1a"/>
          <p:cNvPicPr/>
          <p:nvPr/>
        </p:nvPicPr>
        <p:blipFill>
          <a:blip r:embed="rId6"/>
          <a:stretch/>
        </p:blipFill>
        <p:spPr>
          <a:xfrm>
            <a:off x="3143160" y="4000680"/>
            <a:ext cx="2981520" cy="199044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7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>
            <a:hlinkClick r:id="rId1"/>
          </p:cNvPr>
          <p:cNvSpPr/>
          <p:nvPr/>
        </p:nvSpPr>
        <p:spPr>
          <a:xfrm>
            <a:off x="108000" y="981000"/>
            <a:ext cx="2879640" cy="21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>
            <a:hlinkClick r:id="rId2"/>
          </p:cNvPr>
          <p:cNvSpPr/>
          <p:nvPr/>
        </p:nvSpPr>
        <p:spPr>
          <a:xfrm>
            <a:off x="3132000" y="981000"/>
            <a:ext cx="2880000" cy="216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>
            <a:hlinkClick r:id="rId3"/>
          </p:cNvPr>
          <p:cNvSpPr/>
          <p:nvPr/>
        </p:nvSpPr>
        <p:spPr>
          <a:xfrm>
            <a:off x="108000" y="4076640"/>
            <a:ext cx="2879640" cy="210492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>
            <a:hlinkClick r:id="rId4"/>
          </p:cNvPr>
          <p:cNvSpPr/>
          <p:nvPr/>
        </p:nvSpPr>
        <p:spPr>
          <a:xfrm>
            <a:off x="6156360" y="981000"/>
            <a:ext cx="2879640" cy="216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>
            <a:hlinkClick r:id="rId5"/>
          </p:cNvPr>
          <p:cNvSpPr/>
          <p:nvPr/>
        </p:nvSpPr>
        <p:spPr>
          <a:xfrm>
            <a:off x="3132000" y="4060800"/>
            <a:ext cx="2880000" cy="21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4284720" y="6453360"/>
            <a:ext cx="358560" cy="404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8" descr="1c152e05f9831896-b60c3f15b7828d49-a638e35bd0977f9c5c67445c46c94555"/>
          <p:cNvPicPr/>
          <p:nvPr/>
        </p:nvPicPr>
        <p:blipFill>
          <a:blip r:embed="rId6"/>
          <a:stretch/>
        </p:blipFill>
        <p:spPr>
          <a:xfrm>
            <a:off x="6372360" y="371628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7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大富翁2"/>
          <p:cNvPicPr/>
          <p:nvPr/>
        </p:nvPicPr>
        <p:blipFill>
          <a:blip r:embed="rId1"/>
          <a:srcRect l="0" t="0" r="0" b="53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baoruan_com_130938_6_176x220_src"/>
          <p:cNvPicPr/>
          <p:nvPr/>
        </p:nvPicPr>
        <p:blipFill>
          <a:blip r:embed="rId2"/>
          <a:stretch/>
        </p:blipFill>
        <p:spPr>
          <a:xfrm>
            <a:off x="4859280" y="1773360"/>
            <a:ext cx="723960" cy="904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129213PKB0-329325"/>
          <p:cNvPicPr/>
          <p:nvPr/>
        </p:nvPicPr>
        <p:blipFill>
          <a:blip r:embed="rId3"/>
          <a:stretch/>
        </p:blipFill>
        <p:spPr>
          <a:xfrm>
            <a:off x="6300720" y="180972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7"/>
          <p:cNvSpPr/>
          <p:nvPr/>
        </p:nvSpPr>
        <p:spPr>
          <a:xfrm rot="10800000">
            <a:off x="1563840" y="1524960"/>
            <a:ext cx="3536640" cy="2166840"/>
          </a:xfrm>
          <a:prstGeom prst="wedgeEllipseCallout">
            <a:avLst>
              <a:gd name="adj1" fmla="val -69930"/>
              <a:gd name="adj2" fmla="val -9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1857240" y="2000160"/>
            <a:ext cx="3516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 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际小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4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C_002.WAV"/>
                                        </p:tgtEl>
                                      </p:cMediaNode>
                                    </p:audio>
                                    <p:animMotion origin="layout" path="M -1.94444E-006 -3.88619E-007 C -0.00886 0.02522 -0.01754 0.05066 -0.01771 0.07217 C -0.01788 0.09369 -0.01024 0.11705 -0.00122 0.12862 C 0.00781 0.14018 0.02083 0.14388 0.03646 0.14111 C 0.05208 0.13833 0.07986 0.127 0.09288 0.1115 C 0.1059 0.096 0.10712 0.06778 0.11406 0.04881 C 0.12101 0.02984 0.12951 0.01365 0.1342 -0.003 C 0.13889 -0.01966 0.13889 -0.03446 0.14236 -0.05158 C 0.14583 -0.0687 0.15278 -0.08813 0.15538 -0.10641 C 0.15799 -0.12468 0.15399 -0.14342 0.15764 -0.16123 C 0.16128 -0.17904 0.17049 -0.20102 0.1776 -0.21304 C 0.18472 -0.22507 0.19184 -0.22785 0.2 -0.2334 C 0.20816 -0.23895 0.20833 -0.24659 0.22708 -0.24589 C 0.24583 -0.2452 0.29028 -0.24404 0.31302 -0.22877 C 0.33576 -0.21351 0.35781 -0.17696 0.36354 -0.15359 C 0.36927 -0.13023 0.35555 -0.10617 0.34705 -0.08929 C 0.33854 -0.0724 0.32986 -0.06176 0.31302 -0.05158 C 0.29618 -0.0414 0.26406 -0.0414 0.24583 -0.02799 C 0.2276 -0.01457 0.20799 0.00926 0.20347 0.02822 C 0.19896 0.04719 0.19965 0.07287 0.21875 0.08628 C 0.23785 0.0997 0.27778 0.10387 0.31771 0.10826 E">
                                      <p:cBhvr>
                                        <p:cTn id="71" dur="5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C_04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41:59Z</dcterms:created>
  <dc:creator/>
  <dc:description/>
  <dc:language>en-US</dc:language>
  <cp:lastModifiedBy/>
  <dcterms:modified xsi:type="dcterms:W3CDTF">2016-12-28T03:29:23Z</dcterms:modified>
  <cp:revision>1</cp:revision>
  <dc:subject/>
  <dc:title/>
</cp:coreProperties>
</file>