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mera.wav" ContentType="audio/x-wav"/>
  <Override PartName="/ppt/media/breeze.wav" ContentType="audio/x-wav"/>
  <Override PartName="/ppt/media/image11.png" ContentType="image/png"/>
  <Override PartName="/ppt/media/image9.jpeg" ContentType="image/jpeg"/>
  <Override PartName="/ppt/media/cashreg.wav" ContentType="audio/x-wav"/>
  <Override PartName="/ppt/media/wind.wav" ContentType="audio/x-wav"/>
  <Override PartName="/ppt/media/chimes.wav" ContentType="audio/x-wav"/>
  <Override PartName="/ppt/media/suction.wav" ContentType="audio/x-wav"/>
  <Override PartName="/ppt/media/image8.jpeg" ContentType="image/jpeg"/>
  <Override PartName="/ppt/media/whoosh.wav" ContentType="audio/x-wav"/>
  <Override PartName="/ppt/media/image5.png" ContentType="image/png"/>
  <Override PartName="/ppt/media/applause.wav" ContentType="audio/x-wav"/>
  <Override PartName="/ppt/media/click.wav" ContentType="audio/x-wav"/>
  <Override PartName="/ppt/media/type.wav" ContentType="audio/x-wav"/>
  <Override PartName="/ppt/media/image14.jpeg" ContentType="image/jpeg"/>
  <Override PartName="/ppt/media/image15.png" ContentType="image/png"/>
  <Override PartName="/ppt/media/drumroll.wav" ContentType="audio/x-wav"/>
  <Override PartName="/ppt/media/image12.jpeg" ContentType="image/jpeg"/>
  <Override PartName="/ppt/media/image4.png" ContentType="image/png"/>
  <Override PartName="/ppt/media/image16.jpeg" ContentType="image/jpeg"/>
  <Override PartName="/ppt/media/laser.wav" ContentType="audio/x-wav"/>
  <Override PartName="/ppt/media/image3.jpeg" ContentType="image/jpeg"/>
  <Override PartName="/ppt/media/voltage.wav" ContentType="audio/x-wav"/>
  <Override PartName="/ppt/media/hammer.wav" ContentType="audio/x-wav"/>
  <Override PartName="/ppt/media/image2.jpeg" ContentType="image/jpeg"/>
  <Override PartName="/ppt/media/push.wav" ContentType="audio/x-wav"/>
  <Override PartName="/ppt/media/image10.png" ContentType="image/png"/>
  <Override PartName="/ppt/media/image1.jpeg" ContentType="image/jpeg"/>
  <Override PartName="/ppt/media/image7.png" ContentType="image/png"/>
  <Override PartName="/ppt/media/image6.png" ContentType="image/png"/>
  <Override PartName="/ppt/media/arrow.wav" ContentType="audio/x-wav"/>
  <Override PartName="/ppt/media/image13.jpeg" ContentType="image/jpeg"/>
  <Override PartName="/ppt/media/explode.wav" ContentType="audio/x-wav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731B-2C39-41D4-A9A4-7137327DC1F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4D0-B5E1-450D-B30C-54095643906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D72-630B-4701-B897-EE340229FE4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272-C4AD-4381-B0B2-1E182BBAC8E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99B-A945-417F-8E47-AA6B02DB328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0CD-8BF9-474B-B5C0-D18AFE21BB5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29F1-4CCF-4513-A3E6-BC1F8F0D019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4C77-E5FE-4186-8160-CA3033671E2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F4E8-B771-4A01-94F5-62754E49049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323-9C07-467E-BD47-DC339DE94C8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FE9-39C0-440C-9D0B-6C9DE85B7BF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34C-9127-45A1-AA7E-10E725EF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A89-DA19-45B7-9E25-B9384190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8408-5807-45F3-9D7D-2CC69D7D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CA19-34D6-4B04-B321-50365A6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CE7B-AB8A-4424-B6EF-C7943B0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39526-29A5-4960-BC76-1F9CEE1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3DF56-814C-4F61-92C3-DA93B6C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647FB-5DDB-4512-AE2B-D8FF5F8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4DF8-CFF8-443D-B582-7EDD7B4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8CC4-C17A-487B-A06A-03A236F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BE6F4-0654-43CF-8A9F-9E285E5B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82287-D316-4594-9304-4F8F2FE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273-BE7D-4A25-AB58-A0B8B6BE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AA03D-A26C-4F39-A320-701CE88D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F685F-50AF-462D-A9CB-E7B45D0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CA34A-CE22-4254-B99E-808B7949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C3604-D011-4398-A2B4-FAF2A17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9A0D8-9AA3-4600-8144-E5B86105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C43CE-1AB6-4790-B06A-8549F99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C132E-7723-4CD6-8EE3-EF7FDD3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41DA3-670C-408C-A698-A119A8B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2BD8B-15CB-4EF1-B729-2BE3F9F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BB69-053A-4315-A952-CEF95ACC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43D-B944-4A81-8AD8-1C44E34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FEB1D-F379-4A26-8E5B-86FCAB4B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79650-556A-4443-85EA-D5AE692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A768A-48E9-46FB-8AF6-AFD94CB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FF8F-A59D-455E-8D77-7563E176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4486D-830A-45C9-84ED-7530D27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D0F3-1886-43D1-A65A-19E1B35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31052-F638-4709-9822-EAFE56D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FBEA2-BE5B-41A6-8F65-8AA9B67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9788E-4962-4193-8B5B-AD88A11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79F10-427B-4335-8404-2323041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0517-7578-4BE3-AC0A-6B8E206B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12EDD-9C91-43C8-9F9A-C9FDACC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96C9D-91C9-468A-A212-0C46A09E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C74EE-A318-4B5E-9524-C97C4E92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7BD64-2148-42D0-BBAE-D987DF4A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C989F-F634-4EF0-B247-80C9768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84504-D510-4485-813A-0F8C62E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FB20-8008-47E1-9981-27FC1B6A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670DE-7EC3-4722-B5F3-FC20F42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00939-6064-4A5B-9845-86324ECC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D525-86CB-475C-A5D2-F9617C5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5F1-5AFA-4002-A578-E9A6244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787F-EBA3-401C-893F-A9E7F97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C406E-F564-4BEE-8C82-31D5B78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3B7F4-DFDF-496A-BB12-CEFC183D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34A24-7D46-4D80-ACE4-7C5294D2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71734-AC46-425D-8F3C-37BC6D92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EDD5F-5D24-487A-866D-567D337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47F2F-D0E5-4CB6-8E90-24510FF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95526-270D-428C-94C8-5F4BB64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54E0A-FFE8-4D99-BE45-7888F80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65600-8B84-4F06-88E6-616B21CA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201F-2DC9-427C-8B1C-3E8CF1C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B034C-BB73-4B49-8C3F-F476C340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3962E-9AD7-4DBB-B204-15FD2A8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FFFAB-C627-421F-B1F5-B5F04CB6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7214C-038B-483B-BA2B-A3E864E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A83B2-911A-4A53-811B-E67B34F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90149-0306-4E48-B7EC-07741DFB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24EC1-2507-4E49-A6E9-E2F7A5CB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8CC5-5116-4FE9-84FB-4D97357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5A61-55FC-433B-AD14-3585DC9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FE3-12FD-4CD6-9025-2B53B2C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0FF9-B5BF-4F66-8E3A-71D98FC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F1A-4CD9-4313-9C8A-77D685B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150C-1F67-437A-99BB-E5B1B88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947-261E-4B1B-96DD-A9203DF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D839-CEE7-4D4F-B0E4-6B77729A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5BB-63D6-4364-B361-CE881CE8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8D41-33B1-403C-BFFC-0F73A3A6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2CDD-2C92-4AF4-89FA-AF39F63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E2CC-9FF0-4053-A560-B7AFDB6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EDC2-3F6B-4D31-B01D-124136F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6553-F4F0-456B-B0D6-498FB349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3F5E-D2FF-4AF7-A52A-88573B3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06B-6266-409D-BBDD-9A102FA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7AEC-892F-40E0-929C-BD07FE19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D87B-0B20-40B5-A1CE-EF38004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8ACB-A232-456D-999B-5747697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594D-6A93-438E-88B2-881A107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4F97-CD41-495A-ABCE-6EBE180B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BF90-CC80-475F-9896-5CE612F0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0AE9-046D-473D-B0B7-BF64E2A4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EB5B-AC23-49C2-8E4F-80150941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ED1B-7453-408A-8A5A-4AE663E9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48C7-508D-48D6-93A4-BC10072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C5A-386C-49AD-92D5-931D5F2F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7E19-842B-4A4D-A56A-A655A07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FAC2-0D66-4A80-8BDD-9F1C5FE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D393-7BA1-493C-959A-0252E56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8088-4BEF-4007-B29A-1CF24FE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3875-37CB-4288-B08D-1577898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D588-E6A0-4656-932C-7962F27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2F9D-AF9C-464B-B2D1-A08CF89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7AE0-21AC-4EC3-BB38-0B1402CD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065F-A530-438C-B181-C59D79F7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B0FA-4D84-44EA-9E5F-11ED27A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8D9-E4C9-4B98-BA48-7245FB6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6541-C20B-4132-AE9E-8964E26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7DDE-6F94-48CF-9098-373A31C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2B04A-BADA-4C9F-A146-7F7A526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BB5D-86BE-4063-9A82-9467CA96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364B-CBEC-4461-97D5-06224FA3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2825-A92E-4155-AF78-CFF507D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FECE-51CA-4FEA-A544-D02F4316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9D11-A699-4EBC-94B7-18EE35B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23B8E-8824-454F-9D95-C55AE2B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D9AE-4AA9-42AA-B5DA-2EB1B99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556-9AF6-468B-8EC7-84C183B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F97A-0F83-40F0-9987-153BD0C3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8D10-A874-4672-B073-3A6E18A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4CEA-E4A5-4CF5-88F0-ADF849A0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6092-86EF-4710-BA1E-EAB8780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B03D-D99B-409E-A57E-0CE18792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ACA7-6DED-4175-9628-3AB1A45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468A-8FB6-4BE7-A59D-8364881D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526B7-16DF-4309-A635-1E94375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DACC9-697D-428D-9F40-7F71676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AD78-5212-45F2-BC8C-56AE8D1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217-0B4A-4542-885B-4EFE94C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8B27-0F6E-4834-AEA1-F56BEE7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EED1-2F94-4E96-96A3-030EC88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D7C7-C5B4-4866-9816-22003575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DAB3-7DAE-46CE-945A-8B157F49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B542-CFD0-4394-AEFA-F100A764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E1C5-F47D-4863-9C90-6D038CD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0883-12EE-471A-B3FF-977B244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F93C-BCB3-456C-98D1-8C132807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08EF-5242-49B6-843E-44A72B94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06B0-F75C-467E-A07E-FE0DFB2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C93-0643-4B04-88AA-A09C12A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83A3-FCA0-492F-B4A5-ADB16B3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C315-C9E1-418C-B9EF-4538363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E2B34-C6EE-404C-87E4-5F50E498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1E924-8146-4982-A4E8-178544EC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299D5-9F30-4A58-9FD7-259B6465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2DC1-BEA8-4AB7-B4B5-2309F58B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A1813-80C4-47FE-A836-7A031D9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58FAD-7A8D-403A-9B66-F8D8A25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53955-6A93-42B5-8FFF-F1E7017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76A70-5E2A-4767-BFA9-DBB59EE8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497-5187-4453-9A5E-A1E2C27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E9FF-D322-4D29-BA14-8A8D4B6B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B8DD-4070-44A8-ABF6-1710EB3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FBC34-5DDF-471A-A794-48DA5FA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7BA7F-C61C-4F0C-B116-5820930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510B-046C-4665-A7A2-0C3BCFF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E98F-4AF5-482B-85A4-1676FF07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8550-E34F-4F3B-8149-523D85FE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13F63-6EF6-4E29-8C0C-FFC0A4F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09007-33FC-45A6-9E47-7C57990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29A9-3C71-415A-A902-7ECCCD43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F2A-5727-448D-ACC5-BD620E123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744D-3D28-4823-BCF1-A511DF8A9283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379-C64D-4417-857A-F1A0021389D4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127D-D8E3-495F-85D3-7BA162A39A28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1B7E-814E-4B4F-B2EA-2A2524AC9F72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DEF9-AA53-4E43-BCB5-D6B256D3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4D0E-38DE-4119-BBE8-64EF89FA7845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4D4-2E78-4BAF-A173-C98B9C539B8D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5C8-3ED4-4068-B24F-C1C994127884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AB3-EB88-4E8B-A3F9-4974EAB84EB9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4874-B09D-4354-8B25-3AF261A201AA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17C6-784E-42A4-A0C5-83D0BC0673A3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7AC-28A1-41DA-BE97-A37E5350BC39}" type="slidenum"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suction.wav"/><Relationship Id="rId5" Type="http://schemas.openxmlformats.org/officeDocument/2006/relationships/audio" Target="../media/whoosh.wav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audio" Target="../media/click.wav"/><Relationship Id="rId6" Type="http://schemas.openxmlformats.org/officeDocument/2006/relationships/audio" Target="../media/breeze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wind.wav"/><Relationship Id="rId5" Type="http://schemas.openxmlformats.org/officeDocument/2006/relationships/audio" Target="../media/breeze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suction.wav"/><Relationship Id="rId7" Type="http://schemas.openxmlformats.org/officeDocument/2006/relationships/audio" Target="../media/arrow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suction.wav"/><Relationship Id="rId7" Type="http://schemas.openxmlformats.org/officeDocument/2006/relationships/audio" Target="../media/push.wav"/><Relationship Id="rId8" Type="http://schemas.openxmlformats.org/officeDocument/2006/relationships/audio" Target="../media/whoosh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audio" Target="../media/suction.wav"/><Relationship Id="rId6" Type="http://schemas.openxmlformats.org/officeDocument/2006/relationships/audio" Target="../media/voltag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t013b00bd3e54626e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WordArt 2"/>
          <p:cNvSpPr txBox="1"/>
          <p:nvPr/>
        </p:nvSpPr>
        <p:spPr>
          <a:xfrm rot="20299800">
            <a:off x="761760" y="1752480"/>
            <a:ext cx="5410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42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Berlin Sans FB"/>
              </a:rPr>
              <a:t>School things</a:t>
            </a:r>
            <a:endParaRPr b="1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42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b_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_ _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c_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pen_ _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p_ _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bl_ _kbo_ _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a_ _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pap_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g_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p_ _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 ca_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胶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黑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笔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蜡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498920" y="1297080"/>
            <a:ext cx="2695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箭头 162"/>
          <p:cNvSpPr/>
          <p:nvPr/>
        </p:nvSpPr>
        <p:spPr>
          <a:xfrm>
            <a:off x="1905120" y="1828800"/>
            <a:ext cx="274320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箭头 163"/>
          <p:cNvSpPr/>
          <p:nvPr/>
        </p:nvSpPr>
        <p:spPr>
          <a:xfrm>
            <a:off x="1981080" y="2362320"/>
            <a:ext cx="2819520" cy="114300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箭头 164"/>
          <p:cNvSpPr/>
          <p:nvPr/>
        </p:nvSpPr>
        <p:spPr>
          <a:xfrm>
            <a:off x="1828800" y="2819520"/>
            <a:ext cx="2895480" cy="2361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箭头 165"/>
          <p:cNvSpPr/>
          <p:nvPr/>
        </p:nvSpPr>
        <p:spPr>
          <a:xfrm>
            <a:off x="2362320" y="3276720"/>
            <a:ext cx="2286000" cy="99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箭头 167"/>
          <p:cNvSpPr/>
          <p:nvPr/>
        </p:nvSpPr>
        <p:spPr>
          <a:xfrm flipV="1">
            <a:off x="2514600" y="2209680"/>
            <a:ext cx="228600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箭头 168"/>
          <p:cNvSpPr/>
          <p:nvPr/>
        </p:nvSpPr>
        <p:spPr>
          <a:xfrm flipV="1">
            <a:off x="3200400" y="3200400"/>
            <a:ext cx="1523880" cy="838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箭头 169"/>
          <p:cNvSpPr/>
          <p:nvPr/>
        </p:nvSpPr>
        <p:spPr>
          <a:xfrm>
            <a:off x="2590920" y="4419720"/>
            <a:ext cx="2133360" cy="3045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箭头 170"/>
          <p:cNvSpPr/>
          <p:nvPr/>
        </p:nvSpPr>
        <p:spPr>
          <a:xfrm>
            <a:off x="2590920" y="4952880"/>
            <a:ext cx="2133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箭头 172"/>
          <p:cNvSpPr/>
          <p:nvPr/>
        </p:nvSpPr>
        <p:spPr>
          <a:xfrm flipV="1">
            <a:off x="1981080" y="2666520"/>
            <a:ext cx="2743200" cy="259092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箭头 173"/>
          <p:cNvSpPr/>
          <p:nvPr/>
        </p:nvSpPr>
        <p:spPr>
          <a:xfrm flipV="1">
            <a:off x="3581280" y="3809880"/>
            <a:ext cx="1219320" cy="190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WordArt 15" descr=""/>
          <p:cNvPicPr/>
          <p:nvPr/>
        </p:nvPicPr>
        <p:blipFill>
          <a:blip r:embed="rId1"/>
          <a:stretch/>
        </p:blipFill>
        <p:spPr>
          <a:xfrm>
            <a:off x="73080" y="-55440"/>
            <a:ext cx="28782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4"/>
          <p:cNvSpPr/>
          <p:nvPr/>
        </p:nvSpPr>
        <p:spPr>
          <a:xfrm>
            <a:off x="1835280" y="33336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 want to go home!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826920" y="1341360"/>
            <a:ext cx="8101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re are two houses for the words.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isten to the words and put them into their home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11280" y="3213000"/>
            <a:ext cx="7920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根据你所听到的单词，点击该单词，让它回到自己的房子！）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t01a54fd78bfaa0c5e7"/>
          <p:cNvPicPr/>
          <p:nvPr/>
        </p:nvPicPr>
        <p:blipFill>
          <a:blip r:embed="rId1"/>
          <a:stretch/>
        </p:blipFill>
        <p:spPr>
          <a:xfrm>
            <a:off x="-147600" y="1440"/>
            <a:ext cx="92916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76320" y="0"/>
            <a:ext cx="376560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WordArt 3"/>
          <p:cNvSpPr txBox="1"/>
          <p:nvPr/>
        </p:nvSpPr>
        <p:spPr>
          <a:xfrm>
            <a:off x="533520" y="3733920"/>
            <a:ext cx="2209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bag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3"/>
          <a:stretch/>
        </p:blipFill>
        <p:spPr>
          <a:xfrm>
            <a:off x="5334120" y="0"/>
            <a:ext cx="3765600" cy="3429000"/>
          </a:xfrm>
          <a:prstGeom prst="rect">
            <a:avLst/>
          </a:prstGeom>
          <a:ln w="0">
            <a:noFill/>
          </a:ln>
        </p:spPr>
      </p:pic>
      <p:sp>
        <p:nvSpPr>
          <p:cNvPr id="546" name="WordArt 6"/>
          <p:cNvSpPr txBox="1"/>
          <p:nvPr/>
        </p:nvSpPr>
        <p:spPr>
          <a:xfrm>
            <a:off x="3352680" y="3962520"/>
            <a:ext cx="289584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wo bags</a:t>
            </a:r>
            <a:endParaRPr b="1" i="1" lang="en-US" sz="20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WordArt 2"/>
          <p:cNvSpPr txBox="1"/>
          <p:nvPr/>
        </p:nvSpPr>
        <p:spPr>
          <a:xfrm>
            <a:off x="609480" y="3809880"/>
            <a:ext cx="2743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map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3165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165480"/>
          </a:xfrm>
          <a:prstGeom prst="rect">
            <a:avLst/>
          </a:prstGeom>
          <a:ln w="0">
            <a:noFill/>
          </a:ln>
        </p:spPr>
      </p:pic>
      <p:sp>
        <p:nvSpPr>
          <p:cNvPr id="551" name="WordArt 6"/>
          <p:cNvSpPr txBox="1"/>
          <p:nvPr/>
        </p:nvSpPr>
        <p:spPr>
          <a:xfrm>
            <a:off x="3200400" y="3657600"/>
            <a:ext cx="3429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wo maps</a:t>
            </a:r>
            <a:endParaRPr b="1" i="1" lang="en-US" sz="20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WordArt 2"/>
          <p:cNvSpPr txBox="1"/>
          <p:nvPr/>
        </p:nvSpPr>
        <p:spPr>
          <a:xfrm>
            <a:off x="304920" y="358128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pencil case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3059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3059280"/>
          </a:xfrm>
          <a:prstGeom prst="rect">
            <a:avLst/>
          </a:prstGeom>
          <a:ln w="0">
            <a:noFill/>
          </a:ln>
        </p:spPr>
      </p:pic>
      <p:sp>
        <p:nvSpPr>
          <p:cNvPr id="556" name="WordArt 6"/>
          <p:cNvSpPr txBox="1"/>
          <p:nvPr/>
        </p:nvSpPr>
        <p:spPr>
          <a:xfrm>
            <a:off x="3048120" y="3200400"/>
            <a:ext cx="472428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four  pencil cases</a:t>
            </a:r>
            <a:endParaRPr b="1" i="1" lang="en-US" sz="20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WordArt 2"/>
          <p:cNvSpPr txBox="1"/>
          <p:nvPr/>
        </p:nvSpPr>
        <p:spPr>
          <a:xfrm>
            <a:off x="685800" y="35812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blackboard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144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3"/>
          <a:stretch/>
        </p:blipFill>
        <p:spPr>
          <a:xfrm>
            <a:off x="4724280" y="0"/>
            <a:ext cx="4429080" cy="3429000"/>
          </a:xfrm>
          <a:prstGeom prst="rect">
            <a:avLst/>
          </a:prstGeom>
          <a:ln w="0">
            <a:noFill/>
          </a:ln>
        </p:spPr>
      </p:pic>
      <p:sp>
        <p:nvSpPr>
          <p:cNvPr id="561" name="WordArt 6"/>
          <p:cNvSpPr txBox="1"/>
          <p:nvPr/>
        </p:nvSpPr>
        <p:spPr>
          <a:xfrm>
            <a:off x="2971800" y="4038480"/>
            <a:ext cx="3962520" cy="12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wo  blackboards</a:t>
            </a:r>
            <a:endParaRPr b="1" i="1" lang="en-US" sz="20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WordArt 2"/>
          <p:cNvSpPr txBox="1"/>
          <p:nvPr/>
        </p:nvSpPr>
        <p:spPr>
          <a:xfrm>
            <a:off x="3352680" y="3733920"/>
            <a:ext cx="2819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crayons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2895480" y="0"/>
            <a:ext cx="3429000" cy="3505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t01527db7532a771d64"/>
          <p:cNvPicPr/>
          <p:nvPr/>
        </p:nvPicPr>
        <p:blipFill>
          <a:blip r:embed="rId3"/>
          <a:srcRect l="0" t="10855" r="0" b="0"/>
          <a:stretch/>
        </p:blipFill>
        <p:spPr>
          <a:xfrm>
            <a:off x="2514600" y="228600"/>
            <a:ext cx="4267080" cy="3130560"/>
          </a:xfrm>
          <a:prstGeom prst="rect">
            <a:avLst/>
          </a:prstGeom>
          <a:ln w="0">
            <a:noFill/>
          </a:ln>
        </p:spPr>
      </p:pic>
      <p:sp>
        <p:nvSpPr>
          <p:cNvPr id="566" name="WordArt 6"/>
          <p:cNvSpPr txBox="1"/>
          <p:nvPr/>
        </p:nvSpPr>
        <p:spPr>
          <a:xfrm>
            <a:off x="2895480" y="4343400"/>
            <a:ext cx="320040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crayon</a:t>
            </a:r>
            <a:endParaRPr b="1" i="1" lang="en-US" sz="2000" spc="1" strike="noStrike">
              <a:ln w="2844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17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WordArt 2"/>
          <p:cNvSpPr txBox="1"/>
          <p:nvPr/>
        </p:nvSpPr>
        <p:spPr>
          <a:xfrm>
            <a:off x="3048120" y="5181480"/>
            <a:ext cx="297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paper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800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3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t01a54fd78bfaa0c5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2"/>
          <p:cNvSpPr txBox="1"/>
          <p:nvPr/>
        </p:nvSpPr>
        <p:spPr>
          <a:xfrm>
            <a:off x="3581280" y="4495680"/>
            <a:ext cx="2362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9933"/>
                    </a:gs>
                    <a:gs pos="100000">
                      <a:srgbClr val="ff00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glue</a:t>
            </a:r>
            <a:endParaRPr b="1" i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9933"/>
                  </a:gs>
                  <a:gs pos="100000">
                    <a:srgbClr val="ff0066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1440" y="0"/>
            <a:ext cx="3961080" cy="3200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05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3" descr="1688-1401051IJ0.jpg"/>
          <p:cNvPicPr/>
          <p:nvPr/>
        </p:nvPicPr>
        <p:blipFill>
          <a:blip r:embed="rId1"/>
          <a:srcRect l="0" t="0" r="0" b="12006"/>
          <a:stretch/>
        </p:blipFill>
        <p:spPr>
          <a:xfrm>
            <a:off x="0" y="0"/>
            <a:ext cx="4222800" cy="25146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4" descr="1712586_202857047663_2.jpg"/>
          <p:cNvPicPr/>
          <p:nvPr/>
        </p:nvPicPr>
        <p:blipFill>
          <a:blip r:embed="rId2"/>
          <a:srcRect l="0" t="0" r="0" b="5766"/>
          <a:stretch/>
        </p:blipFill>
        <p:spPr>
          <a:xfrm>
            <a:off x="4086360" y="0"/>
            <a:ext cx="5057640" cy="350532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5" descr="7895693_155750731161_2.jpg"/>
          <p:cNvPicPr/>
          <p:nvPr/>
        </p:nvPicPr>
        <p:blipFill>
          <a:blip r:embed="rId3"/>
          <a:srcRect l="0" t="0" r="0" b="4099"/>
          <a:stretch/>
        </p:blipFill>
        <p:spPr>
          <a:xfrm>
            <a:off x="0" y="3295800"/>
            <a:ext cx="5297400" cy="35622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6"/>
          <p:cNvSpPr/>
          <p:nvPr/>
        </p:nvSpPr>
        <p:spPr>
          <a:xfrm>
            <a:off x="5344560" y="4786200"/>
            <a:ext cx="36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ree  picture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5574240" y="419112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3:12:37Z</dcterms:created>
  <dc:creator/>
  <dc:description/>
  <dc:language>en-US</dc:language>
  <cp:lastModifiedBy/>
  <dcterms:modified xsi:type="dcterms:W3CDTF">2016-12-28T03:31:30Z</dcterms:modified>
  <cp:revision>1</cp:revision>
  <dc:subject/>
  <dc:title/>
</cp:coreProperties>
</file>