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hammer.wav" ContentType="audio/x-wav"/>
  <Override PartName="/ppt/media/image11.jpeg" ContentType="image/jpeg"/>
  <Override PartName="/ppt/media/image9.png" ContentType="image/png"/>
  <Override PartName="/ppt/media/image7.jpeg" ContentType="image/jpeg"/>
  <Override PartName="/ppt/media/image15.gif" ContentType="image/gif"/>
  <Override PartName="/ppt/media/image6.png" ContentType="image/png"/>
  <Override PartName="/ppt/media/image10.jpeg" ContentType="image/jpeg"/>
  <Override PartName="/ppt/media/image8.jpeg" ContentType="image/jpeg"/>
  <Override PartName="/ppt/media/whoosh.wav" ContentType="audio/x-wav"/>
  <Override PartName="/ppt/media/coin.wav" ContentType="audio/x-wav"/>
  <Override PartName="/ppt/media/image4.png" ContentType="image/png"/>
  <Override PartName="/ppt/media/type.wav" ContentType="audio/x-wav"/>
  <Override PartName="/ppt/media/suction.wav" ContentType="audio/x-wav"/>
  <Override PartName="/ppt/media/chimes.wav" ContentType="audio/x-wav"/>
  <Override PartName="/ppt/media/image16.jpeg" ContentType="image/jpeg"/>
  <Override PartName="/ppt/media/wind.wav" ContentType="audio/x-wav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5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dt" idx="76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ftr" idx="77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 type="sldNum" idx="78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4408-F714-4DB0-94FE-1A664E4701C4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80B3-DC01-4DDC-AEB9-05FCDE0A9178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210B-6B6A-4858-984D-BC6D3C4A88E3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E2FF-5620-42DE-AC7F-03B26B63D605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77EC-8312-4426-ABB1-919F8FDED69A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9359-2C94-4049-8789-20F5429306A8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5DEE-1EEB-49BB-A0DD-A0B88A237219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787D-E10C-4120-8020-1D1B47834F30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9571-8EAF-41B0-8ADD-EB720812BDAE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83B2-CC45-4970-A255-2A7FE3955E15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388A-D259-4200-B1D6-1B371F31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14C7-BB2B-4F7F-A8A5-230A25A2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9CAC4-2A29-4483-9854-4353F2FA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90166-A565-4F14-8073-46E6B66C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891B8-9194-4F12-8CA5-EB4280C5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2916B-0047-4057-AB5F-E05E7039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C3DE9-DB5B-4315-8AF1-EE379602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6E85D-010C-4EFD-B848-2D870ED6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4F0E5-1A9F-4107-8DE1-888CFB68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F390F-BD00-4AD8-A3DB-A4EF6E80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94A0C-B7C2-4D00-8EF5-9F89ED02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8669A-80BB-4E56-B9FE-5936EAEC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14A-593F-4795-830B-A204E5A1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3B6E1-1DC5-4140-8C43-AECDBE8B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D3349-B39A-4A0A-9445-1B36B023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AC087-CDC8-4B5D-A1E1-37A800FA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5575C-9959-42E5-9F4E-F7814F22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51105-352C-4616-92A3-4C559B79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87674-A7A0-4C82-A8B8-CD9827DE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C1CCB-6FA9-4E59-A09C-275A9CE4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22E25-9004-441A-8512-A48B62F6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402EB-2647-46A7-BEE1-9C297573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6CCF7-4AF4-4D14-8CFB-74E9737A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7293-7B1F-40D5-B820-5FBB0B69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5F69D-067F-401A-BC28-6977B3CE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B99B9-6340-4F96-AC4B-43E519A2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6AC11-F948-4534-8CA9-A135631D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7F9C4-EE2D-4CD8-96E0-C4675171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2242A-1765-4387-B135-3982F589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74513-5AB9-4FCD-A8D7-93595318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1FEE1-FBAC-4BB0-81C6-6DEF5316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C60A8-439F-414C-BC20-5A384568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EE1EB-8D10-4709-A4FE-78F9D4AB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D6DCE-AF17-4990-BB5A-99164170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67A2-3059-46AD-BD4D-9A8648F3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CBF62-D187-4D73-BB75-12C3282B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146AD-C4D8-4760-A185-707F29FB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718A8-D740-42B6-BE77-5F27065D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41649-5579-43C9-8547-5987E806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D7293-9693-40F0-B867-5F500788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E0F34-F5A5-412E-9660-467D68CA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83DC4-7A5D-4D59-A033-AE035567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834CD-822F-4310-89C7-7CF974B4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F1A8A-0A43-4A7E-B0A3-FDBD7C39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016CF-2637-481B-82B9-3000E9A4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CBAF-A158-47A5-BDCC-B495E43C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6EB07-E5AC-45B0-8F06-1E5DA7AC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E66BE-68F0-425D-8E1C-21E28583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620D5-E50A-4228-9853-94C004E0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487D4-C0E3-409C-8551-D54F563A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2A8F7-FE81-44C8-B621-D4464EB4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5AD52-8DA9-4CF1-9D3C-86703876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A6260A-11A3-45E8-ADC8-64A21315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1B16DC-362A-4B9A-8797-0D4737C8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44F80-843E-410E-A114-4A64871B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96B4B-D0D8-441B-8307-2679D56F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8596-5AEA-4DAA-9F7C-B53A259F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599B3-02B1-47CC-A387-3858FF92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1DA01-B9C5-48B1-9E04-DF36993B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D31F69-33D6-43CE-93D1-CD22C48A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F172D-1419-435D-AE9C-74D89BB4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6D9EF-0104-4D2C-91A2-2AF68E8B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62F0B-7CFE-4EA1-9B49-5086B363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1C57E-B494-440D-87AD-CC958362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839AD-84DB-4488-AEF4-31B4D861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80649-7BCF-42B8-8A72-00310A45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A51951-E326-49FE-93F9-0BF11287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BE56-B2FC-47D8-888F-34F26298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FF7703-4AC0-4262-A4D0-FF7F9726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DDD483-746B-45B1-B91D-6FF370E0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EB67DE-3B41-40DB-A796-A4528907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EC83D8-C149-4DCA-B9A2-70F2B25D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70B9C4-9647-4630-94D2-3B0345A1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C560EA-EF1E-476D-AB2F-A5113111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4CEF2F-9855-47BF-8C14-35E86B33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635FE1-4D14-4AEC-A64C-983993C8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96211F-CC92-4EF3-A526-17636051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CD2A25-8BA5-4EE8-9E72-44E313BD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4B2E-3ACA-4603-BF1F-31DF52A1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D1936D-EA65-4B25-98B9-B9542EBC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51D5E-0DDA-45CD-84AA-89F8F13C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97E883-8B54-4381-A371-CDD79A18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2684D8-CEAC-477F-A106-6BC3D29E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7F9D89-8E2C-4732-9106-22E2B533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466E8A-F07C-41A7-A299-F3D3B1A7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316961-ADF1-4187-B50D-F117A31E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077D36-B8E8-405A-8A64-E59A733A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88D734-C2E7-4DB6-9751-DDB4D264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08BB45-C9AF-4EF5-B20D-49FAABC5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295A-F8BA-4B5A-8817-9213087E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E5EC44-76A5-4900-8107-886707F2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82E513-7496-4714-BDEF-B9E4FF3E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ECA184-4D80-45F2-B372-177EDEF0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78ED1E-2F91-41B4-8651-D7587033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CF0E04-8453-4C2B-9CD6-4C725B7D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AAD6DB-DC78-4FBF-BE7E-CB614CC3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57E6E3-459D-4C30-A792-6740264A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45F285-A13A-4B0E-86C9-78F67386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F76133-6D89-4509-B242-18616DB5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DEBA70-A922-4EB7-818E-7CE3EA59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36DB-D52F-49E8-A4DB-7C032F58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4B239B-AAC0-42D0-8560-446E7794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7F60AC-2D7B-4457-9E73-F08AF5AC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866368-1068-4DA9-9569-FDCAEA0A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EB4BC4-EF2A-4D4F-B9BD-8226044B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6244E2-4046-4C1A-81DC-DE9E5227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390780-EFD7-4EF4-8B94-A9DDECF5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5AEC46-4452-49AF-B027-83D4F999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0CC63F-D57A-4CC9-80D9-D22C7F9D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C9C452-E0EA-4E16-AE79-CED0E442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F31056-4D2A-462F-911E-CE36E849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70D6-CB99-43E6-A258-6FAC6EB5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01B1-B271-417B-9F32-0B0995F4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693D1D-083A-489A-BCB2-4671C1D4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A300DB-E795-40FD-85F6-D6C3BE24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39112F-4EE5-40D8-AFEC-6D586D27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994B9A-4B8E-4F21-B89E-5E162324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FA9C7B-7EE8-4EB1-9645-F5C6E01E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06EC8A-D2C0-4F78-BC79-3EB3B558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E8A799-DA82-45C3-8F7B-117B5953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803C5A-C0A9-4108-81B2-BCD05939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7DAA6A-4065-4CB4-8ED0-5C6B2DE5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395DBC-76F1-4E44-919A-FFAE5DD6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F533-EE4C-4B7C-A9F3-F856E935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020FF7-37B1-45EF-802A-8692E2EF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9FE962-44CD-479E-A0DB-ADAA1045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B6AA9B-8C2F-4866-A411-24D9ABCC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847044-C412-4081-8FF4-3A6D49EE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AF9C11-AD1D-40A0-9B4C-6C5B8C83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98D27F-3A39-4597-8393-0CB9E1BA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20AA39-738D-4A6D-B6F9-57E09712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AD8C87-7BF4-407B-84E7-C53CCB9F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96AEA1-62D6-494A-8807-A0287CAA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AFE182-22EA-4C42-9ADC-FAF9DABD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3E18-8FFA-4CD3-A229-4D79EFE7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8537D9-336E-4839-B4AB-51E98893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5D4B33-36A2-4FEE-B78A-7094A565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50338E-CC45-453F-BE30-D104BD2C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297B39-AB61-414D-BB1E-E7640FBE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17A20E-85B2-420A-A773-AF19F341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BF2403-A250-4FA0-AB13-62D6D776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86DA91-02E1-4947-935B-F71B685E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72D948-8CE6-4B2C-A608-36F82248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1629FA-BB9C-4A6D-ADA6-DACB6061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728431-6611-43A0-BD4A-92F83188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8C97-ACBA-4034-A95E-1090165F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21CD76-678E-4A10-B461-7FA84245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A1D684-D31D-4ED3-855A-C18F3F17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65C247-7F28-4236-A4B5-CF95006F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14C6D4-9D98-4025-8E97-AB5E0695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57D1AC-E793-45B4-8E07-83E9A546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4C9815-2461-4129-9648-D4F8E523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E16E48-2EC8-4DBB-951A-34EACFD4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31C1A4-02D8-4AE8-A9F5-84C35D99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09C328-74B2-432F-B4E7-88C9AF35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BB5201-5716-4935-8E29-9F6CAEEA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309E-8DAA-4F1B-9BA3-0BD7AB34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BAF4B2-EDF6-4C60-B9D5-200AA593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82329E-BCB0-4C3A-A933-A4A78198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51FC97-D137-4C71-B050-FAF8DF89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3BF915-77F7-49C6-AED4-6844A78F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BF704F-02BA-4A5C-AB21-864157A4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93A6A1-6F61-4532-A332-7FCC3968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794DB1-733E-4231-AFA9-CE071F35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B6E2F7-FB2B-4465-8089-0EBE19E6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901C8A-3F19-4C6D-B85C-D6D210BE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34C2F9-D17D-4637-BAC3-920494F1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1EB8C-448B-4BEB-8E38-2BEA4E4F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D9ADB3-AA4B-4583-8E8C-366E67C3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555E12-8E37-4B00-A1C4-F2EABCC8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5D125C-82C2-4BE1-AAC6-10C310B1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D64985-2DE3-4DAC-B4C4-DA7020B2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9769D6-A33A-426E-9646-BCA2605F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B1574B-635D-4AA9-A23E-73EE0DC2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FFE7E8-147E-4893-B3D0-9E1EE99A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3CC54D-B49B-4164-9F2D-9849B0CF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104DF3-1B9D-4E6D-8C38-BB24950E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950E1E-60D8-4023-8E7D-98C34B1E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7965E-3F6F-46EE-AE3F-377C84BD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D458D0-4926-4A7E-87BC-5903509A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5DB3D5-7F54-4CF5-9D4C-91461C75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717908-2618-43C7-B226-F1FF5CAF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64B0DE-42A9-472D-9C67-1697A4A7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7E60B3-83DC-4554-88B7-A3D4EABB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E3DB34-8EF5-4566-9C36-B1EC7E71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22DEC4-18D9-42F2-85F4-A994A40B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FE3352-6F45-460B-ACF3-D2229899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368613-F791-4EC1-BC11-8A007072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6BF285-B9EC-4AD3-9E0A-7B7D58AD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52078-885D-44F3-A8FA-F067E66A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9F7B65-CF6E-4E5D-BF7E-2033E370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7F4C9F-2B9A-4191-BA5A-599F02E9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12C13A-5C28-4CEE-B7E8-1A9CE8CC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5728C0-E522-4656-9E9B-5CB8B89D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4E40FE-4078-43E0-BC03-E1BE598E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F6DBFB-7988-4BCC-B5B1-E6A2C46D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9CE7EA-CE51-4E34-8D4C-442DF0B1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E081CB-4E9A-40A5-A5EB-7E83983B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0A8DE1-FEB3-458A-99A6-8A5316DC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818197-97AA-42CF-B1D0-FBC8E932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1AB01-67B5-4547-BE82-CC4D5C79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48A072-37E6-4E07-BE14-D45DD29A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18F3EA-C709-4238-9230-2B00F719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543552-3DC8-4FDB-AD02-5B4B2BE3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857469-706D-4922-BD18-B002C9DA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D14B0D-71AF-4F1C-875F-06998388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27A282-1B5F-4857-B9F7-945724DC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A9FE90-7BAA-465D-8CA4-8BBB19FB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ED7762-9EC7-469F-83A0-B48502A0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C9CC6B-3892-4DCF-B9FE-3D151556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14C8BE-D91B-4E59-815B-B09F366D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04685-429F-4BA9-9C95-79301BEB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52BC96-9C8C-42CC-A48C-AAAB636D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7058D2-35A2-41DC-B6C0-A5CB039B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F7F11F-BF4B-406D-B43F-CE3DF831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49097A-27C3-4DAD-AA6A-34321DCB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A0656D-3246-40A5-87E2-D72E1FD5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2AA734-1EFD-41D8-AAA8-A1611BB0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5B4BA3-6E2A-42A1-8499-5D4163D0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8E8ED4-F9EB-4913-A76A-388F50D2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8DFF28-ADA7-4060-AAB8-C3425037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E92583-80F5-4C4B-A5C3-60D60E02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BA4D-9DC5-4AC2-B57B-43BA7C09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B5AA3-B498-4A72-AB75-223B0BB1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5B631E-ACA3-4D86-8173-33CD5ACC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EA41F-8232-44A8-8F24-9B2DE6F7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E726C-F831-44F6-A960-6D83FF94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144AE-512E-4453-AB33-2C10A59F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55C86-F7F5-42B9-98D9-2CFC60F5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ADA1A-F692-4189-B071-216CB190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207B3-AB81-4035-A499-749A1623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90221-B704-439B-968B-C717D078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3523C-FBC1-41C9-8FA8-75D2158B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132CB-9552-4E62-90C8-8D5C44F0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224-368B-4CE8-8B17-F308F090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324D6-F546-4F1A-800B-A8E70C82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9E42C-1237-47A8-9239-07292A39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F6F58-8EB0-4248-83BC-001F7A85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E3E58-9706-4E8E-A396-1FDCA642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5CDDB-0FB0-4DC6-B125-3558F122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219F9-71DE-4982-A4C2-38E554F9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AB8AA-F0B5-4E9B-913E-7C0396F2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1BB89-FF07-4980-B5CF-47EBF612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EF0DD-4C82-4E72-9B34-A3239325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0099C-EE87-448D-A7EB-C0522876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DAA-4DC9-4B0F-BF92-9D1CBAF8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3FEE4-3274-4C89-85A1-38FBAE37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E983A-2E1D-47DB-B54F-39A69B68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2C0D7-370B-4F72-B2BC-5E3267F6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6A57E-D668-4DD4-9AF2-1B5B4612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27DF7-2DE1-4158-A72E-7A24B921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0A2EE-483F-436D-8CEF-3086CEF1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2D972-999D-42DF-BD4A-3E9309AF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C6D45-2E4D-4D4B-B6DB-E26E38F1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CD6D7-A78D-4E35-82C7-D892E109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E4452-2C11-4189-92CB-946A8CE0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3133-37DB-42CF-ACC9-BE0E9F08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C8550-8B04-45B8-8D6B-00479F96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DC0A1-9F73-44E8-9F71-FC9665D4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3B5A9-C2A7-44B3-AC9F-AC3E9D90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40427-2E51-4CB6-AC48-74BEDCE8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AF1B7-1EC9-40D3-910D-961CB590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B6EFA-E28E-4BF8-9D97-49E4ED96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EC911-3FC9-4953-97FE-0E9EB687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985E3-0398-4D98-99FE-72A56E06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50342-8882-41D5-8A4B-226ADFCF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A6564-8DFC-4F4E-9345-27603CF6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E704-E87B-4F6D-9B35-FFF8272B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3153D-60A5-4DD9-80EF-B12960B0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86DCC-8CE5-4B48-AC04-385AC3B9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35D16-60E2-409E-AEF6-6FE46467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F547F-0A05-4905-B8A4-2A796E7E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B3D40-4570-4E6D-B277-D7A1C96A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D4A63-4A6E-4BAC-9F0A-2B87D2AC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2CE8F-0E40-41F2-B870-C0512F26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EFE10-F771-4F21-8E87-17A2828C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643CC-D29E-464E-9A2A-8CBEFD49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DA6F7-73BE-4A2E-BF77-8FF0E844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B39-FAF2-4D04-9E5E-68CD440D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34D04-0F0A-4F71-9AF7-4C4DA04F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76924-1395-4454-9FA3-10C95CB4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1F25B-ED30-428B-A17E-4D9FD63C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337F3-46E2-402D-8B37-25FBF2E5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8716F-8F07-47F9-8B42-2D75E201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F38BC-2D78-45ED-88A0-4FC9DA34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3CF12-3C0F-4FB3-B628-C2FDBA2C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6F7C9-59A7-442A-8519-FD83379E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E669C-C27C-4881-A44F-9022FB89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386E0-9833-4878-8E05-A4AC30D6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BA3-9A85-4172-AA3A-18AB5DB3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349BF-1777-41D2-881F-50A03D8F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5A135-AEDC-460D-BC1C-F5C1133F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EC64A-A5C1-4EBB-ABF3-40A7155C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4573A-8E16-4CC2-9B4A-774AF7C4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67202-F7DB-438F-9B93-C5097E1F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CD230-7671-420D-8229-355F512F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1EBAC-8E77-4B16-82DE-26FD1F14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FDA4E-D772-4272-A083-6E360FB5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C6579-AA95-4145-AC20-9CC99FD8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C6227-4971-4333-92A4-AA67DF83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0662-BD9D-45B8-86D8-091983CE64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2338-745C-4C38-92B1-9B90F72B309C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6381-FCAA-4581-ABD9-469B7C1C12F5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FD1E-A058-4051-8838-BBF3C5AD3E07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12F9-0EA1-4867-A6C2-BFC090F19D2C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0E0D-F755-48BB-B5C4-2F88C24A8046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6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87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0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DFCE-5FB9-4697-9FC1-203C6EC1BA47}" type="slidenum">
              <a:rPr b="1" i="1" lang="zh-CN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6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37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40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543E-C974-4840-914D-DA4E28B65877}" type="slidenum">
              <a:rPr b="1" i="1" lang="zh-CN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86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87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0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5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EF24-7960-48FA-8A9A-A68D2DD7F35E}" type="slidenum">
              <a:rPr b="1" i="1" lang="zh-CN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36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37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40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5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26BD-C046-43B8-AC7C-71B6C66DBBB0}" type="slidenum">
              <a:rPr b="1" i="1" lang="zh-CN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86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87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90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6358-2000-426B-8647-271B2A6D2EB3}" type="slidenum">
              <a:rPr b="1" i="1" lang="zh-CN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2CEB-511E-4F47-86AD-1416EAB16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36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37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40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61C7-66E9-4C6E-8B94-81C862001EB6}" type="slidenum">
              <a:rPr b="1" i="1" lang="zh-CN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86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87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9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90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6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4D69-47CC-4116-83B0-E9BC61A8D3EE}" type="slidenum">
              <a:rPr b="1" i="1" lang="zh-CN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36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37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40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6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97DA-C475-43FC-BC12-B7FE5B5594D5}" type="slidenum">
              <a:rPr b="1" i="1" lang="zh-CN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单圆角矩形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任意多边形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任意多边形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6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CAC8-8361-46A6-A687-F113E6FFA74E}" type="slidenum">
              <a:rPr b="1" i="1" lang="zh-CN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0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1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32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4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35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8DBF-E53A-4C96-BD29-9843FBD831B3}" type="slidenum">
              <a:rPr b="1" i="1" lang="zh-CN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81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82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4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85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 type="sldNum" idx="7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87AC-0B27-4B20-89A9-0BEC649907FA}" type="slidenum">
              <a:rPr b="1" i="1" lang="zh-CN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1015-45B1-4C22-AC7E-A2D9620035A6}" type="slidenum">
              <a:rPr b="0" lang="zh-CN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0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1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4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E4F2-F96F-4B56-A58E-FC7DA183DE5F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EBCE-0947-4373-8BC6-43BEBF3DEF9C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8FA8-E1BA-47CE-8A89-3AE54989B7AB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1498-94B6-448F-AA9A-E215D2FEBA3E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B883-3BC1-44EA-8B4D-90F4DD0BCDA9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9F60-0989-43FF-BD67-25D5DF41850F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audio" Target="../media/wind.wav"/><Relationship Id="rId6" Type="http://schemas.openxmlformats.org/officeDocument/2006/relationships/audio" Target="../media/chimes.wav"/><Relationship Id="rId7" Type="http://schemas.openxmlformats.org/officeDocument/2006/relationships/audio" Target="../media/suction.wav"/><Relationship Id="rId8" Type="http://schemas.openxmlformats.org/officeDocument/2006/relationships/audio" Target="../media/whoosh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hammer.wav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Picture 2" descr="t013b00bd3e54626e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6" name="WordArt 2"/>
          <p:cNvSpPr txBox="1"/>
          <p:nvPr/>
        </p:nvSpPr>
        <p:spPr>
          <a:xfrm rot="20299800">
            <a:off x="761760" y="1752480"/>
            <a:ext cx="54100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42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Berlin Sans FB"/>
              </a:rPr>
              <a:t>School things</a:t>
            </a:r>
            <a:endParaRPr b="1" i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42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Berlin Sans FB"/>
              <a:ea typeface="Berlin Sans FB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图片 3" descr="Target3.jpg"/>
          <p:cNvPicPr/>
          <p:nvPr/>
        </p:nvPicPr>
        <p:blipFill>
          <a:blip r:embed="rId1"/>
          <a:stretch/>
        </p:blipFill>
        <p:spPr>
          <a:xfrm>
            <a:off x="1428840" y="0"/>
            <a:ext cx="5510160" cy="7095960"/>
          </a:xfrm>
          <a:prstGeom prst="rect">
            <a:avLst/>
          </a:prstGeom>
          <a:ln w="0">
            <a:noFill/>
          </a:ln>
        </p:spPr>
      </p:pic>
      <p:sp>
        <p:nvSpPr>
          <p:cNvPr id="1198" name="圆角矩形标注 4"/>
          <p:cNvSpPr/>
          <p:nvPr/>
        </p:nvSpPr>
        <p:spPr>
          <a:xfrm>
            <a:off x="5143680" y="928800"/>
            <a:ext cx="3714480" cy="612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圆角矩形标注 5"/>
          <p:cNvSpPr/>
          <p:nvPr/>
        </p:nvSpPr>
        <p:spPr>
          <a:xfrm>
            <a:off x="0" y="2786040"/>
            <a:ext cx="3857760" cy="612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13" descr="2009111607330775"/>
          <p:cNvPicPr/>
          <p:nvPr/>
        </p:nvPicPr>
        <p:blipFill>
          <a:blip r:embed="rId1"/>
          <a:srcRect l="0" t="5562" r="0" b="4885"/>
          <a:stretch/>
        </p:blipFill>
        <p:spPr>
          <a:xfrm>
            <a:off x="0" y="2514600"/>
            <a:ext cx="4516560" cy="419112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8" descr="2009111607330775"/>
          <p:cNvPicPr/>
          <p:nvPr/>
        </p:nvPicPr>
        <p:blipFill>
          <a:blip r:embed="rId2"/>
          <a:srcRect l="0" t="5199" r="0" b="3326"/>
          <a:stretch/>
        </p:blipFill>
        <p:spPr>
          <a:xfrm>
            <a:off x="4722840" y="2514600"/>
            <a:ext cx="4421160" cy="4191120"/>
          </a:xfrm>
          <a:prstGeom prst="rect">
            <a:avLst/>
          </a:prstGeom>
          <a:ln w="0">
            <a:noFill/>
          </a:ln>
        </p:spPr>
      </p:pic>
      <p:sp>
        <p:nvSpPr>
          <p:cNvPr id="1139" name="TextBox 10"/>
          <p:cNvSpPr/>
          <p:nvPr/>
        </p:nvSpPr>
        <p:spPr>
          <a:xfrm>
            <a:off x="536040" y="21420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ag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11"/>
          <p:cNvSpPr/>
          <p:nvPr/>
        </p:nvSpPr>
        <p:spPr>
          <a:xfrm>
            <a:off x="5524920" y="1571760"/>
            <a:ext cx="125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map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12"/>
          <p:cNvSpPr/>
          <p:nvPr/>
        </p:nvSpPr>
        <p:spPr>
          <a:xfrm>
            <a:off x="3304440" y="285840"/>
            <a:ext cx="29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pencil case 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13"/>
          <p:cNvSpPr/>
          <p:nvPr/>
        </p:nvSpPr>
        <p:spPr>
          <a:xfrm>
            <a:off x="6429240" y="428760"/>
            <a:ext cx="176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picture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14"/>
          <p:cNvSpPr/>
          <p:nvPr/>
        </p:nvSpPr>
        <p:spPr>
          <a:xfrm>
            <a:off x="101880" y="1500120"/>
            <a:ext cx="20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crayon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s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15"/>
          <p:cNvSpPr/>
          <p:nvPr/>
        </p:nvSpPr>
        <p:spPr>
          <a:xfrm>
            <a:off x="2158560" y="1500120"/>
            <a:ext cx="291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lackboard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Box 16"/>
          <p:cNvSpPr/>
          <p:nvPr/>
        </p:nvSpPr>
        <p:spPr>
          <a:xfrm>
            <a:off x="6997320" y="1214280"/>
            <a:ext cx="159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paper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Box 17"/>
          <p:cNvSpPr/>
          <p:nvPr/>
        </p:nvSpPr>
        <p:spPr>
          <a:xfrm>
            <a:off x="1959840" y="642960"/>
            <a:ext cx="12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glue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11"/>
          <p:cNvSpPr/>
          <p:nvPr/>
        </p:nvSpPr>
        <p:spPr>
          <a:xfrm>
            <a:off x="609480" y="2514600"/>
            <a:ext cx="3240360" cy="764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Constantia"/>
              </a:rPr>
              <a:t>可数名词屋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10"/>
          <p:cNvSpPr/>
          <p:nvPr/>
        </p:nvSpPr>
        <p:spPr>
          <a:xfrm>
            <a:off x="5181480" y="2514600"/>
            <a:ext cx="3643560" cy="764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Constantia"/>
              </a:rPr>
              <a:t>不可数名词屋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L 0.04236 0.52824 E">
                                      <p:cBhvr>
                                        <p:cTn id="49" dur="2000" fill="hold"/>
                                        <p:tgtEl>
                                          <p:spTgt spid="1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7037E-007 L 0.44497 0.49907 E">
                                      <p:cBhvr>
                                        <p:cTn id="53" dur="2000" fill="hold"/>
                                        <p:tgtEl>
                                          <p:spTgt spid="1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96296E-006 L -0.34826 0.66227 E">
                                      <p:cBhvr>
                                        <p:cTn id="57" dur="2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7 L -0.49115 0.51921 E">
                                      <p:cBhvr>
                                        <p:cTn id="61" dur="2000" fill="hold"/>
                                        <p:tgtEl>
                                          <p:spTgt spid="1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037E-007 L -0.01702 0.57407 E">
                                      <p:cBhvr>
                                        <p:cTn id="65" dur="2000" fill="hold"/>
                                        <p:tgtEl>
                                          <p:spTgt spid="1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7037E-007 L -0.04566 0.55185 E">
                                      <p:cBhvr>
                                        <p:cTn id="69" dur="2000" fill="hold"/>
                                        <p:tgtEl>
                                          <p:spTgt spid="1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6296E-006 L -0.45625 0.61921 E">
                                      <p:cBhvr>
                                        <p:cTn id="73" dur="2000" fill="hold"/>
                                        <p:tgtEl>
                                          <p:spTgt spid="1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7037E-006 L -0.09427 0.56019 E">
                                      <p:cBhvr>
                                        <p:cTn id="77" dur="2000" fill="hold"/>
                                        <p:tgtEl>
                                          <p:spTgt spid="1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Text Box 3"/>
          <p:cNvSpPr/>
          <p:nvPr/>
        </p:nvSpPr>
        <p:spPr>
          <a:xfrm>
            <a:off x="3962520" y="1835280"/>
            <a:ext cx="2057400" cy="109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gl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ue</a:t>
            </a:r>
            <a:r>
              <a:rPr b="1" lang="en-US" sz="6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1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Picture 25" descr="2_002A"/>
          <p:cNvPicPr/>
          <p:nvPr/>
        </p:nvPicPr>
        <p:blipFill>
          <a:blip r:embed="rId1"/>
          <a:srcRect l="39309" t="0" r="36504" b="0"/>
          <a:stretch/>
        </p:blipFill>
        <p:spPr>
          <a:xfrm>
            <a:off x="6134040" y="2666880"/>
            <a:ext cx="1486080" cy="2971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7" descr="u=579877904,1301808372&amp;fm=23&amp;gp=0"/>
          <p:cNvPicPr/>
          <p:nvPr/>
        </p:nvPicPr>
        <p:blipFill>
          <a:blip r:embed="rId2"/>
          <a:stretch/>
        </p:blipFill>
        <p:spPr>
          <a:xfrm>
            <a:off x="4587840" y="2743200"/>
            <a:ext cx="1889280" cy="2952720"/>
          </a:xfrm>
          <a:prstGeom prst="rect">
            <a:avLst/>
          </a:prstGeom>
          <a:ln w="0">
            <a:noFill/>
          </a:ln>
        </p:spPr>
      </p:pic>
      <p:sp>
        <p:nvSpPr>
          <p:cNvPr id="1152" name="Rectangle 28"/>
          <p:cNvSpPr/>
          <p:nvPr/>
        </p:nvSpPr>
        <p:spPr>
          <a:xfrm>
            <a:off x="0" y="0"/>
            <a:ext cx="25146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mic Sans MS"/>
                <a:ea typeface="华文彩云"/>
              </a:rPr>
              <a:t>Let’s learn!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31"/>
          <p:cNvSpPr/>
          <p:nvPr/>
        </p:nvSpPr>
        <p:spPr>
          <a:xfrm>
            <a:off x="3886200" y="1835280"/>
            <a:ext cx="2057400" cy="109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bl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ue</a:t>
            </a:r>
            <a:r>
              <a:rPr b="1" lang="en-US" sz="6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1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32"/>
          <p:cNvSpPr/>
          <p:nvPr/>
        </p:nvSpPr>
        <p:spPr>
          <a:xfrm>
            <a:off x="3962520" y="1758960"/>
            <a:ext cx="2057400" cy="109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gl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ue</a:t>
            </a:r>
            <a:r>
              <a:rPr b="1" lang="en-US" sz="6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1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33"/>
          <p:cNvSpPr/>
          <p:nvPr/>
        </p:nvSpPr>
        <p:spPr>
          <a:xfrm>
            <a:off x="152280" y="936720"/>
            <a:ext cx="7772400" cy="703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o you have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ny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____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34"/>
          <p:cNvSpPr/>
          <p:nvPr/>
        </p:nvSpPr>
        <p:spPr>
          <a:xfrm>
            <a:off x="457200" y="37339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, I don’t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35"/>
          <p:cNvSpPr/>
          <p:nvPr/>
        </p:nvSpPr>
        <p:spPr>
          <a:xfrm>
            <a:off x="457200" y="46926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 don’t hav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ny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___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Picture 2" descr="t01527db7532a771d64"/>
          <p:cNvPicPr/>
          <p:nvPr/>
        </p:nvPicPr>
        <p:blipFill>
          <a:blip r:embed="rId1"/>
          <a:srcRect l="0" t="886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2" descr=""/>
          <p:cNvPicPr/>
          <p:nvPr/>
        </p:nvPicPr>
        <p:blipFill>
          <a:blip r:embed="rId2"/>
          <a:stretch/>
        </p:blipFill>
        <p:spPr>
          <a:xfrm>
            <a:off x="6356520" y="393840"/>
            <a:ext cx="2342880" cy="2549520"/>
          </a:xfrm>
          <a:prstGeom prst="rect">
            <a:avLst/>
          </a:prstGeom>
          <a:ln w="0">
            <a:noFill/>
          </a:ln>
        </p:spPr>
      </p:pic>
      <p:sp>
        <p:nvSpPr>
          <p:cNvPr id="1160" name="Text Box 3"/>
          <p:cNvSpPr/>
          <p:nvPr/>
        </p:nvSpPr>
        <p:spPr>
          <a:xfrm>
            <a:off x="76320" y="831960"/>
            <a:ext cx="570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Do you have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any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paper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4"/>
          <p:cNvSpPr/>
          <p:nvPr/>
        </p:nvSpPr>
        <p:spPr>
          <a:xfrm>
            <a:off x="2895480" y="43657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I don't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2" name="Picture 5" descr=""/>
          <p:cNvPicPr/>
          <p:nvPr/>
        </p:nvPicPr>
        <p:blipFill>
          <a:blip r:embed="rId3"/>
          <a:stretch/>
        </p:blipFill>
        <p:spPr>
          <a:xfrm>
            <a:off x="351000" y="4110120"/>
            <a:ext cx="2201760" cy="240804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3" descr=""/>
          <p:cNvPicPr/>
          <p:nvPr/>
        </p:nvPicPr>
        <p:blipFill>
          <a:blip r:embed="rId4"/>
          <a:stretch/>
        </p:blipFill>
        <p:spPr>
          <a:xfrm>
            <a:off x="3200400" y="1905120"/>
            <a:ext cx="3048120" cy="2604960"/>
          </a:xfrm>
          <a:prstGeom prst="rect">
            <a:avLst/>
          </a:prstGeom>
          <a:ln w="0">
            <a:noFill/>
          </a:ln>
        </p:spPr>
      </p:pic>
      <p:sp>
        <p:nvSpPr>
          <p:cNvPr id="1164" name="TextBox 7"/>
          <p:cNvSpPr/>
          <p:nvPr/>
        </p:nvSpPr>
        <p:spPr>
          <a:xfrm>
            <a:off x="2895480" y="510372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don’t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any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paper.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6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5" name="Picture 2" descr="t01527db7532a771d64"/>
          <p:cNvPicPr/>
          <p:nvPr/>
        </p:nvPicPr>
        <p:blipFill>
          <a:blip r:embed="rId1"/>
          <a:srcRect l="0" t="889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2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2343240" cy="2549520"/>
          </a:xfrm>
          <a:prstGeom prst="rect">
            <a:avLst/>
          </a:prstGeom>
          <a:ln w="0">
            <a:noFill/>
          </a:ln>
        </p:spPr>
      </p:pic>
      <p:sp>
        <p:nvSpPr>
          <p:cNvPr id="1167" name="Text Box 3"/>
          <p:cNvSpPr/>
          <p:nvPr/>
        </p:nvSpPr>
        <p:spPr>
          <a:xfrm>
            <a:off x="380880" y="831960"/>
            <a:ext cx="540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Do you have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any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crayons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4"/>
          <p:cNvSpPr/>
          <p:nvPr/>
        </p:nvSpPr>
        <p:spPr>
          <a:xfrm>
            <a:off x="2590920" y="4365720"/>
            <a:ext cx="571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I do. 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9" name="Picture 5" descr=""/>
          <p:cNvPicPr/>
          <p:nvPr/>
        </p:nvPicPr>
        <p:blipFill>
          <a:blip r:embed="rId3"/>
          <a:stretch/>
        </p:blipFill>
        <p:spPr>
          <a:xfrm>
            <a:off x="6553080" y="228600"/>
            <a:ext cx="2202120" cy="2408400"/>
          </a:xfrm>
          <a:prstGeom prst="rect">
            <a:avLst/>
          </a:prstGeom>
          <a:ln w="0">
            <a:noFill/>
          </a:ln>
        </p:spPr>
      </p:pic>
      <p:sp>
        <p:nvSpPr>
          <p:cNvPr id="1170" name="TextBox 6"/>
          <p:cNvSpPr/>
          <p:nvPr/>
        </p:nvSpPr>
        <p:spPr>
          <a:xfrm>
            <a:off x="2700360" y="541008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some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crayons.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1" name="Picture 2" descr="t01527db7532a771d64"/>
          <p:cNvPicPr/>
          <p:nvPr/>
        </p:nvPicPr>
        <p:blipFill>
          <a:blip r:embed="rId1"/>
          <a:srcRect l="0" t="889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2" descr=""/>
          <p:cNvPicPr/>
          <p:nvPr/>
        </p:nvPicPr>
        <p:blipFill>
          <a:blip r:embed="rId2"/>
          <a:stretch/>
        </p:blipFill>
        <p:spPr>
          <a:xfrm>
            <a:off x="6356520" y="393840"/>
            <a:ext cx="2342880" cy="2549520"/>
          </a:xfrm>
          <a:prstGeom prst="rect">
            <a:avLst/>
          </a:prstGeom>
          <a:ln w="0">
            <a:noFill/>
          </a:ln>
        </p:spPr>
      </p:pic>
      <p:sp>
        <p:nvSpPr>
          <p:cNvPr id="1173" name="Text Box 3"/>
          <p:cNvSpPr/>
          <p:nvPr/>
        </p:nvSpPr>
        <p:spPr>
          <a:xfrm>
            <a:off x="533520" y="907920"/>
            <a:ext cx="563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Does Jenny have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any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crayons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4"/>
          <p:cNvSpPr/>
          <p:nvPr/>
        </p:nvSpPr>
        <p:spPr>
          <a:xfrm>
            <a:off x="2666880" y="434340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e does .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5" name="Picture 5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2201760" cy="2408400"/>
          </a:xfrm>
          <a:prstGeom prst="rect">
            <a:avLst/>
          </a:prstGeom>
          <a:ln w="0">
            <a:noFill/>
          </a:ln>
        </p:spPr>
      </p:pic>
      <p:sp>
        <p:nvSpPr>
          <p:cNvPr id="1176" name="圆角矩形 6"/>
          <p:cNvSpPr/>
          <p:nvPr/>
        </p:nvSpPr>
        <p:spPr>
          <a:xfrm>
            <a:off x="609480" y="1066680"/>
            <a:ext cx="17528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Box 7"/>
          <p:cNvSpPr/>
          <p:nvPr/>
        </p:nvSpPr>
        <p:spPr>
          <a:xfrm>
            <a:off x="1370520" y="4572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第三人称单数，动词要变化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圆角矩形 8"/>
          <p:cNvSpPr/>
          <p:nvPr/>
        </p:nvSpPr>
        <p:spPr>
          <a:xfrm>
            <a:off x="5867280" y="4572000"/>
            <a:ext cx="160020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Box 9"/>
          <p:cNvSpPr/>
          <p:nvPr/>
        </p:nvSpPr>
        <p:spPr>
          <a:xfrm>
            <a:off x="2895480" y="556272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Box 10"/>
          <p:cNvSpPr/>
          <p:nvPr/>
        </p:nvSpPr>
        <p:spPr>
          <a:xfrm>
            <a:off x="2514600" y="510372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he has 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some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crayons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圆角矩形 11"/>
          <p:cNvSpPr/>
          <p:nvPr/>
        </p:nvSpPr>
        <p:spPr>
          <a:xfrm>
            <a:off x="3962520" y="5334120"/>
            <a:ext cx="121896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BQ200949220427"/>
          <p:cNvPicPr/>
          <p:nvPr/>
        </p:nvPicPr>
        <p:blipFill>
          <a:blip r:embed="rId1"/>
          <a:stretch/>
        </p:blipFill>
        <p:spPr>
          <a:xfrm>
            <a:off x="6477120" y="4952880"/>
            <a:ext cx="2514600" cy="1774800"/>
          </a:xfrm>
          <a:prstGeom prst="rect">
            <a:avLst/>
          </a:prstGeom>
          <a:ln w="0">
            <a:noFill/>
          </a:ln>
        </p:spPr>
      </p:pic>
      <p:sp>
        <p:nvSpPr>
          <p:cNvPr id="1183" name="Text Box 4"/>
          <p:cNvSpPr/>
          <p:nvPr/>
        </p:nvSpPr>
        <p:spPr>
          <a:xfrm>
            <a:off x="1474920" y="2330280"/>
            <a:ext cx="6603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都可表示“一些，或许”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用在肯定句中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用在否定和疑问句中。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WordArt 3"/>
          <p:cNvSpPr txBox="1"/>
          <p:nvPr/>
        </p:nvSpPr>
        <p:spPr>
          <a:xfrm>
            <a:off x="609480" y="611280"/>
            <a:ext cx="236232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区别</a:t>
            </a:r>
            <a:endParaRPr b="1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/>
          </p:nvPr>
        </p:nvSpPr>
        <p:spPr>
          <a:xfrm>
            <a:off x="-360" y="76320"/>
            <a:ext cx="906948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Do you have any pencils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(      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NO,i don't have some pencils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.I have any  paper.(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.I have some glues.(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.Does he have some crayons?(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WordArt 3"/>
          <p:cNvSpPr txBox="1"/>
          <p:nvPr/>
        </p:nvSpPr>
        <p:spPr>
          <a:xfrm>
            <a:off x="7010280" y="76320"/>
            <a:ext cx="1257480" cy="86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T</a:t>
            </a:r>
            <a:endParaRPr b="1" i="1" lang="en-US" sz="20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7" name="WordArt 4"/>
          <p:cNvSpPr txBox="1"/>
          <p:nvPr/>
        </p:nvSpPr>
        <p:spPr>
          <a:xfrm>
            <a:off x="7391520" y="1219320"/>
            <a:ext cx="838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F</a:t>
            </a:r>
            <a:endParaRPr b="1" i="1" lang="en-US" sz="20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8" name="WordArt 5"/>
          <p:cNvSpPr txBox="1"/>
          <p:nvPr/>
        </p:nvSpPr>
        <p:spPr>
          <a:xfrm>
            <a:off x="4876920" y="2666880"/>
            <a:ext cx="990360" cy="10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F</a:t>
            </a:r>
            <a:endParaRPr b="1" i="1" lang="en-US" sz="20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9" name="WordArt 6"/>
          <p:cNvSpPr txBox="1"/>
          <p:nvPr/>
        </p:nvSpPr>
        <p:spPr>
          <a:xfrm>
            <a:off x="5106960" y="4038480"/>
            <a:ext cx="876240" cy="109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F</a:t>
            </a:r>
            <a:endParaRPr b="1" i="1" lang="en-US" sz="20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0" name="WordArt 7"/>
          <p:cNvSpPr txBox="1"/>
          <p:nvPr/>
        </p:nvSpPr>
        <p:spPr>
          <a:xfrm>
            <a:off x="7772400" y="5410080"/>
            <a:ext cx="838080" cy="11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F</a:t>
            </a:r>
            <a:endParaRPr b="1" i="1" lang="en-US" sz="20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1" name="WordArt 8"/>
          <p:cNvSpPr txBox="1"/>
          <p:nvPr/>
        </p:nvSpPr>
        <p:spPr>
          <a:xfrm>
            <a:off x="5943600" y="2286000"/>
            <a:ext cx="32004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"T"or"F"</a:t>
            </a:r>
            <a:endParaRPr b="1" i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2" name="图片 3" descr="Target2.jpg"/>
          <p:cNvPicPr/>
          <p:nvPr/>
        </p:nvPicPr>
        <p:blipFill>
          <a:blip r:embed="rId1"/>
          <a:stretch/>
        </p:blipFill>
        <p:spPr>
          <a:xfrm>
            <a:off x="928800" y="0"/>
            <a:ext cx="5429160" cy="6724800"/>
          </a:xfrm>
          <a:prstGeom prst="rect">
            <a:avLst/>
          </a:prstGeom>
          <a:ln w="0">
            <a:noFill/>
          </a:ln>
        </p:spPr>
      </p:pic>
      <p:sp>
        <p:nvSpPr>
          <p:cNvPr id="1193" name="圆角矩形标注 4"/>
          <p:cNvSpPr/>
          <p:nvPr/>
        </p:nvSpPr>
        <p:spPr>
          <a:xfrm>
            <a:off x="1714680" y="1000080"/>
            <a:ext cx="4071600" cy="8272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Box 5"/>
          <p:cNvSpPr/>
          <p:nvPr/>
        </p:nvSpPr>
        <p:spPr>
          <a:xfrm>
            <a:off x="1423440" y="1143000"/>
            <a:ext cx="46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o you have any crayons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圆角矩形标注 6"/>
          <p:cNvSpPr/>
          <p:nvPr/>
        </p:nvSpPr>
        <p:spPr>
          <a:xfrm>
            <a:off x="4500720" y="2214720"/>
            <a:ext cx="4357440" cy="8269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Box 7"/>
          <p:cNvSpPr/>
          <p:nvPr/>
        </p:nvSpPr>
        <p:spPr>
          <a:xfrm>
            <a:off x="4227480" y="2428920"/>
            <a:ext cx="50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,I don’t have any crayons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3:12:37Z</dcterms:created>
  <dc:creator/>
  <dc:description/>
  <dc:language>en-US</dc:language>
  <cp:lastModifiedBy/>
  <dcterms:modified xsi:type="dcterms:W3CDTF">2016-12-28T03:31:46Z</dcterms:modified>
  <cp:revision>1</cp:revision>
  <dc:subject/>
  <dc:title/>
</cp:coreProperties>
</file>