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media/type.wav" ContentType="audio/x-wav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76AE-FEA2-4D5B-80F8-C00AA0FFEE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7DB9-F86B-4B4A-B06F-E8E0A2E7F5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E027-F617-4A66-B2EC-565B31511E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0823-7B30-45EF-877F-F8550936D9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A651-ED70-4D86-BD00-1B59ECFB9F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ABD6-556E-40C1-B90B-B8DBE8A808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0129-C7DB-4774-A38C-23DDCCE2BC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4E8E-80E0-4550-977D-6E2CC19779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4199-A23B-4970-BACD-E19973B8AB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817F-8AF8-4D28-8405-B0EF8ACCE0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B057-0477-4211-BCE6-194C0C08BA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06D4-4A00-469C-BE72-3173AD60E7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0E15-8BE5-4C5E-8A9F-A2C81BA1CA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0847-4F9F-433F-A4C4-2B2CDF089A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C4AB-46A3-417F-8B57-C8BDB21A55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E1B5-D1B9-4D6B-B97E-87A33FE340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0795-126E-46F8-8F25-BDED06316D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368A-B6AA-4EA0-AD39-99DE79D3BD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D762-DBAA-4ACC-9422-19233DE788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995B-A466-4FB3-A357-E5CFCC0152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181B-08E3-42E0-89FE-392405FECC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1146-6D91-43CA-A46A-C577062F4F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B770-27D0-455C-9915-706C8D1628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E74-1A1F-4FE6-B145-DA0C6A54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177-53E3-4401-8D22-533DE8EA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9CB-A6E6-43E0-AC69-A4DF6548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B52-973E-4CF6-84F9-867C0090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40A-9ACA-45E5-AAB4-D6A26190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035-30FA-4893-BA44-5CECDB83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BF2-BEC2-4F78-8A89-10C9E8B7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E87-68BA-4A48-87EC-1B66AC7B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E73-8B75-4BC8-890A-B600CB49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61C-428C-4E33-AA9F-0DD9B524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B7E-2AB0-4EEA-9E71-625E153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1A9-2CA6-4996-AD37-3AAACFFB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23CE-F221-45B4-B4FF-60AB9A96F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1004~1"/>
          <p:cNvPicPr/>
          <p:nvPr/>
        </p:nvPicPr>
        <p:blipFill>
          <a:blip r:embed="rId1"/>
          <a:srcRect l="0" t="0" r="0" b="77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895480" y="914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it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 rot="272400">
            <a:off x="1752120" y="1218960"/>
            <a:ext cx="64771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School Lunc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962520" y="525780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校午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553080" y="4648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QQ图片20130908112029"/>
          <p:cNvPicPr/>
          <p:nvPr/>
        </p:nvPicPr>
        <p:blipFill>
          <a:blip r:embed="rId1"/>
          <a:stretch/>
        </p:blipFill>
        <p:spPr>
          <a:xfrm>
            <a:off x="2133720" y="3809880"/>
            <a:ext cx="3962160" cy="259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rice"/>
          <p:cNvPicPr/>
          <p:nvPr/>
        </p:nvPicPr>
        <p:blipFill>
          <a:blip r:embed="rId2"/>
          <a:stretch/>
        </p:blipFill>
        <p:spPr>
          <a:xfrm>
            <a:off x="1905120" y="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590920" y="3809880"/>
            <a:ext cx="4952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90920" y="525780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have some r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一些米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494177~1"/>
          <p:cNvPicPr/>
          <p:nvPr/>
        </p:nvPicPr>
        <p:blipFill>
          <a:blip r:embed="rId1"/>
          <a:srcRect l="0" t="0" r="0" b="2860"/>
          <a:stretch/>
        </p:blipFill>
        <p:spPr>
          <a:xfrm>
            <a:off x="2209680" y="228600"/>
            <a:ext cx="5410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248520" y="495288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salt"/>
          <p:cNvPicPr/>
          <p:nvPr/>
        </p:nvPicPr>
        <p:blipFill>
          <a:blip r:embed="rId1"/>
          <a:stretch/>
        </p:blipFill>
        <p:spPr>
          <a:xfrm>
            <a:off x="1295280" y="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GCGY9BQCIT@YCKW%7W~LIN3"/>
          <p:cNvPicPr/>
          <p:nvPr/>
        </p:nvPicPr>
        <p:blipFill>
          <a:blip r:embed="rId2"/>
          <a:stretch/>
        </p:blipFill>
        <p:spPr>
          <a:xfrm>
            <a:off x="2971800" y="4495680"/>
            <a:ext cx="25909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514600" y="3886200"/>
            <a:ext cx="4952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590920" y="525780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have some sa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一些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IMG335~1"/>
          <p:cNvPicPr/>
          <p:nvPr/>
        </p:nvPicPr>
        <p:blipFill>
          <a:blip r:embed="rId1"/>
          <a:srcRect l="0" t="0" r="0" b="14288"/>
          <a:stretch/>
        </p:blipFill>
        <p:spPr>
          <a:xfrm>
            <a:off x="2895480" y="76320"/>
            <a:ext cx="4095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477120" y="518148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sugar"/>
          <p:cNvPicPr/>
          <p:nvPr/>
        </p:nvPicPr>
        <p:blipFill>
          <a:blip r:embed="rId1"/>
          <a:stretch/>
        </p:blipFill>
        <p:spPr>
          <a:xfrm>
            <a:off x="1219320" y="0"/>
            <a:ext cx="6324480" cy="474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90UUS~XW9J@F10)VOY$M15Q"/>
          <p:cNvPicPr/>
          <p:nvPr/>
        </p:nvPicPr>
        <p:blipFill>
          <a:blip r:embed="rId2"/>
          <a:stretch/>
        </p:blipFill>
        <p:spPr>
          <a:xfrm>
            <a:off x="1905120" y="434340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514600" y="3657600"/>
            <a:ext cx="4952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90920" y="525780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have some sug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一些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136902~1"/>
          <p:cNvPicPr/>
          <p:nvPr/>
        </p:nvPicPr>
        <p:blipFill>
          <a:blip r:embed="rId1"/>
          <a:srcRect l="0" t="0" r="0" b="4632"/>
          <a:stretch/>
        </p:blipFill>
        <p:spPr>
          <a:xfrm>
            <a:off x="2743200" y="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553080" y="52578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QQ图片20130908112048"/>
          <p:cNvPicPr/>
          <p:nvPr/>
        </p:nvPicPr>
        <p:blipFill>
          <a:blip r:embed="rId1"/>
          <a:stretch/>
        </p:blipFill>
        <p:spPr>
          <a:xfrm>
            <a:off x="1676520" y="4267080"/>
            <a:ext cx="4343400" cy="259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meat"/>
          <p:cNvPicPr/>
          <p:nvPr/>
        </p:nvPicPr>
        <p:blipFill>
          <a:blip r:embed="rId2"/>
          <a:stretch/>
        </p:blipFill>
        <p:spPr>
          <a:xfrm>
            <a:off x="1828800" y="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828800" y="396252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we have any m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一些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04920" y="53341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, we don’t. We need some m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，我们没有。 我们需要一些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34FAE6~1"/>
          <p:cNvPicPr/>
          <p:nvPr/>
        </p:nvPicPr>
        <p:blipFill>
          <a:blip r:embed="rId1"/>
          <a:srcRect l="0" t="0" r="0" b="41673"/>
          <a:stretch/>
        </p:blipFill>
        <p:spPr>
          <a:xfrm>
            <a:off x="2743200" y="15228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705720" y="556272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蔬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vegetabl"/>
          <p:cNvPicPr/>
          <p:nvPr/>
        </p:nvPicPr>
        <p:blipFill>
          <a:blip r:embed="rId1"/>
          <a:stretch/>
        </p:blipFill>
        <p:spPr>
          <a:xfrm>
            <a:off x="609480" y="0"/>
            <a:ext cx="6324840" cy="4743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BRK4]I7AV6~B(2VO)9I[1`J"/>
          <p:cNvPicPr/>
          <p:nvPr/>
        </p:nvPicPr>
        <p:blipFill>
          <a:blip r:embed="rId2"/>
          <a:stretch/>
        </p:blipFill>
        <p:spPr>
          <a:xfrm>
            <a:off x="1371600" y="5072040"/>
            <a:ext cx="4648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143000" y="3886200"/>
            <a:ext cx="76960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have any vege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一些蔬菜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5181480"/>
            <a:ext cx="9906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, we don’t. We need some vege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，我们没有。我们需要一些蔬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832097~1"/>
          <p:cNvPicPr/>
          <p:nvPr/>
        </p:nvPicPr>
        <p:blipFill>
          <a:blip r:embed="rId1"/>
          <a:srcRect l="0" t="0" r="0" b="6469"/>
          <a:stretch/>
        </p:blipFill>
        <p:spPr>
          <a:xfrm>
            <a:off x="2362320" y="0"/>
            <a:ext cx="510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QQ图片20140913174045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3962520"/>
            <a:ext cx="914400" cy="5205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很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486400" y="1447920"/>
            <a:ext cx="274320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也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685800"/>
            <a:ext cx="6629400" cy="5205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果和托尼、珍妮在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0" y="2666880"/>
            <a:ext cx="3048120" cy="5205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时候吃午饭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696080" y="4203720"/>
            <a:ext cx="144792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我们一起做我们自己的午餐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272280" y="577224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豆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tofu"/>
          <p:cNvPicPr/>
          <p:nvPr/>
        </p:nvPicPr>
        <p:blipFill>
          <a:blip r:embed="rId1"/>
          <a:stretch/>
        </p:blipFill>
        <p:spPr>
          <a:xfrm>
            <a:off x="0" y="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[N~]0X07KC2$8OPUF0TZ8_X"/>
          <p:cNvPicPr/>
          <p:nvPr/>
        </p:nvPicPr>
        <p:blipFill>
          <a:blip r:embed="rId2"/>
          <a:stretch/>
        </p:blipFill>
        <p:spPr>
          <a:xfrm>
            <a:off x="1447920" y="4495680"/>
            <a:ext cx="4114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914400" y="373392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we need any tof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需要一些豆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28600" y="51814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o. We need some tof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的，我们需要。我们需要一些豆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053003~1"/>
          <p:cNvPicPr/>
          <p:nvPr/>
        </p:nvPicPr>
        <p:blipFill>
          <a:blip r:embed="rId1"/>
          <a:stretch/>
        </p:blipFill>
        <p:spPr>
          <a:xfrm>
            <a:off x="2133720" y="533520"/>
            <a:ext cx="510516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553080" y="52578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QQ图片20130908112130"/>
          <p:cNvPicPr/>
          <p:nvPr/>
        </p:nvPicPr>
        <p:blipFill>
          <a:blip r:embed="rId1"/>
          <a:stretch/>
        </p:blipFill>
        <p:spPr>
          <a:xfrm>
            <a:off x="2209680" y="4191120"/>
            <a:ext cx="4496040" cy="266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ruit"/>
          <p:cNvPicPr/>
          <p:nvPr/>
        </p:nvPicPr>
        <p:blipFill>
          <a:blip r:embed="rId2"/>
          <a:stretch/>
        </p:blipFill>
        <p:spPr>
          <a:xfrm>
            <a:off x="1981080" y="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QQ图片20140913174110"/>
          <p:cNvPicPr/>
          <p:nvPr/>
        </p:nvPicPr>
        <p:blipFill>
          <a:blip r:embed="rId1"/>
          <a:srcRect l="2563" t="0" r="0" b="44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80880" y="1066680"/>
            <a:ext cx="312444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需要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5257800"/>
            <a:ext cx="472428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需要一些米饭和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QQ图片20140913174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105520" y="4572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有一些水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676520" y="5791320"/>
            <a:ext cx="31240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，我们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YM`VE[W@[59AAWH(P7G1P~H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0" y="0"/>
            <a:ext cx="320040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的。   我们需要一些米饭，肉和水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00400" y="5181480"/>
            <a:ext cx="396252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也需要一些蔬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6CVXC~~NZ%)SZPX6J7PR7R1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838080" y="0"/>
            <a:ext cx="784872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果果，我们可以去哪里买到所有的食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X5{%%H9`774Z2$(IPM$9%IK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304920" y="1371600"/>
            <a:ext cx="3124080" cy="1818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里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起走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590920" y="5029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哇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886200" y="4724280"/>
            <a:ext cx="2057400" cy="52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不起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28600" y="152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QQ图片20130908111953"/>
          <p:cNvPicPr/>
          <p:nvPr/>
        </p:nvPicPr>
        <p:blipFill>
          <a:blip r:embed="rId1"/>
          <a:stretch/>
        </p:blipFill>
        <p:spPr>
          <a:xfrm>
            <a:off x="2590920" y="4676760"/>
            <a:ext cx="3733560" cy="2181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6553080" y="52578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果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juice"/>
          <p:cNvPicPr/>
          <p:nvPr/>
        </p:nvPicPr>
        <p:blipFill>
          <a:blip r:embed="rId2"/>
          <a:stretch/>
        </p:blipFill>
        <p:spPr>
          <a:xfrm>
            <a:off x="3276720" y="38088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278600~1"/>
          <p:cNvPicPr/>
          <p:nvPr/>
        </p:nvPicPr>
        <p:blipFill>
          <a:blip r:embed="rId1"/>
          <a:srcRect l="0" t="0" r="0" b="4252"/>
          <a:stretch/>
        </p:blipFill>
        <p:spPr>
          <a:xfrm>
            <a:off x="1447920" y="0"/>
            <a:ext cx="6248160" cy="3429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2209680" y="3809880"/>
            <a:ext cx="4953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209680" y="539280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have some ju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有一些果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01:03:07Z</dcterms:created>
  <dc:creator/>
  <dc:description/>
  <dc:language>en-US</dc:language>
  <cp:lastModifiedBy/>
  <dcterms:modified xsi:type="dcterms:W3CDTF">2016-12-29T01:41:38Z</dcterms:modified>
  <cp:revision>1</cp:revision>
  <dc:subject/>
  <dc:title/>
</cp:coreProperties>
</file>