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camera.wav" ContentType="audio/x-wav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7D5A-C964-49E6-B7EA-34E5BA86D6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CE8-CAF8-4FC8-ADBE-55865A8075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CFA-0C22-48D2-A177-616FB5F7F3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129A-A155-44F2-ACA9-94C0D34F04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1AAE-FA77-449D-82AA-60C1887EA9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580C-AAB5-46BF-91FB-91BDDD520E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360-7527-4CD6-B4DC-96BBC734BC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AB9-409E-4347-970F-935AB1D910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73C4-AE42-43E9-8D3C-D3DC8B094D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3B8-4898-478B-B081-230CECA253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8ACD-ADE4-49F2-837C-3C443FA020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B01-EA52-4BBF-8DEB-6D2A99F366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DFE4-8610-424F-99E2-6766F77F43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C8AF-C708-473E-86A6-9EA829C33E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3300-A437-4328-AFCE-F7CE02AF4C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E6B-3758-4719-B1A7-32F2E514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1D0-B030-4C70-8A1A-0D47E62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D37-901A-4A99-9873-7DA0E6E4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553-F4B1-4064-A52B-B1538215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2AD-A6F4-4DCC-9D96-E8B43941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85B-D31E-414F-9575-85E9B938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260-9827-43E7-A894-C7C3E1C3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B38-3753-4066-AD6A-BFE1614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4BD-1757-438F-9BA8-F719B65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3F1-5142-495C-939A-9DD1645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A7B-E671-4E68-A324-0DC6F94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4A9-FB5A-47AE-A53B-C434F6E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499-B404-4619-88CB-FE2721F31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004~1"/>
          <p:cNvPicPr/>
          <p:nvPr/>
        </p:nvPicPr>
        <p:blipFill>
          <a:blip r:embed="rId1"/>
          <a:srcRect l="0" t="0" r="0" b="77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895480" y="914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it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 rot="272400">
            <a:off x="1752120" y="1218960"/>
            <a:ext cx="64771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School Lun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62520" y="52578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校午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``FWSLE[%S5578W9_U5K5U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`D4BRKBRMT[6)UX`8(4$TO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W`ZQA$YX9%_OX]1HVYBD)(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BEY60D@~DV(V3O9B@ZCSO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[L11]{67A%W2[U))[OYUEQ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143000" y="36576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we need any fr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需要一些水果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U_6807~1"/>
          <p:cNvPicPr/>
          <p:nvPr/>
        </p:nvPicPr>
        <p:blipFill>
          <a:blip r:embed="rId1"/>
          <a:stretch/>
        </p:blipFill>
        <p:spPr>
          <a:xfrm>
            <a:off x="1600200" y="0"/>
            <a:ext cx="632448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228600" y="51814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o. We need some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的，我们需要。我们需要一些水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SNEE]G)[D0$4YCFNX{U3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05740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0" y="3124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YA{8(0W9RZ25G]3ZN[_RJD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343400" y="609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4191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，我们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5029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需要一些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72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EO{J2A$Z`QMYS03UFY])MR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5880" y="1828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需要一些豆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8600" y="4191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的，我们需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C1PISB4M{~DV(ZOT@9L(LU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Z}]S9AW%X1ZDGEH$}`[4%QK"/>
          <p:cNvPicPr/>
          <p:nvPr/>
        </p:nvPicPr>
        <p:blipFill>
          <a:blip r:embed="rId2"/>
          <a:stretch/>
        </p:blipFill>
        <p:spPr>
          <a:xfrm>
            <a:off x="4114800" y="3124080"/>
            <a:ext cx="343080" cy="37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Z}]S9AW%X1ZDGEH$}`[4%QK"/>
          <p:cNvPicPr/>
          <p:nvPr/>
        </p:nvPicPr>
        <p:blipFill>
          <a:blip r:embed="rId3"/>
          <a:stretch/>
        </p:blipFill>
        <p:spPr>
          <a:xfrm>
            <a:off x="6324480" y="2057400"/>
            <a:ext cx="343080" cy="37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Z}]S9AW%X1ZDGEH$}`[4%QK"/>
          <p:cNvPicPr/>
          <p:nvPr/>
        </p:nvPicPr>
        <p:blipFill>
          <a:blip r:embed="rId4"/>
          <a:stretch/>
        </p:blipFill>
        <p:spPr>
          <a:xfrm>
            <a:off x="4114800" y="5900760"/>
            <a:ext cx="34308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Z}]S9AW%X1ZDGEH$}`[4%QK"/>
          <p:cNvPicPr/>
          <p:nvPr/>
        </p:nvPicPr>
        <p:blipFill>
          <a:blip r:embed="rId5"/>
          <a:stretch/>
        </p:blipFill>
        <p:spPr>
          <a:xfrm>
            <a:off x="8305920" y="4876920"/>
            <a:ext cx="3427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RGMF{Y_%H(B3M0O5@[KAX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43000" y="4427640"/>
            <a:ext cx="2362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U6WFXNM7OFDM0]8SIEUS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@~~]AOIV(SL}Q[XZ6F26(U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09480" y="4952880"/>
            <a:ext cx="266724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4876920"/>
            <a:ext cx="26668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03:07Z</dcterms:created>
  <dc:creator/>
  <dc:description/>
  <dc:language>en-US</dc:language>
  <cp:lastModifiedBy/>
  <dcterms:modified xsi:type="dcterms:W3CDTF">2016-12-29T01:43:07Z</dcterms:modified>
  <cp:revision>1</cp:revision>
  <dc:subject/>
  <dc:title/>
</cp:coreProperties>
</file>